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7DC-1F0A-4BD5-92D9-5DEAF1C7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C78-1FDD-49A8-B22A-E02A4ADD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7399-62B4-4D1C-8D61-2BAEC4DF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BC3A-869C-4690-A10C-99C583A1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218E-45F6-41D3-A3CA-5AC4E4B4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85CB-AD86-4BB4-A6DB-8B9FD070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30B7-5935-4AA1-9BCC-0115E811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AA7F-3146-4E00-A49E-840033AC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0012-82CD-4E2E-895C-B4A64B28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957E-7A32-4785-8E1F-3CE1DCF5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5B93-EDDA-4668-804A-DA08B3F0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380-2411-41B3-8B8F-BEF63CBF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AF71-4CAF-479B-989E-7C57DE8C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5CEE-59D1-4982-A014-A11700EE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83D7-1055-4437-9FF3-EC611C8B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E225-FD7B-4EEB-A524-2BADA87F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88E6-1B30-4FAC-A5CF-3BA947BE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C44F9-9639-4458-826D-2D6EF6D0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3D04B-103D-4E34-A66C-0D78D8D2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6E03E-6B88-45BF-BEFC-0CF8CD93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E76F4-23FA-4CC8-A49C-4A3E5970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DC088-4A2F-4267-9A79-04B6D3AC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C3A-A6BF-4464-A96F-032D6E72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BC742-9FB9-40FF-BFBA-9BFDAB21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096B3-9B74-4B00-8956-C6D3846A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EF66A-6619-443F-85A1-0C648BC0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93CF8-66BD-42D6-BB2F-300C8C4F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8E5CD-0B75-4084-ABEC-734D47A8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B4AD3-A383-401E-A29A-DF751DD9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817F9-2B32-457C-8499-3EC89CC2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1982E-7C94-493E-986B-6C3041A1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502FE-B54F-4F7C-92C6-95507993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C7A4C-C9D2-478D-910A-B380B11A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F07-1B3F-47CF-9625-1B6B5CF8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08950-4A0D-4515-88F6-E42FBDCA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A58E4-BD12-41B2-8BCD-668C11DE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430B4-3264-452E-8E6F-883C1F64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7B03D-7F46-44C1-A4F8-AC33C2FB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EAF7F-5E6E-47A4-B689-23876C1B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B6F1E-BA93-4AAA-BB82-29513070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3DFD4-8EDE-4768-A028-1ADF4A43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DE2EF-5446-4146-93B6-98069EBA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B00A3-6DC4-47DD-B626-C52D5879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D5D-066E-4B62-A3A6-EC248A6A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5B4-B16B-45EA-A281-D0ECC779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58C-1515-46BE-B134-5FD56829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B64-D5CB-4CC6-A0BE-481A286E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DD0-D2C7-4535-B198-6C89D7FE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A626-C29B-4C68-9F2D-ED430367C2C1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E956-7C44-4703-A20F-A75E092C1B2E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4A2A-9234-485F-8A42-271CC69691A4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3B1A-FB3A-4CFC-BDBE-0422BDD1943B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5FE9-D0D6-4C9B-871F-C7AA2D281FD2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A947-20CB-49DC-93B7-6A5B398C0EBD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4ED9-BDA8-48B9-80FE-3B7C4C33B2D2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771D-DEFC-4F8E-958C-8E7F0DBF6BFF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68360" y="1700280"/>
          <a:ext cx="8442360" cy="515124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. 7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8" name="Zástupný symbol pro číslo snímku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8E30-77C5-4656-BFA6-E1A9314DF47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ro dokreslení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Zemi 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2,4 x 10</a:t>
            </a:r>
            <a:r>
              <a:rPr b="0" lang="cs-CZ" sz="2600" spc="-1" strike="noStrike" baseline="30000">
                <a:solidFill>
                  <a:srgbClr val="009dd9"/>
                </a:solidFill>
                <a:latin typeface="Verdana"/>
              </a:rPr>
              <a:t>12 </a:t>
            </a: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t sušiny je tvořeno rostlinami na souši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1,7 x 10</a:t>
            </a:r>
            <a:r>
              <a:rPr b="0" lang="cs-CZ" sz="2600" spc="-1" strike="noStrike" baseline="30000">
                <a:solidFill>
                  <a:srgbClr val="009dd9"/>
                </a:solidFill>
                <a:latin typeface="Verdana"/>
              </a:rPr>
              <a:t>8</a:t>
            </a: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 t je tvořeno rostlinami v oceánech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nejvíce rostlinné biomasy je v </a:t>
            </a:r>
            <a:r>
              <a:rPr b="0" lang="cs-CZ" sz="2600" spc="-1" strike="noStrike" u="sng">
                <a:solidFill>
                  <a:srgbClr val="009dd9"/>
                </a:solidFill>
                <a:uFillTx/>
                <a:latin typeface="Verdana"/>
              </a:rPr>
              <a:t>lesích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největší primární produkci souše dosahují tropické lesy Střední Ameriky, Střední Afriky a jižní Asie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326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BF0A-CB44-49B9-9FB7-042C780C4725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KONZUMENTI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6836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eterotrofní organis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í se organickou hmot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KONZUMENT 1. ŘÁDU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Doplň.......................</a:t>
            </a: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KONZUMENT 2. ŘÁDU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Doplň......................</a:t>
            </a: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KONZUMENT 3. ŘÁDU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Doplň......................</a:t>
            </a: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</p:txBody>
      </p:sp>
      <p:sp>
        <p:nvSpPr>
          <p:cNvPr id="329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0BC1-63E0-4A2E-A908-CCF9558F3870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ravá složená závorka 4"/>
          <p:cNvSpPr/>
          <p:nvPr/>
        </p:nvSpPr>
        <p:spPr>
          <a:xfrm>
            <a:off x="6443640" y="2708280"/>
            <a:ext cx="1224000" cy="2881440"/>
          </a:xfrm>
          <a:custGeom>
            <a:avLst/>
            <a:gdLst>
              <a:gd name="textAreaLeft" fmla="*/ 0 w 1224000"/>
              <a:gd name="textAreaRight" fmla="*/ 442080 w 1224000"/>
              <a:gd name="textAreaTop" fmla="*/ 31680 h 2881440"/>
              <a:gd name="textAreaBottom" fmla="*/ 284976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3"/>
                  <a:pt x="10800" y="765"/>
                </a:cubicBezTo>
                <a:lnTo>
                  <a:pt x="10800" y="10035"/>
                </a:lnTo>
                <a:cubicBezTo>
                  <a:pt x="10800" y="10418"/>
                  <a:pt x="16200" y="10800"/>
                  <a:pt x="21600" y="10800"/>
                </a:cubicBezTo>
                <a:cubicBezTo>
                  <a:pt x="16200" y="10800"/>
                  <a:pt x="10800" y="11183"/>
                  <a:pt x="10800" y="11565"/>
                </a:cubicBezTo>
                <a:lnTo>
                  <a:pt x="10800" y="20835"/>
                </a:lnTo>
                <a:cubicBezTo>
                  <a:pt x="10800" y="21218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ovéPole 5"/>
          <p:cNvSpPr/>
          <p:nvPr/>
        </p:nvSpPr>
        <p:spPr>
          <a:xfrm>
            <a:off x="7717320" y="2935440"/>
            <a:ext cx="485280" cy="2864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kundární produc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7596360" y="836640"/>
            <a:ext cx="669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KONZUMENTI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836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eterotrofní organis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í se organickou hmot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KONZUMENT 1. ŘÁDU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Doplň...</a:t>
            </a:r>
            <a:r>
              <a:rPr b="0" lang="cs-CZ" sz="2200" spc="-1" strike="noStrike">
                <a:solidFill>
                  <a:srgbClr val="ff0000"/>
                </a:solidFill>
                <a:latin typeface="Verdana"/>
              </a:rPr>
              <a:t>králík, housenka</a:t>
            </a: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,.....</a:t>
            </a: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KONZUMENT 2. ŘÁDU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Doplň...</a:t>
            </a:r>
            <a:r>
              <a:rPr b="0" lang="cs-CZ" sz="2200" spc="-1" strike="noStrike">
                <a:solidFill>
                  <a:srgbClr val="ff0000"/>
                </a:solidFill>
                <a:latin typeface="Verdana"/>
              </a:rPr>
              <a:t>dravá ryba, sýkora</a:t>
            </a: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,........</a:t>
            </a: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KONZUMENT 3. ŘÁDU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Doplň..</a:t>
            </a:r>
            <a:r>
              <a:rPr b="0" lang="cs-CZ" sz="2200" spc="-1" strike="noStrike">
                <a:solidFill>
                  <a:srgbClr val="ff0000"/>
                </a:solidFill>
                <a:latin typeface="Verdana"/>
              </a:rPr>
              <a:t>krahujec, vlk</a:t>
            </a: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, .................</a:t>
            </a: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D005-3C57-4DF3-B8B9-A5CA4461A069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ravá složená závorka 4"/>
          <p:cNvSpPr/>
          <p:nvPr/>
        </p:nvSpPr>
        <p:spPr>
          <a:xfrm>
            <a:off x="6443640" y="2708280"/>
            <a:ext cx="1224000" cy="2881440"/>
          </a:xfrm>
          <a:custGeom>
            <a:avLst/>
            <a:gdLst>
              <a:gd name="textAreaLeft" fmla="*/ 0 w 1224000"/>
              <a:gd name="textAreaRight" fmla="*/ 442080 w 1224000"/>
              <a:gd name="textAreaTop" fmla="*/ 31680 h 2881440"/>
              <a:gd name="textAreaBottom" fmla="*/ 284976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3"/>
                  <a:pt x="10800" y="765"/>
                </a:cubicBezTo>
                <a:lnTo>
                  <a:pt x="10800" y="10035"/>
                </a:lnTo>
                <a:cubicBezTo>
                  <a:pt x="10800" y="10418"/>
                  <a:pt x="16200" y="10800"/>
                  <a:pt x="21600" y="10800"/>
                </a:cubicBezTo>
                <a:cubicBezTo>
                  <a:pt x="16200" y="10800"/>
                  <a:pt x="10800" y="11183"/>
                  <a:pt x="10800" y="11565"/>
                </a:cubicBezTo>
                <a:lnTo>
                  <a:pt x="10800" y="20835"/>
                </a:lnTo>
                <a:cubicBezTo>
                  <a:pt x="10800" y="21218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ovéPole 5"/>
          <p:cNvSpPr/>
          <p:nvPr/>
        </p:nvSpPr>
        <p:spPr>
          <a:xfrm>
            <a:off x="7717320" y="2935440"/>
            <a:ext cx="485280" cy="2864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kundární produc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7596360" y="836640"/>
            <a:ext cx="669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Verdana"/>
              </a:rPr>
              <a:t>DEKOMPOZITOŘI = REDUCENTI</a:t>
            </a:r>
            <a:endParaRPr b="0" lang="en-US" sz="36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í se mrtvou a odpadní organickou hmoto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HUMIFIKACE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MINERALIZACE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8BBB-486F-4454-A382-E8272A61419C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9" descr="C:\Users\Admin\AppData\Local\Microsoft\Windows\Temporary Internet Files\Content.IE5\2AT3ADVM\MC900282200[1].wmf"/>
          <p:cNvPicPr/>
          <p:nvPr/>
        </p:nvPicPr>
        <p:blipFill>
          <a:blip r:embed="rId1"/>
          <a:stretch/>
        </p:blipFill>
        <p:spPr>
          <a:xfrm>
            <a:off x="4140360" y="3213000"/>
            <a:ext cx="1008000" cy="1122480"/>
          </a:xfrm>
          <a:prstGeom prst="rect">
            <a:avLst/>
          </a:prstGeom>
          <a:ln w="0">
            <a:noFill/>
          </a:ln>
        </p:spPr>
      </p:pic>
      <p:sp>
        <p:nvSpPr>
          <p:cNvPr id="343" name="TextovéPole 5"/>
          <p:cNvSpPr/>
          <p:nvPr/>
        </p:nvSpPr>
        <p:spPr>
          <a:xfrm>
            <a:off x="5508720" y="314172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i  na internetu význam těchto pojmů a zapiš si jej do seši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OTRAVNÍ ŘETĚZEC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ztah a propojení mezi organism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ezentuje vzájemné ENERGETICKO-POTRAVNÍ VZTAH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VA ZÁKLADNÍ TYP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PASTEVNĚ KOŘISTNICKÝ</a:t>
            </a: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DEKOMPOZIČNÍ (ROZKLADNÝ)</a:t>
            </a: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B674-D9C7-44ED-ADAF-98CFE1EF75E4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C:\Users\Admin\AppData\Local\Microsoft\Windows\Temporary Internet Files\Content.IE5\2AT3ADVM\MC900293362[1].wmf"/>
          <p:cNvPicPr/>
          <p:nvPr/>
        </p:nvPicPr>
        <p:blipFill>
          <a:blip r:embed="rId1"/>
          <a:stretch/>
        </p:blipFill>
        <p:spPr>
          <a:xfrm>
            <a:off x="539640" y="4941720"/>
            <a:ext cx="1154160" cy="1186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C:\Users\Admin\AppData\Local\Microsoft\Windows\Temporary Internet Files\Content.IE5\1P113SDY\MC900329658[1].wmf"/>
          <p:cNvPicPr/>
          <p:nvPr/>
        </p:nvPicPr>
        <p:blipFill>
          <a:blip r:embed="rId2"/>
          <a:stretch/>
        </p:blipFill>
        <p:spPr>
          <a:xfrm>
            <a:off x="1979640" y="5950080"/>
            <a:ext cx="1386000" cy="658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C:\Users\Admin\AppData\Local\Microsoft\Windows\Temporary Internet Files\Content.IE5\YK6I8EG1\MC900330240[1].wmf"/>
          <p:cNvPicPr/>
          <p:nvPr/>
        </p:nvPicPr>
        <p:blipFill>
          <a:blip r:embed="rId3"/>
          <a:stretch/>
        </p:blipFill>
        <p:spPr>
          <a:xfrm>
            <a:off x="3276720" y="4724280"/>
            <a:ext cx="993600" cy="1009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C:\Users\Admin\AppData\Local\Microsoft\Windows\Temporary Internet Files\Content.IE5\7V399T9K\MC900329488[1].wmf"/>
          <p:cNvPicPr/>
          <p:nvPr/>
        </p:nvPicPr>
        <p:blipFill>
          <a:blip r:embed="rId4"/>
          <a:stretch/>
        </p:blipFill>
        <p:spPr>
          <a:xfrm>
            <a:off x="2195640" y="4437000"/>
            <a:ext cx="855360" cy="6555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C:\Users\Admin\AppData\Local\Microsoft\Windows\Temporary Internet Files\Content.IE5\2AT3ADVM\MC900329496[1].wmf"/>
          <p:cNvPicPr/>
          <p:nvPr/>
        </p:nvPicPr>
        <p:blipFill>
          <a:blip r:embed="rId5"/>
          <a:stretch/>
        </p:blipFill>
        <p:spPr>
          <a:xfrm>
            <a:off x="4859280" y="4365720"/>
            <a:ext cx="936720" cy="10666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C:\Users\Admin\AppData\Local\Microsoft\Windows\Temporary Internet Files\Content.IE5\YK6I8EG1\MC900325574[1].wmf"/>
          <p:cNvPicPr/>
          <p:nvPr/>
        </p:nvPicPr>
        <p:blipFill>
          <a:blip r:embed="rId6"/>
          <a:stretch/>
        </p:blipFill>
        <p:spPr>
          <a:xfrm>
            <a:off x="5364000" y="5084640"/>
            <a:ext cx="1830600" cy="1360440"/>
          </a:xfrm>
          <a:prstGeom prst="rect">
            <a:avLst/>
          </a:prstGeom>
          <a:ln w="0">
            <a:noFill/>
          </a:ln>
        </p:spPr>
      </p:pic>
      <p:sp>
        <p:nvSpPr>
          <p:cNvPr id="353" name="TextovéPole 12"/>
          <p:cNvSpPr/>
          <p:nvPr/>
        </p:nvSpPr>
        <p:spPr>
          <a:xfrm>
            <a:off x="6659640" y="39337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stav pastevně kořistnický řetěz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C:\Users\Admin\AppData\Local\Microsoft\Windows\Temporary Internet Files\Content.IE5\7V399T9K\MC900052616[1].wmf"/>
          <p:cNvPicPr/>
          <p:nvPr/>
        </p:nvPicPr>
        <p:blipFill>
          <a:blip r:embed="rId7"/>
          <a:stretch/>
        </p:blipFill>
        <p:spPr>
          <a:xfrm>
            <a:off x="7380360" y="5445000"/>
            <a:ext cx="95256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OTRAVNÍ ŘETĚZEC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95280" y="155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PASTEVNĚ KOŘISTNICKÝ ŘETĚZEC</a:t>
            </a: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</p:txBody>
      </p:sp>
      <p:sp>
        <p:nvSpPr>
          <p:cNvPr id="357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8605-4156-4552-B994-E132806E67C7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C:\Users\Admin\AppData\Local\Microsoft\Windows\Temporary Internet Files\Content.IE5\2AT3ADVM\MC900293362[1].wmf"/>
          <p:cNvPicPr/>
          <p:nvPr/>
        </p:nvPicPr>
        <p:blipFill>
          <a:blip r:embed="rId1"/>
          <a:stretch/>
        </p:blipFill>
        <p:spPr>
          <a:xfrm>
            <a:off x="468360" y="3500280"/>
            <a:ext cx="1154160" cy="1187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C:\Users\Admin\AppData\Local\Microsoft\Windows\Temporary Internet Files\Content.IE5\1P113SDY\MC900329658[1].wmf"/>
          <p:cNvPicPr/>
          <p:nvPr/>
        </p:nvPicPr>
        <p:blipFill>
          <a:blip r:embed="rId2"/>
          <a:stretch/>
        </p:blipFill>
        <p:spPr>
          <a:xfrm>
            <a:off x="2268360" y="5300640"/>
            <a:ext cx="1386000" cy="660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C:\Users\Admin\AppData\Local\Microsoft\Windows\Temporary Internet Files\Content.IE5\YK6I8EG1\MC900330240[1].wmf"/>
          <p:cNvPicPr/>
          <p:nvPr/>
        </p:nvPicPr>
        <p:blipFill>
          <a:blip r:embed="rId3"/>
          <a:stretch/>
        </p:blipFill>
        <p:spPr>
          <a:xfrm>
            <a:off x="2700360" y="36450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C:\Users\Admin\AppData\Local\Microsoft\Windows\Temporary Internet Files\Content.IE5\7V399T9K\MC900329488[1].wmf"/>
          <p:cNvPicPr/>
          <p:nvPr/>
        </p:nvPicPr>
        <p:blipFill>
          <a:blip r:embed="rId4"/>
          <a:stretch/>
        </p:blipFill>
        <p:spPr>
          <a:xfrm>
            <a:off x="2050920" y="2637000"/>
            <a:ext cx="855720" cy="655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C:\Users\Admin\AppData\Local\Microsoft\Windows\Temporary Internet Files\Content.IE5\2AT3ADVM\MC900329496[1].wmf"/>
          <p:cNvPicPr/>
          <p:nvPr/>
        </p:nvPicPr>
        <p:blipFill>
          <a:blip r:embed="rId5"/>
          <a:stretch/>
        </p:blipFill>
        <p:spPr>
          <a:xfrm>
            <a:off x="6948360" y="2492280"/>
            <a:ext cx="936720" cy="10684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C:\Users\Admin\AppData\Local\Microsoft\Windows\Temporary Internet Files\Content.IE5\YK6I8EG1\MC900325574[1].wmf"/>
          <p:cNvPicPr/>
          <p:nvPr/>
        </p:nvPicPr>
        <p:blipFill>
          <a:blip r:embed="rId6"/>
          <a:stretch/>
        </p:blipFill>
        <p:spPr>
          <a:xfrm>
            <a:off x="5003640" y="4365720"/>
            <a:ext cx="1830600" cy="1360440"/>
          </a:xfrm>
          <a:prstGeom prst="rect">
            <a:avLst/>
          </a:prstGeom>
          <a:ln w="0">
            <a:noFill/>
          </a:ln>
        </p:spPr>
      </p:pic>
      <p:cxnSp>
        <p:nvCxnSpPr>
          <p:cNvPr id="364" name="Přímá spojovací šipka 13"/>
          <p:cNvCxnSpPr/>
          <p:nvPr/>
        </p:nvCxnSpPr>
        <p:spPr>
          <a:xfrm>
            <a:off x="1692000" y="4581000"/>
            <a:ext cx="864360" cy="577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65" name="Přímá spojovací šipka 15"/>
          <p:cNvCxnSpPr/>
          <p:nvPr/>
        </p:nvCxnSpPr>
        <p:spPr>
          <a:xfrm>
            <a:off x="1834920" y="4220640"/>
            <a:ext cx="649800" cy="1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66" name="Přímá spojovací šipka 17"/>
          <p:cNvCxnSpPr/>
          <p:nvPr/>
        </p:nvCxnSpPr>
        <p:spPr>
          <a:xfrm flipV="1">
            <a:off x="1547640" y="3357000"/>
            <a:ext cx="504000" cy="50364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67" name="Přímá spojovací šipka 19"/>
          <p:cNvCxnSpPr/>
          <p:nvPr/>
        </p:nvCxnSpPr>
        <p:spPr>
          <a:xfrm flipV="1">
            <a:off x="3708360" y="5157360"/>
            <a:ext cx="1440360" cy="28800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68" name="Přímá spojovací šipka 22"/>
          <p:cNvCxnSpPr/>
          <p:nvPr/>
        </p:nvCxnSpPr>
        <p:spPr>
          <a:xfrm flipV="1">
            <a:off x="6084720" y="3499920"/>
            <a:ext cx="936000" cy="86616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69" name="Přímá spojovací šipka 25"/>
          <p:cNvCxnSpPr/>
          <p:nvPr/>
        </p:nvCxnSpPr>
        <p:spPr>
          <a:xfrm flipV="1">
            <a:off x="3851280" y="3357000"/>
            <a:ext cx="2882160" cy="64836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pic>
        <p:nvPicPr>
          <p:cNvPr id="370" name="Picture 2" descr="C:\Users\Admin\AppData\Local\Microsoft\Windows\Temporary Internet Files\Content.IE5\7V399T9K\MC900052616[1].wmf"/>
          <p:cNvPicPr/>
          <p:nvPr/>
        </p:nvPicPr>
        <p:blipFill>
          <a:blip r:embed="rId7"/>
          <a:stretch/>
        </p:blipFill>
        <p:spPr>
          <a:xfrm>
            <a:off x="4500720" y="2492280"/>
            <a:ext cx="952200" cy="874800"/>
          </a:xfrm>
          <a:prstGeom prst="rect">
            <a:avLst/>
          </a:prstGeom>
          <a:ln w="0">
            <a:noFill/>
          </a:ln>
        </p:spPr>
      </p:pic>
      <p:cxnSp>
        <p:nvCxnSpPr>
          <p:cNvPr id="371" name="Přímá spojovací šipka 29"/>
          <p:cNvCxnSpPr/>
          <p:nvPr/>
        </p:nvCxnSpPr>
        <p:spPr>
          <a:xfrm>
            <a:off x="3058920" y="2781360"/>
            <a:ext cx="1152720" cy="7200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72" name="Přímá spojovací šipka 31"/>
          <p:cNvCxnSpPr/>
          <p:nvPr/>
        </p:nvCxnSpPr>
        <p:spPr>
          <a:xfrm>
            <a:off x="5580000" y="2708280"/>
            <a:ext cx="1224720" cy="21672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OTRAVNÍ PYRAMIDA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528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ojení všech potravních řetězc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ok energie je jednosměrný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062B-EEEE-4B04-8607-D9CE75B32BF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Diagram 4" descr=""/>
          <p:cNvPicPr/>
          <p:nvPr/>
        </p:nvPicPr>
        <p:blipFill>
          <a:blip r:embed="rId1"/>
          <a:stretch/>
        </p:blipFill>
        <p:spPr>
          <a:xfrm>
            <a:off x="1603440" y="2548080"/>
            <a:ext cx="6321240" cy="4097160"/>
          </a:xfrm>
          <a:prstGeom prst="rect">
            <a:avLst/>
          </a:prstGeom>
          <a:ln w="0">
            <a:noFill/>
          </a:ln>
        </p:spPr>
      </p:pic>
      <p:sp>
        <p:nvSpPr>
          <p:cNvPr id="377" name="TextovéPole 5"/>
          <p:cNvSpPr/>
          <p:nvPr/>
        </p:nvSpPr>
        <p:spPr>
          <a:xfrm>
            <a:off x="406800" y="3068640"/>
            <a:ext cx="3125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lň do pyramidy pojm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organická přír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sožrav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ýložrav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elené rostl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raz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yprofy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7596360" y="907920"/>
            <a:ext cx="6696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OTRAVNÍ PYRAMIDA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528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ojení všech potravních řetězc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ok energie je jednosměrný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A5D0-0A5A-47E0-9045-8182DDE46C0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Diagram 4" descr=""/>
          <p:cNvPicPr/>
          <p:nvPr/>
        </p:nvPicPr>
        <p:blipFill>
          <a:blip r:embed="rId1"/>
          <a:stretch/>
        </p:blipFill>
        <p:spPr>
          <a:xfrm>
            <a:off x="1603440" y="2548080"/>
            <a:ext cx="6321240" cy="4097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7596360" y="907920"/>
            <a:ext cx="669600" cy="1513080"/>
          </a:xfrm>
          <a:prstGeom prst="rect">
            <a:avLst/>
          </a:prstGeom>
          <a:ln w="0">
            <a:noFill/>
          </a:ln>
        </p:spPr>
      </p:pic>
      <p:sp>
        <p:nvSpPr>
          <p:cNvPr id="384" name="TextovéPole 7"/>
          <p:cNvSpPr/>
          <p:nvPr/>
        </p:nvSpPr>
        <p:spPr>
          <a:xfrm rot="19680000">
            <a:off x="5499360" y="3152160"/>
            <a:ext cx="454680" cy="1441440"/>
          </a:xfrm>
          <a:prstGeom prst="rect">
            <a:avLst/>
          </a:prstGeom>
          <a:solidFill>
            <a:srgbClr val="b0d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az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TextovéPole 8" descr=""/>
          <p:cNvPicPr/>
          <p:nvPr/>
        </p:nvPicPr>
        <p:blipFill>
          <a:blip r:embed="rId3"/>
          <a:stretch/>
        </p:blipFill>
        <p:spPr>
          <a:xfrm>
            <a:off x="3127320" y="3114720"/>
            <a:ext cx="13222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RODUKTIVITA EKOSYSTÉMU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22496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ízk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Pouště, polopouště, tundry, hluboká moře... 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řed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Savany, louky, pastviny...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sok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Lužní lesy, mokřady, tropické pralesy, korálové útesy, šelfy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317C-6B86-4217-B285-E626EA5404C5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7740720" y="3357720"/>
            <a:ext cx="669960" cy="1512720"/>
          </a:xfrm>
          <a:prstGeom prst="rect">
            <a:avLst/>
          </a:prstGeom>
          <a:ln w="0">
            <a:noFill/>
          </a:ln>
        </p:spPr>
      </p:pic>
      <p:sp>
        <p:nvSpPr>
          <p:cNvPr id="390" name="TextovéPole 5"/>
          <p:cNvSpPr/>
          <p:nvPr/>
        </p:nvSpPr>
        <p:spPr>
          <a:xfrm>
            <a:off x="900000" y="56610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větli proč, své zdůvodnění si zapiš do seš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C:\Users\Admin\AppData\Local\Microsoft\Windows\Temporary Internet Files\Content.IE5\F3ID01WC\MC900282178[1].wmf"/>
          <p:cNvPicPr/>
          <p:nvPr/>
        </p:nvPicPr>
        <p:blipFill>
          <a:blip r:embed="rId2"/>
          <a:stretch/>
        </p:blipFill>
        <p:spPr>
          <a:xfrm>
            <a:off x="4500720" y="5589720"/>
            <a:ext cx="7491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95280" y="169992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A14B-9265-42C2-9861-A2C818ED749B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EKOSYSTÉM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4000" y="4436640"/>
            <a:ext cx="727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4617b"/>
                </a:solidFill>
                <a:latin typeface="Verdana"/>
              </a:rPr>
              <a:t>„</a:t>
            </a:r>
            <a:r>
              <a:rPr b="0" i="1" lang="cs-CZ" sz="2100" spc="-1" strike="noStrike">
                <a:solidFill>
                  <a:srgbClr val="04617b"/>
                </a:solidFill>
                <a:latin typeface="Verdana"/>
              </a:rPr>
              <a:t>Velká kniha přírody je psána matematickou řečí. “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1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1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1000" spc="-1" strike="noStrike">
                <a:solidFill>
                  <a:srgbClr val="04617b"/>
                </a:solidFill>
                <a:latin typeface="Verdana"/>
              </a:rPr>
              <a:t>          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(Galileo Galile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16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16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16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16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16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1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1000" spc="-1" strike="noStrike">
                <a:solidFill>
                  <a:srgbClr val="04617b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300" spc="-1" strike="noStrike">
                <a:solidFill>
                  <a:srgbClr val="04617b"/>
                </a:solidFill>
                <a:latin typeface="Verdan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300" spc="-1" strike="noStrike">
                <a:solidFill>
                  <a:srgbClr val="04617b"/>
                </a:solidFill>
                <a:latin typeface="Verdana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pic>
        <p:nvPicPr>
          <p:cNvPr id="222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2771640" y="4941720"/>
            <a:ext cx="503280" cy="711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5580000" y="4869000"/>
            <a:ext cx="351000" cy="792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C:\Users\Admin\AppData\Local\Microsoft\Windows\Temporary Internet Files\Content.IE5\2AT3ADVM\MC900291016[1].wmf"/>
          <p:cNvPicPr/>
          <p:nvPr/>
        </p:nvPicPr>
        <p:blipFill>
          <a:blip r:embed="rId3"/>
          <a:stretch/>
        </p:blipFill>
        <p:spPr>
          <a:xfrm>
            <a:off x="395280" y="5445000"/>
            <a:ext cx="779400" cy="804960"/>
          </a:xfrm>
          <a:prstGeom prst="rect">
            <a:avLst/>
          </a:prstGeom>
          <a:ln w="0">
            <a:noFill/>
          </a:ln>
        </p:spPr>
      </p:pic>
      <p:sp>
        <p:nvSpPr>
          <p:cNvPr id="225" name="Zástupný symbol pro číslo snímku 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3833-F916-47FC-A3C1-C8ED7F6515D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C:\Users\Admin\AppData\Local\Microsoft\Windows\Temporary Internet Files\Content.IE5\2AT3ADVM\MC900282200[1].wmf"/>
          <p:cNvPicPr/>
          <p:nvPr/>
        </p:nvPicPr>
        <p:blipFill>
          <a:blip r:embed="rId4"/>
          <a:stretch/>
        </p:blipFill>
        <p:spPr>
          <a:xfrm>
            <a:off x="3635280" y="5589720"/>
            <a:ext cx="631800" cy="703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79280" y="1052640"/>
            <a:ext cx="8640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095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Materiál je součástí celku EKOLOGIE pro čtvrtý ročník čtyřletého a osmý ročník osmiletého studia. Využívá znalostí žáků z minulých let.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9160" indent="-2095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sociální a personální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9160" indent="-2095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k (případně odpovídající ročníky víceletého studia) – učební osnovy BIOLOGIE – Ekologie, seminář z biologie. Podle výstupů z RVP charakterizuje ekosystém a jeho vývoj. Dle výstupů z RVP uvede příklady potravních řetězců v ekosystém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9160" indent="-2095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Uvědomění probíhá formou frontálního výkladu a vyhledáváním pojmů a vztahů pomocí internetu či samostatnou prací v učebně PC. Materiál lze využít s pomocí PC a dataprojektoru, nutné je připojení na intern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9160" indent="-2095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9160" indent="-2095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:            Zapamatuj si !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Poznamenej si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9160" indent="-209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9160" indent="-209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dívej se na video.         Najdi na internetu.      Odpověz na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otázku.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9160" indent="-2095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8" descr="C:\Users\Admin\AppData\Local\Microsoft\Windows\Temporary Internet Files\Content.IE5\F3ID01WC\MC900282178[1].wmf"/>
          <p:cNvPicPr/>
          <p:nvPr/>
        </p:nvPicPr>
        <p:blipFill>
          <a:blip r:embed="rId5"/>
          <a:stretch/>
        </p:blipFill>
        <p:spPr>
          <a:xfrm>
            <a:off x="6372360" y="5589720"/>
            <a:ext cx="5000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STRUKTURA A FUNKCE EKOSYSTÉMU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kologický systém = ekosysté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ladní funkční jednotka přírod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jvětší ekosystém = BIOSFÉ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KOSYSTÉM SE SKLÁDÁ ZE 4 SLOŽ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Biotop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Producenti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Konzumenti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Dekompozitoři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Verdana"/>
              </a:rPr>
              <a:t>Ekosystém je úplný, pokud obsahuje všechny složky. 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48FF-8F53-4CA9-8A82-DF4DA2482931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7740720" y="1341360"/>
            <a:ext cx="6699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HLAVNÍ STUPNĚ A SLOŽKY EKOSYSTÉMU 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4" name="Zástupný symbol pro číslo snímku 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9B31-E842-4D8F-8128-7757691A6420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aoblený obdélník 4"/>
          <p:cNvSpPr/>
          <p:nvPr/>
        </p:nvSpPr>
        <p:spPr>
          <a:xfrm>
            <a:off x="1763640" y="1773360"/>
            <a:ext cx="1368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fff"/>
              </a:gs>
              <a:gs pos="100000">
                <a:srgbClr val="2effff"/>
              </a:gs>
            </a:gsLst>
            <a:lin ang="5400000"/>
          </a:gradFill>
          <a:ln w="10080">
            <a:solidFill>
              <a:srgbClr val="0bd0d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VĚTLO, 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aoblený obdélník 13"/>
          <p:cNvSpPr/>
          <p:nvPr/>
        </p:nvSpPr>
        <p:spPr>
          <a:xfrm>
            <a:off x="611280" y="5877000"/>
            <a:ext cx="1368360" cy="576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ŽIV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aoblený obdélník 14"/>
          <p:cNvSpPr/>
          <p:nvPr/>
        </p:nvSpPr>
        <p:spPr>
          <a:xfrm>
            <a:off x="539640" y="3284640"/>
            <a:ext cx="1368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e7ff"/>
              </a:gs>
              <a:gs pos="100000">
                <a:srgbClr val="2dbcff"/>
              </a:gs>
            </a:gsLst>
            <a:lin ang="5400000"/>
          </a:gradFill>
          <a:ln w="10080">
            <a:solidFill>
              <a:srgbClr val="009dd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aoblený obdélník 15"/>
          <p:cNvSpPr/>
          <p:nvPr/>
        </p:nvSpPr>
        <p:spPr>
          <a:xfrm>
            <a:off x="6659640" y="2565360"/>
            <a:ext cx="1584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e7ff"/>
              </a:gs>
              <a:gs pos="100000">
                <a:srgbClr val="2dbcff"/>
              </a:gs>
            </a:gsLst>
            <a:lin ang="5400000"/>
          </a:gradFill>
          <a:ln w="10080">
            <a:solidFill>
              <a:srgbClr val="009dd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ARNIVO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aoblený obdélník 16"/>
          <p:cNvSpPr/>
          <p:nvPr/>
        </p:nvSpPr>
        <p:spPr>
          <a:xfrm>
            <a:off x="4643280" y="4149720"/>
            <a:ext cx="172908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fdcf"/>
              </a:gs>
              <a:gs pos="100000">
                <a:srgbClr val="c9f852"/>
              </a:gs>
            </a:gsLst>
            <a:lin ang="5400000"/>
          </a:gradFill>
          <a:ln w="10080">
            <a:solidFill>
              <a:srgbClr val="a5c24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KLÍZE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aoblený obdélník 17"/>
          <p:cNvSpPr/>
          <p:nvPr/>
        </p:nvSpPr>
        <p:spPr>
          <a:xfrm>
            <a:off x="4643280" y="3357720"/>
            <a:ext cx="1657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5400000"/>
          </a:gradFill>
          <a:ln w="10080">
            <a:solidFill>
              <a:srgbClr val="0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ARAZ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Zaoblený obdélník 18"/>
          <p:cNvGrpSpPr/>
          <p:nvPr/>
        </p:nvGrpSpPr>
        <p:grpSpPr>
          <a:xfrm>
            <a:off x="4529160" y="2517840"/>
            <a:ext cx="1878120" cy="768240"/>
            <a:chOff x="4529160" y="2517840"/>
            <a:chExt cx="1878120" cy="768240"/>
          </a:xfrm>
        </p:grpSpPr>
        <p:pic>
          <p:nvPicPr>
            <p:cNvPr id="242" name="Zaoblený obdélník 18" descr=""/>
            <p:cNvPicPr/>
            <p:nvPr/>
          </p:nvPicPr>
          <p:blipFill>
            <a:blip r:embed="rId1"/>
            <a:stretch/>
          </p:blipFill>
          <p:spPr>
            <a:xfrm>
              <a:off x="4529160" y="2517840"/>
              <a:ext cx="18781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672080" y="2592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Verdana"/>
                </a:rPr>
                <a:t>HERBOVOŘ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Zaoblený obdélník 20"/>
          <p:cNvSpPr/>
          <p:nvPr/>
        </p:nvSpPr>
        <p:spPr>
          <a:xfrm>
            <a:off x="2627280" y="5950080"/>
            <a:ext cx="273672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fe8"/>
              </a:gs>
              <a:gs pos="100000">
                <a:srgbClr val="33ffbd"/>
              </a:gs>
            </a:gsLst>
            <a:lin ang="5400000"/>
          </a:gradFill>
          <a:ln w="10080">
            <a:solidFill>
              <a:srgbClr val="10cf9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RANSFORMÁTO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Zaoblený obdélník 21"/>
          <p:cNvSpPr/>
          <p:nvPr/>
        </p:nvSpPr>
        <p:spPr>
          <a:xfrm>
            <a:off x="2700360" y="4869000"/>
            <a:ext cx="2303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d9ff"/>
              </a:gs>
              <a:gs pos="100000">
                <a:srgbClr val="3783ff"/>
              </a:gs>
            </a:gsLst>
            <a:lin ang="5400000"/>
          </a:gradFill>
          <a:ln w="10080">
            <a:solidFill>
              <a:srgbClr val="0f6fc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EKOMPOZITO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Zaoblený obdélník 22"/>
          <p:cNvSpPr/>
          <p:nvPr/>
        </p:nvSpPr>
        <p:spPr>
          <a:xfrm>
            <a:off x="3635280" y="1773360"/>
            <a:ext cx="15130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ed1"/>
              </a:gs>
              <a:gs pos="100000">
                <a:srgbClr val="83fb62"/>
              </a:gs>
            </a:gsLst>
            <a:lin ang="5400000"/>
          </a:gradFill>
          <a:ln w="10080">
            <a:solidFill>
              <a:srgbClr val="7cca62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ELENÉ ROSTL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Přímá spojovací šipka 29"/>
          <p:cNvCxnSpPr/>
          <p:nvPr/>
        </p:nvCxnSpPr>
        <p:spPr>
          <a:xfrm flipV="1">
            <a:off x="1258920" y="2491560"/>
            <a:ext cx="2449800" cy="3241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8" name="Přímá spojovací šipka 31"/>
          <p:cNvCxnSpPr/>
          <p:nvPr/>
        </p:nvCxnSpPr>
        <p:spPr>
          <a:xfrm>
            <a:off x="3276720" y="2133360"/>
            <a:ext cx="288000" cy="1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" name="Přímá spojovací šipka 49"/>
          <p:cNvCxnSpPr/>
          <p:nvPr/>
        </p:nvCxnSpPr>
        <p:spPr>
          <a:xfrm>
            <a:off x="2050920" y="3573000"/>
            <a:ext cx="650160" cy="1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50" name="Pravá složená závorka 52"/>
          <p:cNvSpPr/>
          <p:nvPr/>
        </p:nvSpPr>
        <p:spPr>
          <a:xfrm>
            <a:off x="6732720" y="1484280"/>
            <a:ext cx="431640" cy="792360"/>
          </a:xfrm>
          <a:custGeom>
            <a:avLst/>
            <a:gdLst>
              <a:gd name="textAreaLeft" fmla="*/ 0 w 431640"/>
              <a:gd name="textAreaRight" fmla="*/ 155880 w 431640"/>
              <a:gd name="textAreaTop" fmla="*/ 11160 h 792360"/>
              <a:gd name="textAreaBottom" fmla="*/ 7812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1"/>
                  <a:pt x="10800" y="981"/>
                </a:cubicBezTo>
                <a:lnTo>
                  <a:pt x="10800" y="9487"/>
                </a:lnTo>
                <a:cubicBezTo>
                  <a:pt x="10800" y="9978"/>
                  <a:pt x="16200" y="10468"/>
                  <a:pt x="21600" y="10468"/>
                </a:cubicBezTo>
                <a:cubicBezTo>
                  <a:pt x="16200" y="10468"/>
                  <a:pt x="10800" y="10959"/>
                  <a:pt x="10800" y="11449"/>
                </a:cubicBezTo>
                <a:lnTo>
                  <a:pt x="10800" y="20619"/>
                </a:lnTo>
                <a:cubicBezTo>
                  <a:pt x="10800" y="21110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ovéPole 53"/>
          <p:cNvSpPr/>
          <p:nvPr/>
        </p:nvSpPr>
        <p:spPr>
          <a:xfrm>
            <a:off x="7458840" y="1700280"/>
            <a:ext cx="136332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duc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ravá složená závorka 54"/>
          <p:cNvSpPr/>
          <p:nvPr/>
        </p:nvSpPr>
        <p:spPr>
          <a:xfrm>
            <a:off x="8317080" y="2637000"/>
            <a:ext cx="358560" cy="3816360"/>
          </a:xfrm>
          <a:custGeom>
            <a:avLst/>
            <a:gdLst>
              <a:gd name="textAreaLeft" fmla="*/ 0 w 358560"/>
              <a:gd name="textAreaRight" fmla="*/ 129600 w 358560"/>
              <a:gd name="textAreaTop" fmla="*/ 9000 h 3816360"/>
              <a:gd name="textAreaBottom" fmla="*/ 380736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16200" y="10800"/>
                  <a:pt x="21600" y="10800"/>
                </a:cubicBezTo>
                <a:cubicBezTo>
                  <a:pt x="162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ovéPole 55"/>
          <p:cNvSpPr/>
          <p:nvPr/>
        </p:nvSpPr>
        <p:spPr>
          <a:xfrm>
            <a:off x="8689320" y="3937680"/>
            <a:ext cx="454680" cy="136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zu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Přímá spojovací šipka 57"/>
          <p:cNvCxnSpPr/>
          <p:nvPr/>
        </p:nvCxnSpPr>
        <p:spPr>
          <a:xfrm flipH="1">
            <a:off x="2123280" y="6237000"/>
            <a:ext cx="361080" cy="1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5" name="Přímá spojovací šipka 64"/>
          <p:cNvCxnSpPr/>
          <p:nvPr/>
        </p:nvCxnSpPr>
        <p:spPr>
          <a:xfrm flipH="1">
            <a:off x="2050200" y="5157360"/>
            <a:ext cx="505800" cy="64836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6" name="Přímá spojovací šipka 66"/>
          <p:cNvCxnSpPr/>
          <p:nvPr/>
        </p:nvCxnSpPr>
        <p:spPr>
          <a:xfrm>
            <a:off x="3850920" y="5589360"/>
            <a:ext cx="1080" cy="21636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7" name="Přímá spojovací šipka 68"/>
          <p:cNvCxnSpPr/>
          <p:nvPr/>
        </p:nvCxnSpPr>
        <p:spPr>
          <a:xfrm>
            <a:off x="4067280" y="2565000"/>
            <a:ext cx="505440" cy="35964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8" name="Přímá spojovací šipka 70"/>
          <p:cNvCxnSpPr/>
          <p:nvPr/>
        </p:nvCxnSpPr>
        <p:spPr>
          <a:xfrm>
            <a:off x="4067280" y="2565360"/>
            <a:ext cx="434160" cy="100872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9" name="Přímá spojovací šipka 72"/>
          <p:cNvCxnSpPr/>
          <p:nvPr/>
        </p:nvCxnSpPr>
        <p:spPr>
          <a:xfrm>
            <a:off x="4067280" y="2637000"/>
            <a:ext cx="505440" cy="180072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0" name="Přímá spojovací šipka 74"/>
          <p:cNvCxnSpPr/>
          <p:nvPr/>
        </p:nvCxnSpPr>
        <p:spPr>
          <a:xfrm flipH="1">
            <a:off x="3923640" y="2636640"/>
            <a:ext cx="143640" cy="2161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1" name="Přímá spojovací šipka 32"/>
          <p:cNvCxnSpPr>
            <a:endCxn id="238" idx="1"/>
          </p:cNvCxnSpPr>
          <p:nvPr/>
        </p:nvCxnSpPr>
        <p:spPr>
          <a:xfrm>
            <a:off x="6300360" y="2852280"/>
            <a:ext cx="359640" cy="1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2" name="Přímá spojovací šipka 35"/>
          <p:cNvCxnSpPr/>
          <p:nvPr/>
        </p:nvCxnSpPr>
        <p:spPr>
          <a:xfrm flipH="1">
            <a:off x="6442920" y="3284280"/>
            <a:ext cx="793080" cy="361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3" name="Přímá spojovací šipka 37"/>
          <p:cNvCxnSpPr/>
          <p:nvPr/>
        </p:nvCxnSpPr>
        <p:spPr>
          <a:xfrm flipH="1">
            <a:off x="6658920" y="3284280"/>
            <a:ext cx="577080" cy="108180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4" name="Přímá spojovací šipka 39"/>
          <p:cNvCxnSpPr>
            <a:endCxn id="245" idx="3"/>
          </p:cNvCxnSpPr>
          <p:nvPr/>
        </p:nvCxnSpPr>
        <p:spPr>
          <a:xfrm flipH="1">
            <a:off x="5003640" y="3357720"/>
            <a:ext cx="2161080" cy="180072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HLAVNÍ STUPNĚ A SLOŽKY EKOSYSTÉMU 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66" name="Zástupný symbol pro číslo snímku 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684E-EFDC-4D09-B36E-1719659D6FAB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Zaoblený obdélník 4"/>
          <p:cNvSpPr/>
          <p:nvPr/>
        </p:nvSpPr>
        <p:spPr>
          <a:xfrm>
            <a:off x="1763640" y="1773360"/>
            <a:ext cx="1368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ffff"/>
              </a:gs>
              <a:gs pos="100000">
                <a:srgbClr val="2effff"/>
              </a:gs>
            </a:gsLst>
            <a:lin ang="5400000"/>
          </a:gradFill>
          <a:ln w="10080">
            <a:solidFill>
              <a:srgbClr val="0bd0d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VĚTLO, 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aoblený obdélník 13"/>
          <p:cNvSpPr/>
          <p:nvPr/>
        </p:nvSpPr>
        <p:spPr>
          <a:xfrm>
            <a:off x="611280" y="5877000"/>
            <a:ext cx="1368360" cy="576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ŽIV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aoblený obdélník 14"/>
          <p:cNvSpPr/>
          <p:nvPr/>
        </p:nvSpPr>
        <p:spPr>
          <a:xfrm>
            <a:off x="539640" y="3284640"/>
            <a:ext cx="1368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e7ff"/>
              </a:gs>
              <a:gs pos="100000">
                <a:srgbClr val="2dbcff"/>
              </a:gs>
            </a:gsLst>
            <a:lin ang="5400000"/>
          </a:gradFill>
          <a:ln w="10080">
            <a:solidFill>
              <a:srgbClr val="009dd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Zaoblený obdélník 15"/>
          <p:cNvSpPr/>
          <p:nvPr/>
        </p:nvSpPr>
        <p:spPr>
          <a:xfrm>
            <a:off x="6659640" y="2565360"/>
            <a:ext cx="1584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6e7ff"/>
              </a:gs>
              <a:gs pos="100000">
                <a:srgbClr val="2dbcff"/>
              </a:gs>
            </a:gsLst>
            <a:lin ang="5400000"/>
          </a:gradFill>
          <a:ln w="10080">
            <a:solidFill>
              <a:srgbClr val="009dd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ARNIVO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Zaoblený obdélník 16"/>
          <p:cNvSpPr/>
          <p:nvPr/>
        </p:nvSpPr>
        <p:spPr>
          <a:xfrm>
            <a:off x="4643280" y="4149720"/>
            <a:ext cx="172908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fdcf"/>
              </a:gs>
              <a:gs pos="100000">
                <a:srgbClr val="c9f852"/>
              </a:gs>
            </a:gsLst>
            <a:lin ang="5400000"/>
          </a:gradFill>
          <a:ln w="10080">
            <a:solidFill>
              <a:srgbClr val="a5c24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KLÍZE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Zaoblený obdélník 17"/>
          <p:cNvSpPr/>
          <p:nvPr/>
        </p:nvSpPr>
        <p:spPr>
          <a:xfrm>
            <a:off x="4643280" y="3357720"/>
            <a:ext cx="1657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5400000"/>
          </a:gradFill>
          <a:ln w="10080">
            <a:solidFill>
              <a:srgbClr val="0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ARAZ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Zaoblený obdélník 18"/>
          <p:cNvGrpSpPr/>
          <p:nvPr/>
        </p:nvGrpSpPr>
        <p:grpSpPr>
          <a:xfrm>
            <a:off x="4529160" y="2517840"/>
            <a:ext cx="1878120" cy="768240"/>
            <a:chOff x="4529160" y="2517840"/>
            <a:chExt cx="1878120" cy="768240"/>
          </a:xfrm>
        </p:grpSpPr>
        <p:pic>
          <p:nvPicPr>
            <p:cNvPr id="274" name="Zaoblený obdélník 18" descr=""/>
            <p:cNvPicPr/>
            <p:nvPr/>
          </p:nvPicPr>
          <p:blipFill>
            <a:blip r:embed="rId1"/>
            <a:stretch/>
          </p:blipFill>
          <p:spPr>
            <a:xfrm>
              <a:off x="4529160" y="2517840"/>
              <a:ext cx="18781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4672080" y="2592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Verdana"/>
                </a:rPr>
                <a:t>HERBOVOŘ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Zaoblený obdélník 20"/>
          <p:cNvSpPr/>
          <p:nvPr/>
        </p:nvSpPr>
        <p:spPr>
          <a:xfrm>
            <a:off x="2627280" y="5950080"/>
            <a:ext cx="273672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fe8"/>
              </a:gs>
              <a:gs pos="100000">
                <a:srgbClr val="33ffbd"/>
              </a:gs>
            </a:gsLst>
            <a:lin ang="5400000"/>
          </a:gradFill>
          <a:ln w="10080">
            <a:solidFill>
              <a:srgbClr val="10cf9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RANSFORMÁTO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Zaoblený obdélník 21"/>
          <p:cNvSpPr/>
          <p:nvPr/>
        </p:nvSpPr>
        <p:spPr>
          <a:xfrm>
            <a:off x="2700360" y="4869000"/>
            <a:ext cx="2303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d9ff"/>
              </a:gs>
              <a:gs pos="100000">
                <a:srgbClr val="3783ff"/>
              </a:gs>
            </a:gsLst>
            <a:lin ang="5400000"/>
          </a:gradFill>
          <a:ln w="10080">
            <a:solidFill>
              <a:srgbClr val="0f6fc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EKOMPOZITO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Zaoblený obdélník 22"/>
          <p:cNvSpPr/>
          <p:nvPr/>
        </p:nvSpPr>
        <p:spPr>
          <a:xfrm>
            <a:off x="3635280" y="1773360"/>
            <a:ext cx="15130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ed1"/>
              </a:gs>
              <a:gs pos="100000">
                <a:srgbClr val="83fb62"/>
              </a:gs>
            </a:gsLst>
            <a:lin ang="5400000"/>
          </a:gradFill>
          <a:ln w="10080">
            <a:solidFill>
              <a:srgbClr val="7cca62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ELENÉ ROSTL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Přímá spojovací šipka 29"/>
          <p:cNvCxnSpPr/>
          <p:nvPr/>
        </p:nvCxnSpPr>
        <p:spPr>
          <a:xfrm flipV="1">
            <a:off x="1258920" y="2491560"/>
            <a:ext cx="2449800" cy="3241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0" name="Přímá spojovací šipka 31"/>
          <p:cNvCxnSpPr/>
          <p:nvPr/>
        </p:nvCxnSpPr>
        <p:spPr>
          <a:xfrm>
            <a:off x="3276720" y="2133360"/>
            <a:ext cx="288000" cy="1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1" name="Přímá spojovací šipka 49"/>
          <p:cNvCxnSpPr/>
          <p:nvPr/>
        </p:nvCxnSpPr>
        <p:spPr>
          <a:xfrm>
            <a:off x="2050920" y="3573000"/>
            <a:ext cx="650160" cy="1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2" name="Pravá složená závorka 52"/>
          <p:cNvSpPr/>
          <p:nvPr/>
        </p:nvSpPr>
        <p:spPr>
          <a:xfrm>
            <a:off x="6732720" y="1484280"/>
            <a:ext cx="431640" cy="792360"/>
          </a:xfrm>
          <a:custGeom>
            <a:avLst/>
            <a:gdLst>
              <a:gd name="textAreaLeft" fmla="*/ 0 w 431640"/>
              <a:gd name="textAreaRight" fmla="*/ 155880 w 431640"/>
              <a:gd name="textAreaTop" fmla="*/ 11160 h 792360"/>
              <a:gd name="textAreaBottom" fmla="*/ 7812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1"/>
                  <a:pt x="10800" y="981"/>
                </a:cubicBezTo>
                <a:lnTo>
                  <a:pt x="10800" y="9487"/>
                </a:lnTo>
                <a:cubicBezTo>
                  <a:pt x="10800" y="9978"/>
                  <a:pt x="16200" y="10468"/>
                  <a:pt x="21600" y="10468"/>
                </a:cubicBezTo>
                <a:cubicBezTo>
                  <a:pt x="16200" y="10468"/>
                  <a:pt x="10800" y="10959"/>
                  <a:pt x="10800" y="11449"/>
                </a:cubicBezTo>
                <a:lnTo>
                  <a:pt x="10800" y="20619"/>
                </a:lnTo>
                <a:cubicBezTo>
                  <a:pt x="10800" y="21110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ovéPole 53"/>
          <p:cNvSpPr/>
          <p:nvPr/>
        </p:nvSpPr>
        <p:spPr>
          <a:xfrm>
            <a:off x="7460280" y="17002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uc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ravá složená závorka 54"/>
          <p:cNvSpPr/>
          <p:nvPr/>
        </p:nvSpPr>
        <p:spPr>
          <a:xfrm>
            <a:off x="8317080" y="2637000"/>
            <a:ext cx="358560" cy="3816360"/>
          </a:xfrm>
          <a:custGeom>
            <a:avLst/>
            <a:gdLst>
              <a:gd name="textAreaLeft" fmla="*/ 0 w 358560"/>
              <a:gd name="textAreaRight" fmla="*/ 129600 w 358560"/>
              <a:gd name="textAreaTop" fmla="*/ 9000 h 3816360"/>
              <a:gd name="textAreaBottom" fmla="*/ 380736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16200" y="10800"/>
                  <a:pt x="21600" y="10800"/>
                </a:cubicBezTo>
                <a:cubicBezTo>
                  <a:pt x="162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ovéPole 55"/>
          <p:cNvSpPr/>
          <p:nvPr/>
        </p:nvSpPr>
        <p:spPr>
          <a:xfrm>
            <a:off x="8689320" y="3939120"/>
            <a:ext cx="4546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u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Přímá spojovací šipka 57"/>
          <p:cNvCxnSpPr/>
          <p:nvPr/>
        </p:nvCxnSpPr>
        <p:spPr>
          <a:xfrm flipH="1">
            <a:off x="2123280" y="6237000"/>
            <a:ext cx="361080" cy="1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7" name="Přímá spojovací šipka 64"/>
          <p:cNvCxnSpPr/>
          <p:nvPr/>
        </p:nvCxnSpPr>
        <p:spPr>
          <a:xfrm flipH="1">
            <a:off x="2050200" y="5157360"/>
            <a:ext cx="505800" cy="64836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8" name="Přímá spojovací šipka 66"/>
          <p:cNvCxnSpPr/>
          <p:nvPr/>
        </p:nvCxnSpPr>
        <p:spPr>
          <a:xfrm>
            <a:off x="3850920" y="5589360"/>
            <a:ext cx="1080" cy="21636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89" name="Přímá spojovací šipka 68"/>
          <p:cNvCxnSpPr/>
          <p:nvPr/>
        </p:nvCxnSpPr>
        <p:spPr>
          <a:xfrm>
            <a:off x="4067280" y="2565000"/>
            <a:ext cx="505440" cy="35964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0" name="Přímá spojovací šipka 70"/>
          <p:cNvCxnSpPr/>
          <p:nvPr/>
        </p:nvCxnSpPr>
        <p:spPr>
          <a:xfrm>
            <a:off x="4067280" y="2565360"/>
            <a:ext cx="434160" cy="100872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1" name="Přímá spojovací šipka 72"/>
          <p:cNvCxnSpPr/>
          <p:nvPr/>
        </p:nvCxnSpPr>
        <p:spPr>
          <a:xfrm>
            <a:off x="4067280" y="2637000"/>
            <a:ext cx="505440" cy="180072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2" name="Přímá spojovací šipka 74"/>
          <p:cNvCxnSpPr/>
          <p:nvPr/>
        </p:nvCxnSpPr>
        <p:spPr>
          <a:xfrm flipH="1">
            <a:off x="3923640" y="2636640"/>
            <a:ext cx="143640" cy="2161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3" name="Přímá spojovací šipka 32"/>
          <p:cNvCxnSpPr>
            <a:endCxn id="270" idx="1"/>
          </p:cNvCxnSpPr>
          <p:nvPr/>
        </p:nvCxnSpPr>
        <p:spPr>
          <a:xfrm>
            <a:off x="6300360" y="2852280"/>
            <a:ext cx="359640" cy="1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4" name="Přímá spojovací šipka 35"/>
          <p:cNvCxnSpPr/>
          <p:nvPr/>
        </p:nvCxnSpPr>
        <p:spPr>
          <a:xfrm flipH="1">
            <a:off x="6442920" y="3284280"/>
            <a:ext cx="793080" cy="361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5" name="Přímá spojovací šipka 37"/>
          <p:cNvCxnSpPr/>
          <p:nvPr/>
        </p:nvCxnSpPr>
        <p:spPr>
          <a:xfrm flipH="1">
            <a:off x="6658920" y="3284280"/>
            <a:ext cx="577080" cy="108180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96" name="Přímá spojovací šipka 39"/>
          <p:cNvCxnSpPr>
            <a:endCxn id="277" idx="3"/>
          </p:cNvCxnSpPr>
          <p:nvPr/>
        </p:nvCxnSpPr>
        <p:spPr>
          <a:xfrm flipH="1">
            <a:off x="5003640" y="3357720"/>
            <a:ext cx="2161080" cy="180072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97" name="TextovéPole 33"/>
          <p:cNvSpPr/>
          <p:nvPr/>
        </p:nvSpPr>
        <p:spPr>
          <a:xfrm rot="1965000">
            <a:off x="-20520" y="4397400"/>
            <a:ext cx="2565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ŽIVÉ SLOŽ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ovéPole 34"/>
          <p:cNvSpPr/>
          <p:nvPr/>
        </p:nvSpPr>
        <p:spPr>
          <a:xfrm rot="20489400">
            <a:off x="3040920" y="3425760"/>
            <a:ext cx="508788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Arial"/>
              </a:rPr>
              <a:t>ŽIVÉ SLOŽK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C:\Users\Admin\AppData\Local\Microsoft\Windows\Temporary Internet Files\Content.IE5\Q8L7FNA7\MC900299133[1].wmf"/>
          <p:cNvPicPr/>
          <p:nvPr/>
        </p:nvPicPr>
        <p:blipFill>
          <a:blip r:embed="rId2"/>
          <a:stretch/>
        </p:blipFill>
        <p:spPr>
          <a:xfrm>
            <a:off x="7956720" y="476280"/>
            <a:ext cx="792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TOK LÁTEK A ENERGI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528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loběh a jednosměrný tok energie je základní a funkční vlastností ekosystém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 ekosystému jsou AUTOREGULAČNÍ MECHANISMY, které činí tento systém stabilní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Např. čím rozmanitější je síť potravních vazeb, tím stabilnější je ekosystém.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</p:txBody>
      </p:sp>
      <p:sp>
        <p:nvSpPr>
          <p:cNvPr id="302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5BC9-7096-4DF0-BF36-259915B9673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7596360" y="4437000"/>
            <a:ext cx="6696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RIMÁRNÍ PRODUKC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224964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množství organické hmoty, která je vytvořena PRODUCENTY za určitou dobu na určité ploš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728E-B34D-411A-92C8-F95735FA37CF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C:\Users\Admin\AppData\Local\Microsoft\Windows\Temporary Internet Files\Content.IE5\F3ID01WC\MC900122853[1].wmf"/>
          <p:cNvPicPr/>
          <p:nvPr/>
        </p:nvPicPr>
        <p:blipFill>
          <a:blip r:embed="rId1"/>
          <a:stretch/>
        </p:blipFill>
        <p:spPr>
          <a:xfrm>
            <a:off x="611280" y="4365720"/>
            <a:ext cx="1482480" cy="169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C:\Users\Admin\AppData\Local\Microsoft\Windows\Temporary Internet Files\Content.IE5\YK6I8EG1\MC900361866[1].wmf"/>
          <p:cNvPicPr/>
          <p:nvPr/>
        </p:nvPicPr>
        <p:blipFill>
          <a:blip r:embed="rId2"/>
          <a:stretch/>
        </p:blipFill>
        <p:spPr>
          <a:xfrm>
            <a:off x="3348000" y="3645000"/>
            <a:ext cx="1523880" cy="2736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C:\Users\Admin\AppData\Local\Microsoft\Windows\Temporary Internet Files\Content.IE5\1P113SDY\MC900441392[1].wmf"/>
          <p:cNvPicPr/>
          <p:nvPr/>
        </p:nvPicPr>
        <p:blipFill>
          <a:blip r:embed="rId3"/>
          <a:stretch/>
        </p:blipFill>
        <p:spPr>
          <a:xfrm>
            <a:off x="5651640" y="3573360"/>
            <a:ext cx="2841480" cy="2791080"/>
          </a:xfrm>
          <a:prstGeom prst="rect">
            <a:avLst/>
          </a:prstGeom>
          <a:ln w="0">
            <a:noFill/>
          </a:ln>
        </p:spPr>
      </p:pic>
      <p:sp>
        <p:nvSpPr>
          <p:cNvPr id="310" name="Šipka doprava 7"/>
          <p:cNvSpPr/>
          <p:nvPr/>
        </p:nvSpPr>
        <p:spPr>
          <a:xfrm>
            <a:off x="2268360" y="479736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Šipka doprava 8"/>
          <p:cNvSpPr/>
          <p:nvPr/>
        </p:nvSpPr>
        <p:spPr>
          <a:xfrm>
            <a:off x="4643280" y="486900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C:\Users\Admin\AppData\Local\Microsoft\Windows\Temporary Internet Files\Content.IE5\Q8L7FNA7\MC900299133[1].wmf"/>
          <p:cNvPicPr/>
          <p:nvPr/>
        </p:nvPicPr>
        <p:blipFill>
          <a:blip r:embed="rId4"/>
          <a:stretch/>
        </p:blipFill>
        <p:spPr>
          <a:xfrm>
            <a:off x="7740720" y="765000"/>
            <a:ext cx="792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RIMÁRNÍ PRODUKC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24964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množství organické hmoty, která je vytvořena PRODUCENTY za určitou dobu na určité ploš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108A-A2C1-4A16-9D26-2A340A5FFB5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C:\Users\Admin\AppData\Local\Microsoft\Windows\Temporary Internet Files\Content.IE5\F3ID01WC\MC900122853[1].wmf"/>
          <p:cNvPicPr/>
          <p:nvPr/>
        </p:nvPicPr>
        <p:blipFill>
          <a:blip r:embed="rId1"/>
          <a:stretch/>
        </p:blipFill>
        <p:spPr>
          <a:xfrm>
            <a:off x="611280" y="4365720"/>
            <a:ext cx="1482480" cy="1692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C:\Users\Admin\AppData\Local\Microsoft\Windows\Temporary Internet Files\Content.IE5\YK6I8EG1\MC900361866[1].wmf"/>
          <p:cNvPicPr/>
          <p:nvPr/>
        </p:nvPicPr>
        <p:blipFill>
          <a:blip r:embed="rId2"/>
          <a:stretch/>
        </p:blipFill>
        <p:spPr>
          <a:xfrm>
            <a:off x="3348000" y="3645000"/>
            <a:ext cx="1523880" cy="2736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C:\Users\Admin\AppData\Local\Microsoft\Windows\Temporary Internet Files\Content.IE5\1P113SDY\MC900441392[1].wmf"/>
          <p:cNvPicPr/>
          <p:nvPr/>
        </p:nvPicPr>
        <p:blipFill>
          <a:blip r:embed="rId3"/>
          <a:stretch/>
        </p:blipFill>
        <p:spPr>
          <a:xfrm>
            <a:off x="5651640" y="3573360"/>
            <a:ext cx="2841480" cy="2791080"/>
          </a:xfrm>
          <a:prstGeom prst="rect">
            <a:avLst/>
          </a:prstGeom>
          <a:ln w="0">
            <a:noFill/>
          </a:ln>
        </p:spPr>
      </p:pic>
      <p:sp>
        <p:nvSpPr>
          <p:cNvPr id="319" name="Šipka doprava 7"/>
          <p:cNvSpPr/>
          <p:nvPr/>
        </p:nvSpPr>
        <p:spPr>
          <a:xfrm>
            <a:off x="2268360" y="479736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Šipka doprava 8"/>
          <p:cNvSpPr/>
          <p:nvPr/>
        </p:nvSpPr>
        <p:spPr>
          <a:xfrm>
            <a:off x="4643280" y="486900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římá spojovací šipka 10" descr=""/>
          <p:cNvPicPr/>
          <p:nvPr/>
        </p:nvPicPr>
        <p:blipFill>
          <a:blip r:embed="rId4"/>
          <a:stretch/>
        </p:blipFill>
        <p:spPr>
          <a:xfrm>
            <a:off x="1139760" y="3078000"/>
            <a:ext cx="2378160" cy="1378080"/>
          </a:xfrm>
          <a:prstGeom prst="rect">
            <a:avLst/>
          </a:prstGeom>
          <a:ln w="0">
            <a:noFill/>
          </a:ln>
        </p:spPr>
      </p:pic>
      <p:sp>
        <p:nvSpPr>
          <p:cNvPr id="322" name="TextovéPole 11"/>
          <p:cNvSpPr/>
          <p:nvPr/>
        </p:nvSpPr>
        <p:spPr>
          <a:xfrm>
            <a:off x="2713320" y="5950080"/>
            <a:ext cx="2286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mární konz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bdélník 12"/>
          <p:cNvSpPr/>
          <p:nvPr/>
        </p:nvSpPr>
        <p:spPr>
          <a:xfrm>
            <a:off x="6100200" y="5877000"/>
            <a:ext cx="2590200" cy="3682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kundární konz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5:36:48Z</dcterms:created>
  <dc:creator>Admin</dc:creator>
  <dc:description/>
  <dc:language>en-US</dc:language>
  <cp:lastModifiedBy>Magda</cp:lastModifiedBy>
  <dcterms:modified xsi:type="dcterms:W3CDTF">2013-07-26T14:13:02Z</dcterms:modified>
  <cp:revision>27</cp:revision>
  <dc:subject/>
  <dc:title>Snímek 1</dc:title>
</cp:coreProperties>
</file>