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A8BC-A993-419C-A425-C8AD50A09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D85B-FAF3-4FEF-AD8D-5AF1044AE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112E-B4CB-40FD-B268-2F2FB145C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893D-1369-49B8-A140-E3D30312D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E90A9-353A-493E-8FE1-1DE8147C4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4161B-D4C1-4F01-A220-C8703DFF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896E9-F94D-454A-AEAE-89A04D154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E19E7-5BF4-4CDA-8D48-060C2386B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67FFE-CA0A-4C1F-8405-21C827F71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F111E-89D6-448F-AAEC-8F9A5FB93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EAC0A-5C97-4501-A966-331353B5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CFAB-23CA-4266-999B-8D5475D60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E6CEF-6A2C-420A-91ED-C1C4508C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A2F2F-A162-4D53-9CE2-909D51D9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26469-F4E3-4FD4-89E1-FD44C0F6B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6728E-14F2-4610-9CAB-CFBF3FAF0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55F1A-8BE7-4F07-84B0-451701FF3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149DB8-69AD-4735-94DA-C9E741A1E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428AEB-ECA7-4ED6-839C-C1F10030F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67373F-2738-438A-AC82-03F3CE0FC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776744-59F2-413E-A8B7-C85B196AA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44F81E-5D3B-43BB-BF68-20E3FF01E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D30F-2819-4A69-A9FA-3AC500821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365E06-7166-4B61-A1CD-5B52D2D82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64E825-B0D3-4E0D-967C-74FAA952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F62643-8F2C-4913-B105-E472B17D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8D6D50-EBC2-4DAA-A087-58B165BB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A62E2C-37CC-42BF-BB4C-6A885B01D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D5383A-0F54-4105-A970-620291302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80FDFE-059A-4B3D-ADE0-17314A40C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A83A1-0013-4606-AE20-D0CD1ED06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AE705-374E-4DB4-B9F0-254E0A227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E33AE-27D9-4FA1-98B7-6F65D3B0A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FDFB-BDAB-4D59-B16C-7CB37BBDD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268BE-13F6-40A4-9430-05DE65A4A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83058-7A06-49C2-9C24-873F67FA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D56DB-BF09-4E0B-BE90-21BA2EBB9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C1D01-1122-4424-9B56-DE675F0D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60CC6-D1CA-4997-A097-46CC626B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238D2-4FCE-4DE0-AB60-B460DB02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6B262-3519-4FAB-A50E-3CECA25C5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52D88-501E-4FCE-8AB7-F90F747A3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60325-335E-4F18-B9BF-3F26CE1A6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E469-E498-410D-93A9-3852E29FE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25DE-EC54-4979-A69D-870825076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940A-8044-4B7D-9253-DEF05673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DB13-E84A-4F04-BACF-384FF034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5D48-DE31-4E1E-8C8B-B0715BE9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bdélník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Obdélník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Obdélník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Obdélník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Zaoblený obdélník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Zaoblený obdélník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Obdélník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Obdélník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bdélník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bdélník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Obdélník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Obdélník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009dd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2E61D-0B73-47F5-B49F-5853E258510E}" type="datetime">
              <a:rPr b="0" lang="cs-CZ" sz="800" spc="-1" strike="noStrike">
                <a:solidFill>
                  <a:srgbClr val="009dd9"/>
                </a:solidFill>
                <a:latin typeface="Verdana"/>
              </a:rPr>
              <a:t>29.07.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4146E-6874-4B0F-B17A-4B817D2C0318}" type="slidenum">
              <a:rPr b="0" lang="cs-CZ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Obdélník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bdélník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bdélník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bdélník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009dd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bdélník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Zaoblený obdélník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Zaoblený obdélník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bdélník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bdélník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bdélník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bdélník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009dd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240E7-D4A2-466C-9FA1-09D349C31A0B}" type="datetime">
              <a:rPr b="0" lang="cs-CZ" sz="800" spc="-1" strike="noStrike">
                <a:solidFill>
                  <a:srgbClr val="009dd9"/>
                </a:solidFill>
                <a:latin typeface="Verdana"/>
              </a:rPr>
              <a:t>29.07.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FE5BC-9D1F-4B9A-A950-8A712C0BBC6A}" type="slidenum">
              <a:rPr b="0" lang="cs-CZ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Obdélník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bdélník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bdélník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bdélník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bdélník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aoblený obdélník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aoblený obdélník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bdélník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bdélník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bdélník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bdélník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bdélník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bdélník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009dd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89195-61C1-4C70-B1EC-55FC919E5CA4}" type="datetime">
              <a:rPr b="0" lang="cs-CZ" sz="800" spc="-1" strike="noStrike">
                <a:solidFill>
                  <a:srgbClr val="009dd9"/>
                </a:solidFill>
                <a:latin typeface="Verdana"/>
              </a:rPr>
              <a:t>29.07.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335EA-99BE-4646-9A36-88AEAEAE23A6}" type="slidenum">
              <a:rPr b="0" lang="cs-CZ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Obdélník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bdélník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bdélník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bdélník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bdélník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Zaoblený obdélník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Zaoblený obdélník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bdélník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bdélník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bdélník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bdélník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bdélník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bdélník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009dd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0CBFE-30A2-4793-AE3D-B4D3634C03EC}" type="datetime">
              <a:rPr b="0" lang="cs-CZ" sz="800" spc="-1" strike="noStrike">
                <a:solidFill>
                  <a:srgbClr val="009dd9"/>
                </a:solidFill>
                <a:latin typeface="Verdana"/>
              </a:rPr>
              <a:t>29.07.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9837D-493C-4123-8F5B-373A0FFA2297}" type="slidenum">
              <a:rPr b="0" lang="cs-CZ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C:\Users\Admin\Documents\JANA\DUMY\logo dumy.jpg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158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7" name=""/>
          <p:cNvGraphicFramePr/>
          <p:nvPr/>
        </p:nvGraphicFramePr>
        <p:xfrm>
          <a:off x="468360" y="1700280"/>
          <a:ext cx="8442360" cy="5151240"/>
        </p:xfrm>
        <a:graphic>
          <a:graphicData uri="http://schemas.openxmlformats.org/drawingml/2006/table">
            <a:tbl>
              <a:tblPr/>
              <a:tblGrid>
                <a:gridCol w="4390920"/>
                <a:gridCol w="4051440"/>
              </a:tblGrid>
              <a:tr h="102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ÁZEV ŠKOLY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ymnázium Fr. Živného, Bohumín, Jana Palacha 794, příspěvková organiz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dd9"/>
                      </a:solidFill>
                    </a:lnT>
                    <a:lnB>
                      <a:noFill/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Člověk a příro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dd9"/>
                      </a:solidFill>
                    </a:lnT>
                    <a:lnB>
                      <a:noFill/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102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ZDĚLÁVACÍ OBOR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iologie pro 4. ročník SŠ a odpovídající ročník víceletých gymnázi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ÉM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kolog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477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TOR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gr. Jana Pastuchov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UM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. 6. 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713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ÁZEV A ČÍSLO PROJEKT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číme se pro život v 21. století CZ.1.07/1.5.00/34.06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ZNAČENÍVÝUKOVÉ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Y_32_INOVACE_BI.PS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18" name="Zástupný symbol pro číslo snímku 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2234A-BF72-4984-9DB7-7A2E56FBDEE8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Verdana"/>
              </a:rPr>
              <a:t>BIOTICKÉ  FAKTORY</a:t>
            </a:r>
            <a:endParaRPr b="0" lang="en-US" sz="44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55280" y="4581000"/>
            <a:ext cx="727236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4617b"/>
                </a:solidFill>
                <a:latin typeface="Verdana"/>
              </a:rPr>
              <a:t>„</a:t>
            </a:r>
            <a:r>
              <a:rPr b="0" i="1" lang="cs-CZ" sz="2000" spc="-1" strike="noStrike">
                <a:solidFill>
                  <a:srgbClr val="04617b"/>
                </a:solidFill>
                <a:latin typeface="Verdana"/>
              </a:rPr>
              <a:t>Jedině příroda ví, co chce... nikdy nežertuje a nikdy nedělá chyby, ty dělá jen člověk.“</a:t>
            </a:r>
            <a:r>
              <a:rPr b="0" i="1" lang="cs-CZ" sz="20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i="1" lang="cs-CZ" sz="20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i="1" lang="cs-CZ" sz="20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i="1" lang="cs-CZ" sz="20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i="1" lang="cs-CZ" sz="20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i="1" lang="cs-CZ" sz="20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i="1" lang="cs-CZ" sz="20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i="1" lang="cs-CZ" sz="20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i="1" lang="cs-CZ" sz="20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i="1" lang="cs-CZ" sz="20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i="1" lang="cs-CZ" sz="20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i="1" lang="cs-CZ" sz="20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4617b"/>
                </a:solidFill>
                <a:latin typeface="Verdana"/>
              </a:rPr>
              <a:t>(Johann Wolfgang von Goethe)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4617b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457200" y="1413000"/>
            <a:ext cx="822960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Materiál je součástí celku Ekologie, věnuje se biotickým faktorům, které přibližuje žákům. Materiál je vhodné použít v učebně s interaktivní tabulí. Může sloužit také k samostudiu.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Převládající klíčové kompetence: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kompetence k učení, kompetence k řešení problémů, kompetence sociální a personální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Vazba na ŠVP: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školní vzdělávací program pro čtyřleté studium – čtvrtý ročník (případně odpovídající ročníky víceletého studia) – učební osnovy BIOLOGIE – Ekologie, seminář z biologi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Formy výuky: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uvědomění probíhá formou frontálního výkladu a vyhledáváním pojmů a vztahů pomocí internetu. Materiál lze využít s pomocí PC a dataprojektoru, nutné je připojení na interne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Použití symbolů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:             Zapamatuj si !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      Poznamenej si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                     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Najdi na internetu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A1AA0-2F83-4066-8DEB-8E0E3A65F005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Skupina 1"/>
          <p:cNvGrpSpPr/>
          <p:nvPr/>
        </p:nvGrpSpPr>
        <p:grpSpPr>
          <a:xfrm>
            <a:off x="1835280" y="4724280"/>
            <a:ext cx="4591080" cy="1606680"/>
            <a:chOff x="1835280" y="4724280"/>
            <a:chExt cx="4591080" cy="1606680"/>
          </a:xfrm>
        </p:grpSpPr>
        <p:pic>
          <p:nvPicPr>
            <p:cNvPr id="224" name="Picture 2" descr="C:\Users\Admin\AppData\Local\Microsoft\Windows\Temporary Internet Files\Content.IE5\Q8L7FNA7\MC900299133[1].wmf"/>
            <p:cNvPicPr/>
            <p:nvPr/>
          </p:nvPicPr>
          <p:blipFill>
            <a:blip r:embed="rId1"/>
            <a:stretch/>
          </p:blipFill>
          <p:spPr>
            <a:xfrm>
              <a:off x="3419640" y="4724280"/>
              <a:ext cx="647640" cy="9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5" descr="C:\Users\Admin\AppData\Local\Microsoft\Windows\Temporary Internet Files\Content.IE5\UTJF7CS0\MC900334546[1].wmf"/>
            <p:cNvPicPr/>
            <p:nvPr/>
          </p:nvPicPr>
          <p:blipFill>
            <a:blip r:embed="rId2"/>
            <a:stretch/>
          </p:blipFill>
          <p:spPr>
            <a:xfrm>
              <a:off x="6012000" y="4724280"/>
              <a:ext cx="414360" cy="93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10" descr="C:\Users\Admin\AppData\Local\Microsoft\Windows\Temporary Internet Files\Content.IE5\UTJF7CS0\MC900298305[1].wmf"/>
            <p:cNvPicPr/>
            <p:nvPr/>
          </p:nvPicPr>
          <p:blipFill>
            <a:blip r:embed="rId3"/>
            <a:stretch/>
          </p:blipFill>
          <p:spPr>
            <a:xfrm>
              <a:off x="1835280" y="5805360"/>
              <a:ext cx="431640" cy="52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Anotace: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68360" y="3212640"/>
            <a:ext cx="8229600" cy="29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Biotické faktory jsou závislé na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živé složce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rostředí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Mezi nejdůležitější biotické faktory patří způsob a kvalita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výživy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, vnitrodruhové a mezidruhové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vztahy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2" descr="C:\Users\Admin\AppData\Local\Microsoft\Windows\Temporary Internet Files\Content.IE5\Q8L7FNA7\MC900299133[1].wmf"/>
          <p:cNvPicPr/>
          <p:nvPr/>
        </p:nvPicPr>
        <p:blipFill>
          <a:blip r:embed="rId1"/>
          <a:stretch/>
        </p:blipFill>
        <p:spPr>
          <a:xfrm>
            <a:off x="684360" y="1052640"/>
            <a:ext cx="1295280" cy="1825560"/>
          </a:xfrm>
          <a:prstGeom prst="rect">
            <a:avLst/>
          </a:prstGeom>
          <a:ln w="0">
            <a:noFill/>
          </a:ln>
        </p:spPr>
      </p:pic>
      <p:sp>
        <p:nvSpPr>
          <p:cNvPr id="230" name="Zástupný symbol pro číslo snímku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2606F-6E1C-42CE-8F7B-B889FB47D837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4617b"/>
                </a:solidFill>
                <a:latin typeface="Verdana"/>
              </a:rPr>
              <a:t>DĚLENÍ PODLE ZPŮSOBU VÝŽIVY</a:t>
            </a:r>
            <a:endParaRPr b="0" lang="en-US" sz="36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32" name="TextovéPole 3"/>
          <p:cNvSpPr/>
          <p:nvPr/>
        </p:nvSpPr>
        <p:spPr>
          <a:xfrm>
            <a:off x="629280" y="2708280"/>
            <a:ext cx="322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b050"/>
                </a:solidFill>
                <a:latin typeface="Arial"/>
              </a:rPr>
              <a:t>BIOFÁGOV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ovéPole 4"/>
          <p:cNvSpPr/>
          <p:nvPr/>
        </p:nvSpPr>
        <p:spPr>
          <a:xfrm>
            <a:off x="4667400" y="2708280"/>
            <a:ext cx="415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546422"/>
                </a:solidFill>
                <a:latin typeface="Arial"/>
              </a:rPr>
              <a:t>NEKROFÁGOV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4" name="Přímá spojovací šipka 6"/>
          <p:cNvCxnSpPr/>
          <p:nvPr/>
        </p:nvCxnSpPr>
        <p:spPr>
          <a:xfrm flipH="1">
            <a:off x="2268360" y="1557000"/>
            <a:ext cx="1440360" cy="935640"/>
          </a:xfrm>
          <a:prstGeom prst="straightConnector1">
            <a:avLst/>
          </a:prstGeom>
          <a:ln w="5724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35" name="Přímá spojovací šipka 7"/>
          <p:cNvCxnSpPr/>
          <p:nvPr/>
        </p:nvCxnSpPr>
        <p:spPr>
          <a:xfrm>
            <a:off x="5076720" y="1484280"/>
            <a:ext cx="1512000" cy="1224720"/>
          </a:xfrm>
          <a:prstGeom prst="straightConnector1">
            <a:avLst/>
          </a:prstGeom>
          <a:ln w="5724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36" name="Přímá spojovací šipka 12"/>
          <p:cNvCxnSpPr/>
          <p:nvPr/>
        </p:nvCxnSpPr>
        <p:spPr>
          <a:xfrm flipH="1">
            <a:off x="3058560" y="3500280"/>
            <a:ext cx="937080" cy="866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triangle" w="med"/>
          </a:ln>
        </p:spPr>
      </p:cxnSp>
      <p:cxnSp>
        <p:nvCxnSpPr>
          <p:cNvPr id="237" name="Přímá spojovací šipka 14"/>
          <p:cNvCxnSpPr/>
          <p:nvPr/>
        </p:nvCxnSpPr>
        <p:spPr>
          <a:xfrm>
            <a:off x="5076720" y="3644640"/>
            <a:ext cx="791280" cy="864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triangle" w="med"/>
          </a:ln>
        </p:spPr>
      </p:cxnSp>
      <p:sp>
        <p:nvSpPr>
          <p:cNvPr id="238" name="TextovéPole 15"/>
          <p:cNvSpPr/>
          <p:nvPr/>
        </p:nvSpPr>
        <p:spPr>
          <a:xfrm>
            <a:off x="2269440" y="4797360"/>
            <a:ext cx="16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b0f0"/>
                </a:solidFill>
                <a:latin typeface="Arial"/>
              </a:rPr>
              <a:t>ZOOFÁGOV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ovéPole 16"/>
          <p:cNvSpPr/>
          <p:nvPr/>
        </p:nvSpPr>
        <p:spPr>
          <a:xfrm>
            <a:off x="4932000" y="4724280"/>
            <a:ext cx="175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b0f0"/>
                </a:solidFill>
                <a:latin typeface="Arial"/>
              </a:rPr>
              <a:t>FYTOFÁGOV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ovéPole 17"/>
          <p:cNvSpPr/>
          <p:nvPr/>
        </p:nvSpPr>
        <p:spPr>
          <a:xfrm>
            <a:off x="991080" y="5805360"/>
            <a:ext cx="381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PLŇTE DO SEŠITU PŘÍKLAD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5" descr="C:\Users\Admin\AppData\Local\Microsoft\Windows\Temporary Internet Files\Content.IE5\UTJF7CS0\MC900334546[1].wmf"/>
          <p:cNvPicPr/>
          <p:nvPr/>
        </p:nvPicPr>
        <p:blipFill>
          <a:blip r:embed="rId1"/>
          <a:stretch/>
        </p:blipFill>
        <p:spPr>
          <a:xfrm>
            <a:off x="7956720" y="4437000"/>
            <a:ext cx="812520" cy="1835280"/>
          </a:xfrm>
          <a:prstGeom prst="rect">
            <a:avLst/>
          </a:prstGeom>
          <a:ln w="0">
            <a:noFill/>
          </a:ln>
        </p:spPr>
      </p:pic>
      <p:sp>
        <p:nvSpPr>
          <p:cNvPr id="242" name="Zástupný symbol pro číslo snímku 20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422EC-E69D-420C-8D16-24DE798A9DB3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ZOOFÁGOVÉ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2249280"/>
            <a:ext cx="8229600" cy="23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masožravci – živí se živočich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9dd9"/>
                </a:solidFill>
                <a:latin typeface="Verdana"/>
              </a:rPr>
              <a:t>DRAVEC = PREDATOR </a:t>
            </a: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9dd9"/>
                </a:solidFill>
                <a:latin typeface="Verdana"/>
              </a:rPr>
              <a:t>ŽIVOČIŠNÝ PARAZIT</a:t>
            </a: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f6fc6"/>
                </a:solidFill>
                <a:latin typeface="Verdana"/>
              </a:rPr>
              <a:t>endoparazit</a:t>
            </a:r>
            <a:endParaRPr b="0" lang="en-US" sz="2400" spc="-1" strike="noStrike">
              <a:solidFill>
                <a:srgbClr val="0f6fc6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f6fc6"/>
                </a:solidFill>
                <a:latin typeface="Verdana"/>
              </a:rPr>
              <a:t>ektoparazit</a:t>
            </a:r>
            <a:endParaRPr b="0" lang="en-US" sz="2400" spc="-1" strike="noStrike">
              <a:solidFill>
                <a:srgbClr val="0f6fc6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Zástupný symbol pro číslo snímku 4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E1136-3F0A-4BF9-A13F-DB04DCC7BDBF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ovéPole 5"/>
          <p:cNvSpPr/>
          <p:nvPr/>
        </p:nvSpPr>
        <p:spPr>
          <a:xfrm>
            <a:off x="4067280" y="3933720"/>
            <a:ext cx="22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veďte příklady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5" descr="C:\Users\Admin\AppData\Local\Microsoft\Windows\Temporary Internet Files\Content.IE5\UTJF7CS0\MC900334546[1].wmf"/>
          <p:cNvPicPr/>
          <p:nvPr/>
        </p:nvPicPr>
        <p:blipFill>
          <a:blip r:embed="rId1"/>
          <a:stretch/>
        </p:blipFill>
        <p:spPr>
          <a:xfrm>
            <a:off x="8028000" y="4437000"/>
            <a:ext cx="812880" cy="1835280"/>
          </a:xfrm>
          <a:prstGeom prst="rect">
            <a:avLst/>
          </a:prstGeom>
          <a:ln w="0">
            <a:noFill/>
          </a:ln>
        </p:spPr>
      </p:pic>
      <p:sp>
        <p:nvSpPr>
          <p:cNvPr id="248" name="TextovéPole 7"/>
          <p:cNvSpPr/>
          <p:nvPr/>
        </p:nvSpPr>
        <p:spPr>
          <a:xfrm>
            <a:off x="2433960" y="5805360"/>
            <a:ext cx="39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ečtěte si o užitečných predátore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0" descr="C:\Users\Admin\AppData\Local\Microsoft\Windows\Temporary Internet Files\Content.IE5\UTJF7CS0\MC900298305[1].wmf"/>
          <p:cNvPicPr/>
          <p:nvPr/>
        </p:nvPicPr>
        <p:blipFill>
          <a:blip r:embed="rId2"/>
          <a:stretch/>
        </p:blipFill>
        <p:spPr>
          <a:xfrm>
            <a:off x="1042920" y="5300640"/>
            <a:ext cx="8650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2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FYTOFÁGOVÉ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2249640"/>
            <a:ext cx="8229600" cy="16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živí se rostlinam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9dd9"/>
                </a:solidFill>
                <a:latin typeface="Verdana"/>
              </a:rPr>
              <a:t>BÝLOŽRAVCI</a:t>
            </a: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9dd9"/>
                </a:solidFill>
                <a:latin typeface="Verdana"/>
              </a:rPr>
              <a:t>ROSTLINNÍ PARAZITÉ</a:t>
            </a: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252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02417-6890-4F40-99B9-FA78D279560F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ovéPole 5"/>
          <p:cNvSpPr/>
          <p:nvPr/>
        </p:nvSpPr>
        <p:spPr>
          <a:xfrm>
            <a:off x="2867760" y="5373720"/>
            <a:ext cx="413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teré druhy rostlinných parazitů zná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5" descr="C:\Users\Admin\AppData\Local\Microsoft\Windows\Temporary Internet Files\Content.IE5\UTJF7CS0\MC900334546[1].wmf"/>
          <p:cNvPicPr/>
          <p:nvPr/>
        </p:nvPicPr>
        <p:blipFill>
          <a:blip r:embed="rId1"/>
          <a:stretch/>
        </p:blipFill>
        <p:spPr>
          <a:xfrm>
            <a:off x="8028000" y="4437000"/>
            <a:ext cx="812880" cy="18352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0" descr="C:\Users\Admin\AppData\Local\Microsoft\Windows\Temporary Internet Files\Content.IE5\UTJF7CS0\MC900298305[1].wmf"/>
          <p:cNvPicPr/>
          <p:nvPr/>
        </p:nvPicPr>
        <p:blipFill>
          <a:blip r:embed="rId2"/>
          <a:stretch/>
        </p:blipFill>
        <p:spPr>
          <a:xfrm>
            <a:off x="1042920" y="4869000"/>
            <a:ext cx="865080" cy="1052280"/>
          </a:xfrm>
          <a:prstGeom prst="rect">
            <a:avLst/>
          </a:prstGeom>
          <a:ln w="0">
            <a:noFill/>
          </a:ln>
        </p:spPr>
      </p:pic>
      <p:sp>
        <p:nvSpPr>
          <p:cNvPr id="256" name="TextovéPole 8"/>
          <p:cNvSpPr/>
          <p:nvPr/>
        </p:nvSpPr>
        <p:spPr>
          <a:xfrm>
            <a:off x="3719880" y="443700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veďte do sešitu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" dur="2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VZTAHY MEZI ŽIVOČICHY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58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A3C86-A2A5-425E-8D3A-7E51B87AA290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9" name="Přímá spojovací šipka 5"/>
          <p:cNvCxnSpPr/>
          <p:nvPr/>
        </p:nvCxnSpPr>
        <p:spPr>
          <a:xfrm flipH="1">
            <a:off x="1834560" y="2133720"/>
            <a:ext cx="2161080" cy="12247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triangle" w="med"/>
          </a:ln>
        </p:spPr>
      </p:cxnSp>
      <p:cxnSp>
        <p:nvCxnSpPr>
          <p:cNvPr id="260" name="Přímá spojovací šipka 7"/>
          <p:cNvCxnSpPr/>
          <p:nvPr/>
        </p:nvCxnSpPr>
        <p:spPr>
          <a:xfrm>
            <a:off x="4211280" y="2133720"/>
            <a:ext cx="2377080" cy="10800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triangle" w="med"/>
          </a:ln>
        </p:spPr>
      </p:cxnSp>
      <p:sp>
        <p:nvSpPr>
          <p:cNvPr id="261" name="TextovéPole 8"/>
          <p:cNvSpPr/>
          <p:nvPr/>
        </p:nvSpPr>
        <p:spPr>
          <a:xfrm>
            <a:off x="556200" y="400536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Arial"/>
              </a:rPr>
              <a:t>VNITRODRUH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bdélník 9"/>
          <p:cNvSpPr/>
          <p:nvPr/>
        </p:nvSpPr>
        <p:spPr>
          <a:xfrm>
            <a:off x="4874400" y="4005360"/>
            <a:ext cx="318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b050"/>
                </a:solidFill>
                <a:latin typeface="Arial"/>
              </a:rPr>
              <a:t>MEZIDRUH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ovéPole 10"/>
          <p:cNvSpPr/>
          <p:nvPr/>
        </p:nvSpPr>
        <p:spPr>
          <a:xfrm>
            <a:off x="4688280" y="4508640"/>
            <a:ext cx="443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b050"/>
                </a:solidFill>
                <a:latin typeface="Arial"/>
              </a:rPr>
              <a:t>KLADNÉ -  ??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b050"/>
                </a:solidFill>
                <a:latin typeface="Arial"/>
              </a:rPr>
              <a:t>NEUTRÁLNÍ - NEUTRALISM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b050"/>
                </a:solidFill>
                <a:latin typeface="Arial"/>
              </a:rPr>
              <a:t>ZÁPORNÉ – PREDACE, KONKU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ovéPole 12"/>
          <p:cNvSpPr/>
          <p:nvPr/>
        </p:nvSpPr>
        <p:spPr>
          <a:xfrm>
            <a:off x="413280" y="4653000"/>
            <a:ext cx="416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KLADNÉ – STĚHOVÁNÍ, AGREG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ZÁPORNÉ - KONKU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ZDROJE: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Dostupné pod licencí wikimedia na WWW:http://upload.wikipedia.org/wiki/Soubor:Sun_in_X-Ray.p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BERGER, Josef. 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Ekologie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. 1. vyd. České Budějovice: Kopp, 1998, 197 s. ISBN 80-723-2013-0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ŠLÉGL, Jiří, František KISLINGER a Jana LANÍKOVÁ. 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Ekologie a ochrana životního prostředí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: 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pro gymnázia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. Vyd. 1. Praha: Fortuna, 2002, 157 s. ISBN 80-716-8828-2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[online]. [cit. 2013-06-03]. Dostupné z: http://www.rozhlas.cz/priroda/porady/_zprava/4563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[online]. [cit. 2013-06-03]. DOI: http://www.rozhlas.cz/priroda/porady/_zprava/45632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Zástupný symbol pro číslo snímku 4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9A1CA-D21F-4D60-A30C-C7A5D2802A6C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5T15:36:48Z</dcterms:created>
  <dc:creator>Admin</dc:creator>
  <dc:description/>
  <dc:language>en-US</dc:language>
  <cp:lastModifiedBy>Konetzná Magda</cp:lastModifiedBy>
  <dcterms:modified xsi:type="dcterms:W3CDTF">2013-06-06T09:42:14Z</dcterms:modified>
  <cp:revision>20</cp:revision>
  <dc:subject/>
  <dc:title>Snímek 1</dc:title>
</cp:coreProperties>
</file>