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6FB-6B4E-4943-BD9B-BE3F6FA9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4F2-700E-410C-8CE9-F72B557C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5F6-192B-41D0-8368-A6F734DB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94A-0EE3-4F3E-A73C-FA51961B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5B45-DD5B-4673-91E4-6B61A286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6880-BBA9-45AF-8E3C-AF822B65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348E-E6CD-472E-855B-B67E1E7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FA8-D139-4900-AFD5-F109F1A8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5549-8A26-4466-A76D-5490C791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B9A9-A24D-413C-A80C-A412133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2C7-DA24-44A0-8D2C-AF8D91F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7CD-6E80-49DE-ACCC-66BA8372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9C9-3B4E-489C-94CD-B560402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5DD-FA4F-4933-9E58-4B098D5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08CE-6392-4865-B163-45007B9D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B29F-C26C-4BD3-8992-2C9C904C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A79-8AE5-4911-B48F-1296AA06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D6AC0-F109-436B-97F4-E12FD456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6928F-1B22-4D77-BA7C-DBC52EF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D4C52-A441-47E9-BA5F-457A9F1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8F834-E73D-473D-B23F-2712971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0C89E-23AD-481D-9D02-E6F9F55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C1D-49CE-4A7E-8E3C-635E8F5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F7315-FF53-4006-A741-D00DEEE6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3123B-7B9F-4ADF-8EAF-6BB5D65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82312-A487-4981-9250-608A7E2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CD936-36E6-4493-96C0-57C7FEC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12BDD-39ED-48AD-AD5F-F1889A01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D441D-2E85-4F9A-BE93-8FEB9A16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9B54D-85A3-4F51-AAA6-9EB374EB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F43A-8416-46B9-995B-D1DC8B27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F24C-F252-47F8-B50E-04888A1F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60FE-8BC2-4F58-A258-3CAB21D1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D77-73CD-4B6C-8AED-65944AB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B80A-DC10-4A22-96F4-1B02AE3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40F7-578E-4CA2-9CE0-83AFC93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F5DF-8CA0-4C37-9648-C33499DC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5171-35BA-4973-BBBC-981997B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0C1E-56B3-4D11-BD60-FA37059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889E-9E88-48B1-AAC2-29D28F6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18D9-88E6-4E85-A701-D729D9D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DAC7-6F81-44EE-B581-C138C7AE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0806-007A-4BF1-9E20-643C7386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8A0-FAD2-4290-A70B-3A88A3D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F01-C72C-43A3-AB36-8926F9F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7AB-0473-479A-998A-266BE6E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B40-B8A4-4030-903F-A9060E4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981-F514-4C29-9869-5B7B59A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B20D-09D5-4A21-8AA7-DD9079E823CC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35D0-2920-421E-ACF7-49FE567CF309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2D63-D3A4-48E0-9C32-E1C9131BDFFE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29A-89B5-43F6-B003-10646F3C5EA0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A85-1C16-4F60-8E43-499164037D4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664-0927-461B-B550-48CE015F4BE2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AE11-7AFE-4D3A-A9DB-4CA4CEBCAC5A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76F-8F5A-43C3-B100-9112C6AB0F9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orestscene.com/Trail-Scenes/slides/Hikers-Seneca_Forest-Scene.JPG" TargetMode="External"/><Relationship Id="rId2" Type="http://schemas.openxmlformats.org/officeDocument/2006/relationships/hyperlink" Target="http://www.forestscene.com/Trail-Scenes/slides/babcocktrail-1_Forest-Scene.JPG" TargetMode="External"/><Relationship Id="rId3" Type="http://schemas.openxmlformats.org/officeDocument/2006/relationships/hyperlink" Target="http://www.publicdomainpictures.net/pictures/20000/nahled/york-city-view-11288890846P0wF.jpg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cs.wikipedia.org/wiki/August_Ferdinand_M&#246;bius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 7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18B-D362-434B-A186-9795482D34D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lick for the original image"/>
          <p:cNvPicPr/>
          <p:nvPr/>
        </p:nvPicPr>
        <p:blipFill>
          <a:blip r:embed="rId1"/>
          <a:stretch/>
        </p:blipFill>
        <p:spPr>
          <a:xfrm>
            <a:off x="395280" y="620640"/>
            <a:ext cx="6953400" cy="4680000"/>
          </a:xfrm>
          <a:prstGeom prst="rect">
            <a:avLst/>
          </a:prstGeom>
          <a:ln w="0">
            <a:noFill/>
          </a:ln>
        </p:spPr>
      </p:pic>
      <p:sp>
        <p:nvSpPr>
          <p:cNvPr id="263" name="TextovéPole 2"/>
          <p:cNvSpPr/>
          <p:nvPr/>
        </p:nvSpPr>
        <p:spPr>
          <a:xfrm>
            <a:off x="738396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7596360" y="907920"/>
            <a:ext cx="1293480" cy="148932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4"/>
          <p:cNvSpPr/>
          <p:nvPr/>
        </p:nvSpPr>
        <p:spPr>
          <a:xfrm>
            <a:off x="468360" y="580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me zde pozorovat sezónní změny, jde zde vystopovat rozvrstvení společenstva v č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ástupný symbol pro číslo snímku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498-1F26-4E60-A35A-293E0959B70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1"/>
              </a:rPr>
              <a:t>http://www.forestscene.com/Trail-Scenes/slides/Hikers-Seneca_Forest-Scene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2) obrázke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2"/>
              </a:rPr>
              <a:t>http://www.forestscene.com/Trail-Scenes/slides/babcocktrail-1_Forest-Scene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3) obrázek dostupný z </a:t>
            </a:r>
            <a:r>
              <a:rPr b="0" lang="cs-CZ" sz="16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http://www.publicdomainpictures.net/pictures/20000/nahled/york-city-view-11288890846P0wF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121-AF22-4869-B5CC-91B2B448F1B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4) obrázek dostupný z http://www.publicdomainpictures.net/pictures/20000/nahled/xuzhou-chin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5) obrázek dostupný z http://www.pdphoto.org/jons/pictures3/desert_14_bg_061403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6) obrázek dostupný z http://upload.wikimedia.org/wikipedia/commons/thumb/c/c7/Poledn%C3%ADk_%283%29.jpg/456px-Poledn%C3%ADk_%283%29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7) obrázek dostupný z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ttp://cs.wikipedia.org/wiki/Soubor:August_Ferdinand_M%C3%B6bius.png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A19-FE49-4B39-B5FE-4C12541C7D3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EKOLOGIE SPOLEČENSTEV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4617b"/>
                </a:solidFill>
                <a:latin typeface="Verdana"/>
              </a:rPr>
              <a:t>Vše, co je podle přírody, je hodno úct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Cicero Marcus Tulliu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6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6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9CA-A360-4AD2-8BE1-CB6F0A45C1B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920" y="1268280"/>
            <a:ext cx="871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součástí celku Ekologie. Je vhodný jako podpora učitele nebo jako materiál k domácímu studiu. Žáci si osvojují nové informace společně s opakováním známých faktů. Důraz je kladen na samostatné vypracování a vyvození nových vztahů poznatků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u z RVP charakterizuje vzájemné vztahy mezi organismy a populacemi, uvede příklady. Zvládne charakterizovat populace, jejich vlastnosti a vzájemné vzta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Zapamatuj si !      Poznamenej si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Odpověz na otázku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9960" indent="-217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84360" y="5516640"/>
            <a:ext cx="502920" cy="71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2916360" y="5445000"/>
            <a:ext cx="358560" cy="81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Admin\AppData\Local\Microsoft\Windows\Temporary Internet Files\Content.IE5\F3ID01WC\MC900282200[1].wmf"/>
          <p:cNvPicPr/>
          <p:nvPr/>
        </p:nvPicPr>
        <p:blipFill>
          <a:blip r:embed="rId3"/>
          <a:stretch/>
        </p:blipFill>
        <p:spPr>
          <a:xfrm>
            <a:off x="5219640" y="5516640"/>
            <a:ext cx="515880" cy="574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Admin\AppData\Local\Microsoft\Windows\Temporary Internet Files\Content.IE5\F3ID01WC\MC900282178[1].wmf"/>
          <p:cNvPicPr/>
          <p:nvPr/>
        </p:nvPicPr>
        <p:blipFill>
          <a:blip r:embed="rId4"/>
          <a:stretch/>
        </p:blipFill>
        <p:spPr>
          <a:xfrm>
            <a:off x="3708360" y="628164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POLEČENSTVO = BIOCEÓZA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rmín  zavedl v roce 1877 August Ferdinan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öbius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bd0d9"/>
                </a:solidFill>
                <a:latin typeface="Verdana"/>
              </a:rPr>
              <a:t>Vyhledej na internetu, kdo to byl? </a:t>
            </a:r>
            <a:endParaRPr b="0" lang="en-US" sz="2000" spc="-1" strike="noStrike">
              <a:solidFill>
                <a:srgbClr val="0bd0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BIOCENOLOGI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6262-E6F9-4A2A-8731-FD7112AD960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5651640" y="3933720"/>
            <a:ext cx="865080" cy="99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Admin\AppData\Local\Microsoft\Windows\Temporary Internet Files\Content.IE5\F3ID01WC\MC9002822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3284640"/>
            <a:ext cx="865440" cy="963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Soubor:August Ferdinand Möbius.png"/>
          <p:cNvPicPr/>
          <p:nvPr/>
        </p:nvPicPr>
        <p:blipFill>
          <a:blip r:embed="rId4"/>
          <a:stretch/>
        </p:blipFill>
        <p:spPr>
          <a:xfrm>
            <a:off x="7164360" y="2060640"/>
            <a:ext cx="1979640" cy="273852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7"/>
          <p:cNvSpPr/>
          <p:nvPr/>
        </p:nvSpPr>
        <p:spPr>
          <a:xfrm>
            <a:off x="85356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POLEČENSTVO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bor populací (rostlin, živočichů, hub, mikroorganismů) žijících na určeném biotop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oocenóza (společenstva měkkýšů, mravenců, prvoků v tůni..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ytocenóza (společenstvo mechů, lišejníků, jehličnanů, řas na kameni..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konité, časové a prostorové seskupení, závislé na geografických podmínkách a na ekotopu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Co je to ekotop?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37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18E-E104-4338-905E-75D7D0E5502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C:\Users\Admin\AppData\Local\Microsoft\Windows\Temporary Internet Files\Content.IE5\F3ID01WC\MC900282178[1].wmf"/>
          <p:cNvPicPr/>
          <p:nvPr/>
        </p:nvPicPr>
        <p:blipFill>
          <a:blip r:embed="rId1"/>
          <a:stretch/>
        </p:blipFill>
        <p:spPr>
          <a:xfrm>
            <a:off x="4140360" y="5373720"/>
            <a:ext cx="863280" cy="99360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6"/>
          <p:cNvSpPr/>
          <p:nvPr/>
        </p:nvSpPr>
        <p:spPr>
          <a:xfrm>
            <a:off x="5076720" y="5445000"/>
            <a:ext cx="3888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c14b0"/>
                </a:solidFill>
                <a:latin typeface="Verdana"/>
              </a:rPr>
              <a:t>Stanoviště se stejným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c14b0"/>
                </a:solidFill>
                <a:latin typeface="Verdana"/>
              </a:rPr>
              <a:t>ekologickými faktory fyzikálně - chemické povahy nebo okolí živých org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TRUKTURA SPOLEČENSTV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MINANTNÍ POPULACE – určuje ráz společenst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enstvo je stratifikováno (rozvrstveno) </a:t>
            </a:r>
            <a:r>
              <a:rPr b="0" lang="cs-CZ" sz="2800" spc="-1" strike="noStrike">
                <a:solidFill>
                  <a:srgbClr val="0b5395"/>
                </a:solidFill>
                <a:latin typeface="Verdana"/>
              </a:rPr>
              <a:t>např. „patrovitost“ lesního společenstv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TON – přechodové (hraniční) pásmo mezi jednotlivými biocenóza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enstvo v nenarušené přírodě se charakterizuje STABILITO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752-18C3-4ACB-907B-45113D70CAA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POLEČENSTV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4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IMÁRNÍ (původní)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ez zásahu a vlivu člověk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KUNDÁRNÍ (druhotná) – smrkový les, borový les, louka, pastvina, pole, .....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částečně ovlivněné člověk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NANTROPNÍ společenstva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do je nejvíce ovlivňuj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York City View"/>
          <p:cNvPicPr/>
          <p:nvPr/>
        </p:nvPicPr>
        <p:blipFill>
          <a:blip r:embed="rId1"/>
          <a:stretch/>
        </p:blipFill>
        <p:spPr>
          <a:xfrm>
            <a:off x="4788000" y="4221000"/>
            <a:ext cx="3573360" cy="237672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4"/>
          <p:cNvSpPr/>
          <p:nvPr/>
        </p:nvSpPr>
        <p:spPr>
          <a:xfrm>
            <a:off x="8391960" y="638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Xuzhou China"/>
          <p:cNvPicPr/>
          <p:nvPr/>
        </p:nvPicPr>
        <p:blipFill>
          <a:blip r:embed="rId2"/>
          <a:stretch/>
        </p:blipFill>
        <p:spPr>
          <a:xfrm>
            <a:off x="395280" y="4221000"/>
            <a:ext cx="3538440" cy="2376720"/>
          </a:xfrm>
          <a:prstGeom prst="rect">
            <a:avLst/>
          </a:prstGeom>
          <a:ln w="0">
            <a:noFill/>
          </a:ln>
        </p:spPr>
      </p:pic>
      <p:sp>
        <p:nvSpPr>
          <p:cNvPr id="248" name="TextovéPole 6"/>
          <p:cNvSpPr/>
          <p:nvPr/>
        </p:nvSpPr>
        <p:spPr>
          <a:xfrm>
            <a:off x="407088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AB7-36D4-463A-BCF4-156BAA3ADF1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://www.pdphoto.org/jons/pictures3/desert_14_bg_061403.jpg"/>
          <p:cNvPicPr/>
          <p:nvPr/>
        </p:nvPicPr>
        <p:blipFill>
          <a:blip r:embed="rId1"/>
          <a:stretch/>
        </p:blipFill>
        <p:spPr>
          <a:xfrm>
            <a:off x="250920" y="765000"/>
            <a:ext cx="3649680" cy="2735280"/>
          </a:xfrm>
          <a:prstGeom prst="rect">
            <a:avLst/>
          </a:prstGeom>
          <a:ln w="0">
            <a:noFill/>
          </a:ln>
        </p:spPr>
      </p:pic>
      <p:sp>
        <p:nvSpPr>
          <p:cNvPr id="251" name="TextovéPole 3"/>
          <p:cNvSpPr/>
          <p:nvPr/>
        </p:nvSpPr>
        <p:spPr>
          <a:xfrm>
            <a:off x="3851280" y="3141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File:Poledník (3).jpg"/>
          <p:cNvPicPr/>
          <p:nvPr/>
        </p:nvPicPr>
        <p:blipFill>
          <a:blip r:embed="rId2"/>
          <a:stretch/>
        </p:blipFill>
        <p:spPr>
          <a:xfrm>
            <a:off x="4170240" y="765000"/>
            <a:ext cx="4384800" cy="57596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5"/>
          <p:cNvSpPr/>
          <p:nvPr/>
        </p:nvSpPr>
        <p:spPr>
          <a:xfrm>
            <a:off x="8535600" y="623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Users\Admin\AppData\Local\Microsoft\Windows\Temporary Internet Files\Content.IE5\Q8L7FNA7\MC900299133[1].wmf"/>
          <p:cNvPicPr/>
          <p:nvPr/>
        </p:nvPicPr>
        <p:blipFill>
          <a:blip r:embed="rId3"/>
          <a:stretch/>
        </p:blipFill>
        <p:spPr>
          <a:xfrm>
            <a:off x="324000" y="3860640"/>
            <a:ext cx="1295280" cy="1825920"/>
          </a:xfrm>
          <a:prstGeom prst="rect">
            <a:avLst/>
          </a:prstGeom>
          <a:ln w="0">
            <a:noFill/>
          </a:ln>
        </p:spPr>
      </p:pic>
      <p:sp>
        <p:nvSpPr>
          <p:cNvPr id="255" name="TextovéPole 7"/>
          <p:cNvSpPr/>
          <p:nvPr/>
        </p:nvSpPr>
        <p:spPr>
          <a:xfrm>
            <a:off x="1763640" y="4221000"/>
            <a:ext cx="2160720" cy="916920"/>
          </a:xfrm>
          <a:prstGeom prst="rect">
            <a:avLst/>
          </a:pr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terém obrázku je půvo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enstv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A374-F4EF-4A7C-AEB5-14BFB977D3F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lick for the original image"/>
          <p:cNvPicPr/>
          <p:nvPr/>
        </p:nvPicPr>
        <p:blipFill>
          <a:blip r:embed="rId1"/>
          <a:stretch/>
        </p:blipFill>
        <p:spPr>
          <a:xfrm>
            <a:off x="395280" y="620640"/>
            <a:ext cx="6985080" cy="470232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2"/>
          <p:cNvSpPr/>
          <p:nvPr/>
        </p:nvSpPr>
        <p:spPr>
          <a:xfrm>
            <a:off x="7455240" y="486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3"/>
          <p:cNvSpPr/>
          <p:nvPr/>
        </p:nvSpPr>
        <p:spPr>
          <a:xfrm>
            <a:off x="61128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aném obrázku urči, co je stromové patro, keřové patro, bylinné patro či patro mechové. Nachází se zde EKOTON? Ur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C:\Users\Admin\AppData\Local\Microsoft\Windows\Temporary Internet Files\Content.IE5\F3ID01WC\MC900282178[1].wmf"/>
          <p:cNvPicPr/>
          <p:nvPr/>
        </p:nvPicPr>
        <p:blipFill>
          <a:blip r:embed="rId2"/>
          <a:stretch/>
        </p:blipFill>
        <p:spPr>
          <a:xfrm>
            <a:off x="7596360" y="907920"/>
            <a:ext cx="1293480" cy="1489320"/>
          </a:xfrm>
          <a:prstGeom prst="rect">
            <a:avLst/>
          </a:prstGeom>
          <a:ln w="0">
            <a:noFill/>
          </a:ln>
        </p:spPr>
      </p:pic>
      <p:sp>
        <p:nvSpPr>
          <p:cNvPr id="261" name="Zástupný symbol pro číslo snímku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B9A-1A9D-4E2A-8D7C-42435F2E7C1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Magda</cp:lastModifiedBy>
  <dcterms:modified xsi:type="dcterms:W3CDTF">2013-07-23T14:34:15Z</dcterms:modified>
  <cp:revision>19</cp:revision>
  <dc:subject/>
  <dc:title>Snímek 1</dc:title>
</cp:coreProperties>
</file>