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B67-F280-411B-97FE-0EBC3971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A74-CC1B-4A8D-81F2-250AFDB6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0C9-02BA-4AA8-BCD8-58123F16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1A4-D345-44C2-AA1D-DC6B3386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1A82-3CFC-4DD5-BCBA-B2C68FC6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A7B2-2A93-4FF3-8CAC-35C1E016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0B6E-F692-41E5-BF3B-490ADAC3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E358-4AFD-443A-A4E5-9585A936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3D80-2FD5-4606-AE97-24C7F1C9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9E02-9594-4B55-9F20-92E58B86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E954-D9E9-4AEC-A00D-69A8FDD1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F47-9BB2-46B8-BAF5-951A955B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D2B6-674F-4A62-B500-B7D4FF72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EA57-9ACE-4E1E-A7A4-5CF9A2DA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AA90-C845-4059-AE85-ABF39EE9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4679-9449-4691-B66A-EA765F06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7A3D-C776-43E1-B0AA-DE5A28B7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03186-2564-4329-90D7-BB5E2FB8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D89E4-E305-4B50-B619-9F2914CA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304E4-270E-4C4F-8A6A-39FC2B44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A3B44-4E55-4D53-B1DD-3661D858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FA2A5-956F-4386-997F-B14E3D9A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030-9F00-4030-B47C-122488B9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DB328-0B3C-4558-82A5-614FD9F4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95173-CB2D-48EF-8778-4AAD8B12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ADA37-8B14-477E-9BE4-DADA6E33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434FD-9702-484B-900E-F4821960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7716B-9E9B-4B59-AD11-FC10FCF8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4083D-F73C-4231-B673-1C6E9617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B011C-43CF-42D8-BE21-1F63AEE7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0C750-B93B-4D5C-A997-F5FDC5B5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A747E-DD9B-45EB-BB0F-6A044847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CCA72-3A71-4DBF-B08B-348E4ACB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E66-418E-4CB1-A00E-B56135DC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DF573-9316-4AFE-9A4D-AEFEA768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363F-B687-4F94-924B-2865D571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1B5C-1C92-4DF8-8E85-1DE38979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9DF3F-3AC2-41AB-A104-4C86329F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D1A36-0660-4029-AC0A-874DE6BE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68DD-ACE5-4784-BECD-A20F57A1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18761-65DA-4326-8511-B84BA02E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52318-3642-4C0D-ABAC-8CF8A52D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4A5DE-1CB4-4F8A-986C-103D3489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4E2-0BB4-4E62-B5B8-5854D478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20F-FE84-40F3-8593-D2F92AEB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C31-7710-41D0-9E23-3BE26D3D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F2B-EED2-427D-BB2C-FBD55312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4A8-B701-4D26-8281-D34402B0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05A7-9461-48AD-98F6-DAD2FE216D21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9710-BCCF-4B3E-9CEC-E9571F31C7A2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4F76-7F6A-4E16-BD88-732AAFB718C3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616F-0874-4A34-84C7-549A8A6E502C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C0C2-D7A0-4C8F-AF2C-3761BCDCAB0A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CBFB-0747-45E8-A398-90E53E1DC640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B223-A00E-4DC2-AAFF-C9FDE7B34D38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B728-1A11-40DE-BC0A-552F98E1CF8C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hyperlink" Target="http://cs.wikipedia.org/wiki/Justus_von_Liebig" TargetMode="External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s://www.youtube.com/watch?v=s3OQukee4JE" TargetMode="External"/><Relationship Id="rId3" Type="http://schemas.openxmlformats.org/officeDocument/2006/relationships/image" Target="../media/image4.wmf"/><Relationship Id="rId4" Type="http://schemas.openxmlformats.org/officeDocument/2006/relationships/hyperlink" Target="https://www.youtube.com/watch?v=nowAo8Xpb3E" TargetMode="External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C:\Users\Admin\Documents\JANA\DUMY\logo dumy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68360" y="1700280"/>
          <a:ext cx="8442360" cy="5151240"/>
        </p:xfrm>
        <a:graphic>
          <a:graphicData uri="http://schemas.openxmlformats.org/drawingml/2006/table">
            <a:tbl>
              <a:tblPr/>
              <a:tblGrid>
                <a:gridCol w="4390920"/>
                <a:gridCol w="4051440"/>
              </a:tblGrid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ymnázium Fr.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logie pro 4. ročník SŠ a odpovídající ročník víceletého gymnáz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k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 Jana Pastuch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9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71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íme se pro život v 21. století 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BI.PS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8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7ECE-F4EC-4294-BB8B-80785B13CBB7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ANTROPOGENNÍ OVLIVNĚNÍ PŮDY 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280" y="4581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„ 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Lidé by měli vědět o přírodě.. ne příroda o lidech.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         </a:t>
            </a:r>
            <a:r>
              <a:rPr b="0" lang="cs-CZ" sz="2400" spc="-1" strike="noStrike">
                <a:solidFill>
                  <a:srgbClr val="04617b"/>
                </a:solidFill>
                <a:latin typeface="Verdana"/>
              </a:rPr>
              <a:t>(Lennyczka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nota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560" y="980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ateriál lze využít v počítačové učebně nebo v odborné učebně s připojením k internetu. Umožňuje žákům pracovat samostatně s využitím internetu a odborné literatury nebo umožňuje učiteli formou výkladu motivovat pro další domácí studium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vládající klíčové kompetence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etence k učení, kompetence k řešení problémů, kompetence občanské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kolní vzdělávací program pro čtyřleté studium – čtvrtý ročník (případně odpovídající ročníky víceletého studia) – učební osnovy BIOLOGIE – Ekologie, seminář z biologie. Podle výstupů z RVP uvede základní znečišťovatele půdy a navrhne opatření. Dle průřezových témat označí důsledky znečišťování půdy a chápe jej jako ekologický problém.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Formy výuky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Uvědomění probíhá studiem článků a poslechem pořadů, ve kterých odborníci vysvětlují daná témata a vyhledáváním pojmů a vztahů pomocí internetu. Materiál lze využít s pomocí PC, nutné je připojení na internet s audio výstupem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užití symbolů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:              Zapamatuj si !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Poznamenej si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dívej se na video.             Najdi na internetu.          Odpověz n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otázk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2771640" y="5373720"/>
            <a:ext cx="561960" cy="792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6372360" y="5157720"/>
            <a:ext cx="358560" cy="812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:\Users\Admin\AppData\Local\Microsoft\Windows\Temporary Internet Files\Content.IE5\2AT3ADVM\MC900291016[1].wmf"/>
          <p:cNvPicPr/>
          <p:nvPr/>
        </p:nvPicPr>
        <p:blipFill>
          <a:blip r:embed="rId3"/>
          <a:stretch/>
        </p:blipFill>
        <p:spPr>
          <a:xfrm>
            <a:off x="179280" y="5877000"/>
            <a:ext cx="579600" cy="600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C:\Users\Admin\AppData\Local\Microsoft\Windows\Temporary Internet Files\Content.IE5\UTJF7CS0\MC900298305[1].wm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48000" y="6093000"/>
            <a:ext cx="432000" cy="525240"/>
          </a:xfrm>
          <a:prstGeom prst="rect">
            <a:avLst/>
          </a:prstGeom>
          <a:ln w="0">
            <a:noFill/>
          </a:ln>
        </p:spPr>
      </p:pic>
      <p:sp>
        <p:nvSpPr>
          <p:cNvPr id="227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3424-390F-43BC-8DF8-65819D2A02A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C:\Users\Admin\AppData\Local\Microsoft\Windows\Temporary Internet Files\Content.IE5\F3ID01WC\MC900282178[1].wmf"/>
          <p:cNvPicPr/>
          <p:nvPr/>
        </p:nvPicPr>
        <p:blipFill>
          <a:blip r:embed="rId6"/>
          <a:stretch/>
        </p:blipFill>
        <p:spPr>
          <a:xfrm>
            <a:off x="6516720" y="6021360"/>
            <a:ext cx="500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Půda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268280"/>
            <a:ext cx="822960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..je základní anorganická složka příro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..systém živých a neživých součástí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CFB4-67C0-4AE3-9637-8489C794B38A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Diagram 4" descr=""/>
          <p:cNvPicPr/>
          <p:nvPr/>
        </p:nvPicPr>
        <p:blipFill>
          <a:blip r:embed="rId1"/>
          <a:stretch/>
        </p:blipFill>
        <p:spPr>
          <a:xfrm>
            <a:off x="1695600" y="2408400"/>
            <a:ext cx="7051680" cy="4273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Users\Admin\AppData\Local\Microsoft\Windows\Temporary Internet Files\Content.IE5\Q8L7FNA7\MC900299133[1].wmf"/>
          <p:cNvPicPr/>
          <p:nvPr/>
        </p:nvPicPr>
        <p:blipFill>
          <a:blip r:embed="rId2"/>
          <a:stretch/>
        </p:blipFill>
        <p:spPr>
          <a:xfrm>
            <a:off x="826920" y="3284640"/>
            <a:ext cx="108108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Bilance půdy v ČR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2C67-AAE2-4763-B72F-94F497818C96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Graf 4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6197760" cy="4165920"/>
          </a:xfrm>
          <a:prstGeom prst="rect">
            <a:avLst/>
          </a:prstGeom>
          <a:ln w="0">
            <a:noFill/>
          </a:ln>
        </p:spPr>
      </p:pic>
      <p:sp>
        <p:nvSpPr>
          <p:cNvPr id="237" name="TextovéPole 5"/>
          <p:cNvSpPr/>
          <p:nvPr/>
        </p:nvSpPr>
        <p:spPr>
          <a:xfrm>
            <a:off x="3583080" y="544500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kem 78 870 k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ovéPole 7"/>
          <p:cNvSpPr/>
          <p:nvPr/>
        </p:nvSpPr>
        <p:spPr>
          <a:xfrm>
            <a:off x="611280" y="587700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droj:ŠLÉGL, Jiří, František KISLINGER a Jana LANÍKOVÁ. 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Ekologie a ochrana životního prostřed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: 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gymnázi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Vyd. 1. Praha: Fortuna, 2002, s.10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Hlavní znečišťující faktory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341000"/>
            <a:ext cx="71391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inerální hnoji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Zasolování půd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Vyplavování hnojiv do vody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estici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DDT, HCH (kumulace v organismech)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iné kontaminan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Imise (Cd, Hg, Pb, Cr)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Srážky (SO</a:t>
            </a:r>
            <a:r>
              <a:rPr b="0" lang="cs-CZ" sz="2400" spc="-1" strike="noStrike" baseline="-25000">
                <a:solidFill>
                  <a:srgbClr val="0f6fc6"/>
                </a:solidFill>
                <a:latin typeface="Verdana"/>
              </a:rPr>
              <a:t>2 </a:t>
            </a: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a No</a:t>
            </a:r>
            <a:r>
              <a:rPr b="0" lang="cs-CZ" sz="2400" spc="-1" strike="noStrike" baseline="-25000">
                <a:solidFill>
                  <a:srgbClr val="0f6fc6"/>
                </a:solidFill>
                <a:latin typeface="Verdana"/>
              </a:rPr>
              <a:t>x</a:t>
            </a: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alší poškozování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Eroze 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Zhutněné půdy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F91C-A8EF-49FE-B937-5CDC358427A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ovéPole 6"/>
          <p:cNvSpPr/>
          <p:nvPr/>
        </p:nvSpPr>
        <p:spPr>
          <a:xfrm>
            <a:off x="5292720" y="5445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 můžeme pomoci proti erozi my, např. v Etiopi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7380360" y="765000"/>
            <a:ext cx="576360" cy="1305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C:\Users\Admin\AppData\Local\Microsoft\Windows\Temporary Internet Files\Content.IE5\2AT3ADVM\MC900291016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80360" y="2997360"/>
            <a:ext cx="863640" cy="895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C:\Users\Admin\AppData\Local\Microsoft\Windows\Temporary Internet Files\Content.IE5\2AT3ADVM\MC900291016[1].wm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00720" y="5157720"/>
            <a:ext cx="8632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Jaké jsou možnosti řešení?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kologická optimalizace hospodaření v krajin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2960" indent="-21636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Docenění biokoridorů (remízky,stromořadí...)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12960" indent="-21636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Střídání plodin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12960" indent="-21636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Zamezení monokultur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dukce zdravých potrav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2960" indent="-21636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Rozumné dávkování hnojiv, pesticidů, fungicidů,...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sažení vyrovnaného stavu pů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2960" indent="-21636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Pravidelné vápnění půdy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12960" indent="-21636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Zabránění erozi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držování biologických a etických principů chovu hospodářských zvíř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11FD-0D65-44A7-908B-641531D8177A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7667640" y="3500280"/>
            <a:ext cx="5763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Otázky pro samostudium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28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ým způsobem ovlivňuje edafon úrodnost půd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520" indent="-2350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520" indent="-2350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á protierozní opatření lze provést na svažitém pozemky v blízkosti vodního tok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520" indent="-2350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520" indent="-2350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jděte a pojmenujte hlavní ekologické nedostatky ve velkochovu slepi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AB09-8705-4171-B16A-978F0C2BCDD1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C:\Users\Admin\AppData\Local\Microsoft\Windows\Temporary Internet Files\Content.IE5\F3ID01WC\MC900282178[1].wmf"/>
          <p:cNvPicPr/>
          <p:nvPr/>
        </p:nvPicPr>
        <p:blipFill>
          <a:blip r:embed="rId1"/>
          <a:stretch/>
        </p:blipFill>
        <p:spPr>
          <a:xfrm>
            <a:off x="7524720" y="1052640"/>
            <a:ext cx="812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O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9528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ERGER, Josef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České Budějovice: Kopp, 1998, 197 s. ISBN 80-723-2013-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ČERVINKA, Pavel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životní prostředí: učebnice pro střední odborné školy a učiliště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Praha: Nakladatelství České geografické společnosti, 2005, 118 s. ISBN 80-860-3463-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LÉGL, Jiří, František KISLINGER a Jana LANÍKOVÁ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ochrana životního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 gymnáz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Vyd. 1. Praha: Fortuna, 2002, 157 s. ISBN 80-716-8828-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5559-DC43-4632-A08D-5F163FE51A39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5:36:48Z</dcterms:created>
  <dc:creator>Admin</dc:creator>
  <dc:description/>
  <dc:language>en-US</dc:language>
  <cp:lastModifiedBy>Konetzná Magda</cp:lastModifiedBy>
  <dcterms:modified xsi:type="dcterms:W3CDTF">2013-09-20T08:35:47Z</dcterms:modified>
  <cp:revision>41</cp:revision>
  <dc:subject/>
  <dc:title>Snímek 1</dc:title>
</cp:coreProperties>
</file>