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8930-6E32-4C27-97F5-262554642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F52F-3BF4-494F-8AB6-6CCDAC2C3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D5B-5B9F-4F08-A8F8-8FA703FE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F75-DB6B-4823-A523-4F57DCA7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3A1-A819-4804-810A-40CE0260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6AD-4AD9-49D3-B85B-63C6BA34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7A0F-FDE9-400F-8D17-0457D334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0108-B17C-4D3D-B3CE-89AA3948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B920-93BC-4201-841A-06557451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88C1-1B21-44AF-9157-8349B9D6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CE18-936A-46C9-A79E-4944E8DD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A628-2944-40CA-A195-EDFAA247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5A80-BF34-4CCB-A592-E4B9EB24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8FF-87BF-4B54-9D28-E8C37AE5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F468-372C-426A-89EA-E9F3D390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31A7-FE5A-4705-A039-B5B87C3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4C61-D620-4900-8BF8-47546057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0010-2811-44A9-ACF8-3FF68694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F4FF-0228-4492-86B6-FDC917B7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FA3A2-68EE-42BC-8D9B-FD00A127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DBB46-0621-4C2F-B4B9-F701C34B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E6168-94B0-4D7C-8458-F1701113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C496C-7139-419D-A865-4B7554E4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7A369-26BB-400D-A10D-8101656D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4CF-12C2-4B3B-92FB-7B1ECCF0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AF6AD-8143-4806-A3BA-AB1EEACE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D210B-EEC1-4C63-B6E4-87789CB1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B7EAF-CEC6-4F2A-93CB-A59B550B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7D391-3D75-4E04-B1D0-5051C6A8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6312C-C6E5-442C-9F7A-7B4B5677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DB9C2-F038-4E08-ADB5-AFD87275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90052-A274-4C29-BB09-60A44C8C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61B6-33D0-46AA-A0D4-6690A4C3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AD3C-BAB5-4DDD-8EFF-9E2BDB39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87061-A705-4B53-80EB-7A287624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8CA-C180-417B-AD68-D27B576B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E267E-E5CF-4736-89CB-EF5D9791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42D62-020D-4AD0-BD7C-59DDC011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8A4A-06B9-4F30-857C-7C0A3872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0182C-A2E2-4EA4-B0F2-37FC95A6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ECE9F-93E5-4ED8-B3A0-C9BD73E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C6FED-0165-4C9D-B936-DECADCC8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29AEB-2324-461E-A2A3-45DCCA83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87DD-B7F8-466B-9607-B8E0DB95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9305-8177-4781-A636-E0A2FD5E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D1A-C7CF-4266-BEF5-A5DD6509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4E7-F1AE-47E7-8BBD-6D56B295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CE0-35DB-4441-8CAA-866C320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135-90F7-4A28-BBE0-0B0A8034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0C7-8633-4239-84B9-B3B7B2D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6E4B-AB23-4454-9426-F8C7C5C98B8B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FD37-5D37-42C7-B8F0-02EFBE21DA51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5C10-4946-442A-B279-7F5C2C23FA1D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9CA1-91F5-4D36-8B34-1D0488BD36DE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DAD9-B4F1-42EB-9C47-E689B3978E33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03F2-BD04-4F62-B5E2-12E58035A155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AB0B-651A-411F-A746-78404F58CFDF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EB1D-0AF0-44CB-A5F5-000E9385FE2D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Kolob&#283;h_uhl&#237;ku" TargetMode="External"/><Relationship Id="rId2" Type="http://schemas.openxmlformats.org/officeDocument/2006/relationships/image" Target="../media/image5.wmf"/><Relationship Id="rId3" Type="http://schemas.openxmlformats.org/officeDocument/2006/relationships/hyperlink" Target="http://www.youtube.com/watch?v=E5KJJqiger8" TargetMode="External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8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5" name="Zástupný symbol pro číslo snímku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0B5E-38B8-41FE-A69A-9BBF7E1D11BE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528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o Obr 1) použitý podklad dostupný z: http://cs.wikipedia.org/wiki/Soubor:The_Earth_seen_from_Apollo_17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online]. [cit. 2013-06-05]. Dostupné z: http://www.vitejtenazemi.cz/hry/vzduch/kolobeh_kysliku/index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E9F5-C5BD-4F99-9BC8-516CE5CDB8B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BIOSFÉRA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4000" y="443664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„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Člověk je nešťastný proto, že nerozumí přírodě.“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       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(PAUL-HENRI THIRY, BARON D'HOLBAC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6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29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2987640" y="5445000"/>
            <a:ext cx="503280" cy="711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5508720" y="5373720"/>
            <a:ext cx="350640" cy="79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324000" y="6053040"/>
            <a:ext cx="779400" cy="804960"/>
          </a:xfrm>
          <a:prstGeom prst="rect">
            <a:avLst/>
          </a:prstGeom>
          <a:ln w="0">
            <a:noFill/>
          </a:ln>
        </p:spPr>
      </p:pic>
      <p:sp>
        <p:nvSpPr>
          <p:cNvPr id="232" name="Zástupný symbol pro číslo snímku 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9D1B-239D-4EDF-948A-2C4E6FA1E1F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C:\Users\Admin\AppData\Local\Microsoft\Windows\Temporary Internet Files\Content.IE5\2AT3ADVM\MC900282200[1].wmf"/>
          <p:cNvPicPr/>
          <p:nvPr/>
        </p:nvPicPr>
        <p:blipFill>
          <a:blip r:embed="rId4"/>
          <a:stretch/>
        </p:blipFill>
        <p:spPr>
          <a:xfrm>
            <a:off x="3492360" y="6154560"/>
            <a:ext cx="631800" cy="703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0" y="981000"/>
            <a:ext cx="896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Materiál je součástí celku EKOLOGIE pro čtvrtý ročník čtyřletého a osmý ročník osmiletého studia. V materiálu je využit portál Vítejte na Zemi...Žáci si během samostudia a hry prověří znalosti o toku látek a doplní si nové informace. Kliknutím na ikonu se automaticky připojí na danou internetovou stránku. 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6680" indent="-2426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občanské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6680" indent="-2426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ů z RV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6680" indent="-2426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píše biosféru a její členění. Porozumí, jak probíhá tok energie a látek v biosféř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6680" indent="-2426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formou práce s ineraktivním materiálem a vyhledáváním pojmů a vztahů pomocí internetu či samostatnou prací v učebně PC. Materiál lze využít s pomocí PC a dataprojektoru, nutné je připojení na intern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6680" indent="-24264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Najdi na internetu.       Odpověz na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otázku.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8" descr="C:\Users\Admin\AppData\Local\Microsoft\Windows\Temporary Internet Files\Content.IE5\F3ID01WC\MC900282178[1].wmf"/>
          <p:cNvPicPr/>
          <p:nvPr/>
        </p:nvPicPr>
        <p:blipFill>
          <a:blip r:embed="rId5"/>
          <a:stretch/>
        </p:blipFill>
        <p:spPr>
          <a:xfrm>
            <a:off x="6084720" y="6093000"/>
            <a:ext cx="5004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ÚKOL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tvořte pětilístek na téma BIOSFÉ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DD3F-DA03-4592-98B5-F8D87C34364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iagram 5" descr=""/>
          <p:cNvPicPr/>
          <p:nvPr/>
        </p:nvPicPr>
        <p:blipFill>
          <a:blip r:embed="rId1"/>
          <a:stretch/>
        </p:blipFill>
        <p:spPr>
          <a:xfrm>
            <a:off x="1474920" y="2408400"/>
            <a:ext cx="7224480" cy="4089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1258920" y="2421000"/>
            <a:ext cx="8636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ÚKOL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tvořte pětilístek na téma BIOSFÉ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A765-E32A-4804-B5AA-97BBB8D9ADB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Diagram 5" descr=""/>
          <p:cNvPicPr/>
          <p:nvPr/>
        </p:nvPicPr>
        <p:blipFill>
          <a:blip r:embed="rId1"/>
          <a:stretch/>
        </p:blipFill>
        <p:spPr>
          <a:xfrm>
            <a:off x="1474920" y="2408400"/>
            <a:ext cx="72244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ÁKLADNÍ ÚDA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40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ubor všech živých suchozemských a vodních ekosystémů na Zem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AL ZEMĚ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last existence živé hmo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ELKOVÁ BIOMASA = </a:t>
            </a:r>
            <a:r>
              <a:rPr b="1" lang="cs-CZ" sz="2800" spc="-1" strike="noStrike">
                <a:solidFill>
                  <a:srgbClr val="ff0000"/>
                </a:solidFill>
                <a:latin typeface="Verdana"/>
              </a:rPr>
              <a:t>2,4 biliónů 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ásti biosféry jso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BIOMY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BIOCENÓZY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EKOSYSTÉMY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KRAJINY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24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593D-60A0-4881-BFA1-2F46ABE8B71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956720" y="765000"/>
            <a:ext cx="8632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Zástupný symbol pro číslo snímku 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523B-AF83-46B7-BA49-C31BD7102C2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Soubor:The Earth seen from Apollo 17.jpg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ovéPole 3"/>
          <p:cNvSpPr/>
          <p:nvPr/>
        </p:nvSpPr>
        <p:spPr>
          <a:xfrm>
            <a:off x="6878160" y="6488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Vývojový diagram: spojka 8"/>
          <p:cNvSpPr/>
          <p:nvPr/>
        </p:nvSpPr>
        <p:spPr>
          <a:xfrm>
            <a:off x="1042920" y="907920"/>
            <a:ext cx="2158920" cy="2016360"/>
          </a:xfrm>
          <a:prstGeom prst="flowChartConnector">
            <a:avLst/>
          </a:prstGeom>
          <a:gradFill rotWithShape="0">
            <a:gsLst>
              <a:gs pos="0">
                <a:srgbClr val="c6ffff"/>
              </a:gs>
              <a:gs pos="100000">
                <a:srgbClr val="2effff"/>
              </a:gs>
            </a:gsLst>
            <a:lin ang="5400000"/>
          </a:gradFill>
          <a:ln w="10080">
            <a:solidFill>
              <a:srgbClr val="0bd0d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ydrosfé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Vývojový diagram: spojka 4"/>
          <p:cNvSpPr/>
          <p:nvPr/>
        </p:nvSpPr>
        <p:spPr>
          <a:xfrm>
            <a:off x="3708360" y="836640"/>
            <a:ext cx="2160720" cy="2016000"/>
          </a:xfrm>
          <a:prstGeom prst="flowChartConnector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5400000"/>
          </a:gradFill>
          <a:ln w="10080">
            <a:solidFill>
              <a:srgbClr val="0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edosfé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Vývojový diagram: spojka 9"/>
          <p:cNvSpPr/>
          <p:nvPr/>
        </p:nvSpPr>
        <p:spPr>
          <a:xfrm>
            <a:off x="2556000" y="2276640"/>
            <a:ext cx="2160360" cy="2016000"/>
          </a:xfrm>
          <a:prstGeom prst="flowChartConnector">
            <a:avLst/>
          </a:prstGeom>
          <a:gradFill rotWithShape="0">
            <a:gsLst>
              <a:gs pos="0">
                <a:srgbClr val="edfdcf"/>
              </a:gs>
              <a:gs pos="100000">
                <a:srgbClr val="c9f852"/>
              </a:gs>
            </a:gsLst>
            <a:lin ang="5400000"/>
          </a:gradFill>
          <a:ln w="10080">
            <a:solidFill>
              <a:srgbClr val="a5c24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iosfé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Vývojový diagram: spojka 10"/>
          <p:cNvSpPr/>
          <p:nvPr/>
        </p:nvSpPr>
        <p:spPr>
          <a:xfrm>
            <a:off x="2556000" y="4292640"/>
            <a:ext cx="2158920" cy="201600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tmosfé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Přímá spojovací šipka 19"/>
          <p:cNvCxnSpPr/>
          <p:nvPr/>
        </p:nvCxnSpPr>
        <p:spPr>
          <a:xfrm>
            <a:off x="3132000" y="1773000"/>
            <a:ext cx="72000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7" name="Přímá spojovací šipka 21"/>
          <p:cNvCxnSpPr/>
          <p:nvPr/>
        </p:nvCxnSpPr>
        <p:spPr>
          <a:xfrm>
            <a:off x="1979640" y="2997360"/>
            <a:ext cx="720000" cy="1512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8" name="Přímá spojovací šipka 23"/>
          <p:cNvCxnSpPr/>
          <p:nvPr/>
        </p:nvCxnSpPr>
        <p:spPr>
          <a:xfrm flipH="1">
            <a:off x="4642920" y="2997000"/>
            <a:ext cx="434160" cy="1369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9" name="Přímá spojovací šipka 25"/>
          <p:cNvCxnSpPr/>
          <p:nvPr/>
        </p:nvCxnSpPr>
        <p:spPr>
          <a:xfrm>
            <a:off x="2484000" y="2349360"/>
            <a:ext cx="57708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0" name="Přímá spojovací šipka 27"/>
          <p:cNvCxnSpPr/>
          <p:nvPr/>
        </p:nvCxnSpPr>
        <p:spPr>
          <a:xfrm flipH="1">
            <a:off x="3923640" y="2205000"/>
            <a:ext cx="64980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1" name="Přímá spojovací šipka 29"/>
          <p:cNvCxnSpPr/>
          <p:nvPr/>
        </p:nvCxnSpPr>
        <p:spPr>
          <a:xfrm>
            <a:off x="3634920" y="3860640"/>
            <a:ext cx="1080" cy="93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2" name="TextovéPole 14"/>
          <p:cNvSpPr/>
          <p:nvPr/>
        </p:nvSpPr>
        <p:spPr>
          <a:xfrm>
            <a:off x="7093080" y="1125360"/>
            <a:ext cx="205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k chápeš  tento dia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o j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ydrosfé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edosfé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tmosfé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iosfé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C:\Users\Admin\AppData\Local\Microsoft\Windows\Temporary Internet Files\Content.IE5\F3ID01WC\MC900282178[1].wmf"/>
          <p:cNvPicPr/>
          <p:nvPr/>
        </p:nvPicPr>
        <p:blipFill>
          <a:blip r:embed="rId2"/>
          <a:stretch/>
        </p:blipFill>
        <p:spPr>
          <a:xfrm>
            <a:off x="7451640" y="3933720"/>
            <a:ext cx="8654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TOK ENERGI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UNCE – základní zdroj energ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vod energie slunečního záření na energii tepeln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Přímý ohřev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Zahřívání biotopů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Důsledky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bd0d9"/>
                </a:solidFill>
                <a:latin typeface="Verdana"/>
              </a:rPr>
              <a:t>Koloběh vody, pohyb vzduchu, teplota půdy </a:t>
            </a:r>
            <a:endParaRPr b="0" lang="en-US" sz="2000" spc="-1" strike="noStrike">
              <a:solidFill>
                <a:srgbClr val="0bd0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Nepřímo, „cestou života“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Fotosyntéze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Rozklad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B800-21C4-4D4C-A467-F85690092EA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740720" y="1052640"/>
            <a:ext cx="8636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TOK LÁTEK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Verdana"/>
              </a:rPr>
              <a:t>CYKLUS UHLÍ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Verdana"/>
              </a:rPr>
              <a:t>CYKLUS DUSÍ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Verdana"/>
              </a:rPr>
              <a:t>KOLOBĚH KYSLÍ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YKUS FOSFO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YKLUS SÍ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Verdana"/>
              </a:rPr>
              <a:t>KOLOBĚH V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E2DB-DA4F-4AD9-8BBA-081D8FD3120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C:\Users\Admin\AppData\Local\Microsoft\Windows\Temporary Internet Files\Content.IE5\2AT3ADVM\MC900282200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2060640"/>
            <a:ext cx="631800" cy="703080"/>
          </a:xfrm>
          <a:prstGeom prst="rect">
            <a:avLst/>
          </a:prstGeom>
          <a:ln w="0">
            <a:noFill/>
          </a:ln>
        </p:spPr>
      </p:pic>
      <p:sp>
        <p:nvSpPr>
          <p:cNvPr id="272" name="TextovéPole 5"/>
          <p:cNvSpPr/>
          <p:nvPr/>
        </p:nvSpPr>
        <p:spPr>
          <a:xfrm>
            <a:off x="4859280" y="2060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studuj koloběh uhlíku a koloběh dusí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C:\Users\Admin\AppData\Local\Microsoft\Windows\Temporary Internet Files\Content.IE5\2AT3ADVM\MC900291016[1].wm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5589720"/>
            <a:ext cx="936720" cy="966600"/>
          </a:xfrm>
          <a:prstGeom prst="rect">
            <a:avLst/>
          </a:prstGeom>
          <a:ln w="0">
            <a:noFill/>
          </a:ln>
        </p:spPr>
      </p:pic>
      <p:sp>
        <p:nvSpPr>
          <p:cNvPr id="274" name="TextovéPole 7"/>
          <p:cNvSpPr/>
          <p:nvPr/>
        </p:nvSpPr>
        <p:spPr>
          <a:xfrm>
            <a:off x="1565280" y="602136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ívej se na videa o vo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7" descr="C:\Users\Admin\AppData\Local\Microsoft\Windows\Temporary Internet Files\Content.IE5\2AT3ADVM\MC900291016[1].wmf"/>
          <p:cNvPicPr/>
          <p:nvPr/>
        </p:nvPicPr>
        <p:blipFill>
          <a:blip r:embed="rId5"/>
          <a:stretch/>
        </p:blipFill>
        <p:spPr>
          <a:xfrm>
            <a:off x="4572000" y="3357720"/>
            <a:ext cx="906480" cy="934920"/>
          </a:xfrm>
          <a:prstGeom prst="rect">
            <a:avLst/>
          </a:prstGeom>
          <a:ln w="0">
            <a:noFill/>
          </a:ln>
        </p:spPr>
      </p:pic>
      <p:sp>
        <p:nvSpPr>
          <p:cNvPr id="276" name="TextovéPole 9"/>
          <p:cNvSpPr/>
          <p:nvPr/>
        </p:nvSpPr>
        <p:spPr>
          <a:xfrm>
            <a:off x="5508720" y="3429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 víš o koloběhu kyslíku? Zahraj si a dovíš se víc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C:\Users\Admin\AppData\Local\Microsoft\Windows\Temporary Internet Files\Content.IE5\2AT3ADVM\MC900291016[1].wmf"/>
          <p:cNvPicPr/>
          <p:nvPr/>
        </p:nvPicPr>
        <p:blipFill>
          <a:blip r:embed="rId6"/>
          <a:stretch/>
        </p:blipFill>
        <p:spPr>
          <a:xfrm>
            <a:off x="4788000" y="5589720"/>
            <a:ext cx="936360" cy="966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C:\Users\Admin\AppData\Local\Microsoft\Windows\Temporary Internet Files\Content.IE5\2AT3ADVM\MC900282200[1].wmf"/>
          <p:cNvPicPr/>
          <p:nvPr/>
        </p:nvPicPr>
        <p:blipFill>
          <a:blip r:embed="rId7"/>
          <a:stretch/>
        </p:blipFill>
        <p:spPr>
          <a:xfrm>
            <a:off x="5724360" y="2421000"/>
            <a:ext cx="63216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Konetzná Magda</cp:lastModifiedBy>
  <dcterms:modified xsi:type="dcterms:W3CDTF">2013-10-24T10:20:39Z</dcterms:modified>
  <cp:revision>35</cp:revision>
  <dc:subject/>
  <dc:title>Snímek 1</dc:title>
</cp:coreProperties>
</file>