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6C0-49F4-4803-AE79-949E3572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363-1F16-4A09-9A4A-71C6925F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BCA-AFFF-444A-8F67-00D5241C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019-A405-4E83-AB63-C6C6896B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286F-49D6-40E5-956C-8EB5FE0A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8963-6EB4-484C-BB4D-48494983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E7B6-D4A5-4416-B035-7AC48C03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6B26-68A0-4617-957B-7DEB7EA1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0ACA-814D-434F-958A-DFE77EAA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E44F-3959-4472-ACFB-05C1779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6DBE-351A-43D3-A641-DF95D15F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923-B5FF-496F-B86F-354EEBB1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9E52-3DD0-4AFD-BBB4-99723D0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D85C-B471-4398-8C67-D1C2B7D0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1B0B-0DB7-4318-A707-11582DBE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7E09-5B4C-4992-ABC9-4E0906D6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C6A-0B3A-4F2B-80CF-B7CA09F4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5EDAD-B956-478F-A9F1-2624B48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B465E-AB38-46C2-BCB0-42C17A2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EF748-4D74-4225-8233-012F2B42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257C1-BF50-4BCA-833A-BF7CEED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785F3-AC80-4B5E-9DBD-CD17AC38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E94-852C-41E1-93E1-B51E3269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1E46B-96BF-499D-A9C9-823074EC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C30AE-AB04-4679-8457-D2A19CE3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8CBF4-E3A8-4CCE-8A39-E933FF0D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7500B-3D9F-49E1-8081-260C5B77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27820-3860-43F9-ACDD-FD2226C9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E6265-B48D-4383-8B73-DDFBEFEE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B674E-FAC3-43CE-B439-268F4DCA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E079-7C9F-4DC6-8820-3D498B7F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FB73-7F99-4EC4-BA11-A4B6E5A8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AB15-CFF6-4068-9FD0-00435476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E76-A65A-4BB3-A768-ECFEB8A4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CA9C-1A3C-4F08-82EE-CBB9128B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3161-8BA1-44A2-99D1-8F82A630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D56F-BC9E-4D8E-B59E-8102F102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BEF94-AFA3-4A1A-8C8C-4094B23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5515-17CA-4651-AB30-771CC9B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CE5A-AE07-4BB8-9E98-2B4CAB9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E6407-6D9A-4E1B-94ED-2096AF16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7A5DB-45AC-4245-A289-87D61647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7F7F-EDA4-439F-83A8-3BA72D12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FC8-FEA8-49E3-B802-22005823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08F-7224-4DFC-A6AB-C66FA2B0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7DA-1A34-40BD-822B-C1CEAB2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23D-3A64-4233-BEBF-B1E10E5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1A3-A8A1-4D54-B4DE-0BFE9339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9dd9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949B-BD78-472E-85F8-CFE422E37906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9dd9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E909-3859-43B2-B682-85875B656035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9dd9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E7CD-58E6-42B9-94C9-0E739CB64431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9dd9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42E5-41EB-4068-A554-031687C8F9FF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8360" y="1700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 6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VOD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1128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b5395"/>
                </a:solidFill>
                <a:latin typeface="Verdana"/>
              </a:rPr>
              <a:t>se zvyšuje s hloubkou (v 10km je 100MPa)   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usto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b5395"/>
                </a:solidFill>
                <a:latin typeface="Verdana"/>
              </a:rPr>
              <a:t>Je 775x větší než hustotu vzduchu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b5395"/>
                </a:solidFill>
                <a:latin typeface="Verdana"/>
              </a:rPr>
              <a:t>HYDRODYNAMICKÝ TVAR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b5395"/>
                </a:solidFill>
                <a:latin typeface="Verdana"/>
              </a:rPr>
              <a:t>SALINITA ovlivňuje hustotu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pustnost svět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b5395"/>
                </a:solidFill>
                <a:latin typeface="Verdana"/>
              </a:rPr>
              <a:t>závisí na hloubce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b5395"/>
                </a:solidFill>
                <a:latin typeface="Verdana"/>
              </a:rPr>
              <a:t>ovlivňuje výběr fotosyntetických barviv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b5395"/>
                </a:solidFill>
                <a:latin typeface="Verdana"/>
              </a:rPr>
              <a:t>ovlivňuje stavbu oka a typ světločivných buněk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659640" y="2997360"/>
            <a:ext cx="1295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0" dur="20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4617b"/>
                </a:solidFill>
                <a:latin typeface="Verdana"/>
              </a:rPr>
              <a:t>VODA  a suchozemské organismy </a:t>
            </a:r>
            <a:endParaRPr b="0" lang="en-US" sz="32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4" name="Tree"/>
          <p:cNvSpPr/>
          <p:nvPr/>
        </p:nvSpPr>
        <p:spPr>
          <a:xfrm>
            <a:off x="611280" y="1413000"/>
            <a:ext cx="1081080" cy="1152360"/>
          </a:xfrm>
          <a:custGeom>
            <a:avLst/>
            <a:gdLst>
              <a:gd name="textAreaLeft" fmla="*/ 37800 w 1081080"/>
              <a:gd name="textAreaRight" fmla="*/ 1054800 w 1081080"/>
              <a:gd name="textAreaTop" fmla="*/ 1198080 h 1152360"/>
              <a:gd name="textAreaBottom" fmla="*/ 15091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ovéPole 5"/>
          <p:cNvSpPr/>
          <p:nvPr/>
        </p:nvSpPr>
        <p:spPr>
          <a:xfrm>
            <a:off x="5256360" y="2565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ití, potrava, metabolické prostředí,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ovéPole 6"/>
          <p:cNvSpPr/>
          <p:nvPr/>
        </p:nvSpPr>
        <p:spPr>
          <a:xfrm>
            <a:off x="250920" y="2708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zbytná pro fotosyntézu, rozmnožování, přenos semen,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ovéPole 7"/>
          <p:cNvSpPr/>
          <p:nvPr/>
        </p:nvSpPr>
        <p:spPr>
          <a:xfrm>
            <a:off x="290880" y="3429000"/>
            <a:ext cx="69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LHKOMILNÉ ROSTLINY - </a:t>
            </a:r>
            <a:r>
              <a:rPr b="1" lang="cs-CZ" sz="2800" spc="-1" strike="noStrike">
                <a:solidFill>
                  <a:srgbClr val="0070c0"/>
                </a:solidFill>
                <a:latin typeface="Arial"/>
                <a:ea typeface="Arial"/>
              </a:rPr>
              <a:t>HYGROFY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UCHOMILNÉ ROSTLINY - </a:t>
            </a:r>
            <a:r>
              <a:rPr b="1" lang="cs-CZ" sz="2800" spc="-1" strike="noStrike">
                <a:solidFill>
                  <a:srgbClr val="0070c0"/>
                </a:solidFill>
                <a:latin typeface="Arial"/>
                <a:ea typeface="Arial"/>
              </a:rPr>
              <a:t>XEROFY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Admin\AppData\Local\Microsoft\Windows\Temporary Internet Files\Content.IE5\F3ID01WC\MC900329568[1].wmf"/>
          <p:cNvPicPr/>
          <p:nvPr/>
        </p:nvPicPr>
        <p:blipFill>
          <a:blip r:embed="rId1"/>
          <a:stretch/>
        </p:blipFill>
        <p:spPr>
          <a:xfrm>
            <a:off x="6300720" y="1484280"/>
            <a:ext cx="881280" cy="1008000"/>
          </a:xfrm>
          <a:prstGeom prst="rect">
            <a:avLst/>
          </a:prstGeom>
          <a:ln w="0">
            <a:noFill/>
          </a:ln>
        </p:spPr>
      </p:pic>
      <p:sp>
        <p:nvSpPr>
          <p:cNvPr id="279" name="TextovéPole 9"/>
          <p:cNvSpPr/>
          <p:nvPr/>
        </p:nvSpPr>
        <p:spPr>
          <a:xfrm>
            <a:off x="483840" y="479736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eďte příklady do seši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596360" y="4149720"/>
            <a:ext cx="8125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PŮDA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EDAF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dd9"/>
                </a:solidFill>
                <a:latin typeface="Verdana"/>
              </a:rPr>
              <a:t>Půdní organismy.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čem závisí pórovitost půd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dd9"/>
                </a:solidFill>
                <a:latin typeface="Verdana"/>
              </a:rPr>
              <a:t>Na obsahu humusu.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ovlivňuje složení půd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dd9"/>
                </a:solidFill>
                <a:latin typeface="Verdana"/>
              </a:rPr>
              <a:t>salinita 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dd9"/>
                </a:solidFill>
                <a:latin typeface="Verdana"/>
              </a:rPr>
              <a:t>kyselost (pH)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e to halofy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dd9"/>
                </a:solidFill>
                <a:latin typeface="Verdana"/>
              </a:rPr>
              <a:t>Rostlina tolerující vyšší salinitu půdy.</a:t>
            </a: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372360" y="3645000"/>
            <a:ext cx="1295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Dostupné pod licencí wikimedia na WWW:http://upload.wikipedia.org/wiki/Soubor:Sun_in_X-Ray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[online]. [cit. 2013-06-03]. DOI: http://www.novinky.cz/veda-skoly/257674-nasa-zve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3]. Dostupné z: http://www.ceskatelevize.cz/porady/10121359557-port/111-jak-teple-je-slunce/video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ABIOTICKÉ  FAKTORY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Příroda je soběstačná.“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Démokritos z Abdé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je určen pro učitele, ale může sloužit pro samostudium ve škole či doma. Žáci si osvojují nové informace společně s opakováním známých faktů. Součástí je též odkaz na dokument ČT, který mohou žáci shlédnout ve škole či dom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Najdi na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" name="Skupina 1"/>
          <p:cNvGrpSpPr/>
          <p:nvPr/>
        </p:nvGrpSpPr>
        <p:grpSpPr>
          <a:xfrm>
            <a:off x="1181160" y="4745160"/>
            <a:ext cx="4957560" cy="1609560"/>
            <a:chOff x="1181160" y="4745160"/>
            <a:chExt cx="4957560" cy="1609560"/>
          </a:xfrm>
        </p:grpSpPr>
        <p:pic>
          <p:nvPicPr>
            <p:cNvPr id="223" name="Picture 2" descr="C:\Users\Admin\AppData\Local\Microsoft\Windows\Temporary Internet Files\Content.IE5\Q8L7FNA7\MC900299133[1].wmf"/>
            <p:cNvPicPr/>
            <p:nvPr/>
          </p:nvPicPr>
          <p:blipFill>
            <a:blip r:embed="rId1"/>
            <a:stretch/>
          </p:blipFill>
          <p:spPr>
            <a:xfrm>
              <a:off x="2842920" y="4745160"/>
              <a:ext cx="64764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5" descr="C:\Users\Admin\AppData\Local\Microsoft\Windows\Temporary Internet Files\Content.IE5\UTJF7CS0\MC900334546[1].wmf"/>
            <p:cNvPicPr/>
            <p:nvPr/>
          </p:nvPicPr>
          <p:blipFill>
            <a:blip r:embed="rId2"/>
            <a:stretch/>
          </p:blipFill>
          <p:spPr>
            <a:xfrm>
              <a:off x="5724360" y="4869360"/>
              <a:ext cx="4143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" descr="C:\Users\Admin\AppData\Local\Microsoft\Windows\Temporary Internet Files\Content.IE5\2AT3ADVM\MC900291016[1].wmf"/>
            <p:cNvPicPr/>
            <p:nvPr/>
          </p:nvPicPr>
          <p:blipFill>
            <a:blip r:embed="rId3"/>
            <a:stretch/>
          </p:blipFill>
          <p:spPr>
            <a:xfrm>
              <a:off x="1181160" y="5396400"/>
              <a:ext cx="57924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0" descr="C:\Users\Admin\AppData\Local\Microsoft\Windows\Temporary Internet Files\Content.IE5\UTJF7CS0\MC900298305[1].wmf"/>
            <p:cNvPicPr/>
            <p:nvPr/>
          </p:nvPicPr>
          <p:blipFill>
            <a:blip r:embed="rId4"/>
            <a:stretch/>
          </p:blipFill>
          <p:spPr>
            <a:xfrm>
              <a:off x="3058920" y="5828040"/>
              <a:ext cx="431640" cy="52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LUNEČNÍ ZÁŘENÍ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1483920"/>
            <a:ext cx="76327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Tepla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větla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nergi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eriodický charak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ouvisí s otáčením Země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Střídání dne a noci- FOTOPERIODISMUS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f6fc6"/>
                </a:solidFill>
                <a:latin typeface="Verdana"/>
              </a:rPr>
              <a:t>Střídání ročních období</a:t>
            </a:r>
            <a:endParaRPr b="0" lang="en-US" sz="2400" spc="-1" strike="noStrike">
              <a:solidFill>
                <a:srgbClr val="0f6fc6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Soubor:Sun in X-Ray.png"/>
          <p:cNvPicPr/>
          <p:nvPr/>
        </p:nvPicPr>
        <p:blipFill>
          <a:blip r:embed="rId1"/>
          <a:stretch/>
        </p:blipFill>
        <p:spPr>
          <a:xfrm>
            <a:off x="5003640" y="1413000"/>
            <a:ext cx="3873600" cy="2808000"/>
          </a:xfrm>
          <a:prstGeom prst="rect">
            <a:avLst/>
          </a:prstGeom>
          <a:ln w="0">
            <a:noFill/>
          </a:ln>
        </p:spPr>
      </p:pic>
      <p:sp>
        <p:nvSpPr>
          <p:cNvPr id="230" name="TextovéPole 4"/>
          <p:cNvSpPr/>
          <p:nvPr/>
        </p:nvSpPr>
        <p:spPr>
          <a:xfrm>
            <a:off x="4646160" y="3429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Admin\AppData\Local\Microsoft\Windows\Temporary Internet Files\Content.IE5\Q8L7FNA7\MC900299133[1].wmf"/>
          <p:cNvPicPr/>
          <p:nvPr/>
        </p:nvPicPr>
        <p:blipFill>
          <a:blip r:embed="rId2"/>
          <a:stretch/>
        </p:blipFill>
        <p:spPr>
          <a:xfrm>
            <a:off x="6372360" y="5084640"/>
            <a:ext cx="11523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SLUN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3" name="TextovéPole 4"/>
          <p:cNvSpPr/>
          <p:nvPr/>
        </p:nvSpPr>
        <p:spPr>
          <a:xfrm>
            <a:off x="3635280" y="836640"/>
            <a:ext cx="422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ZDROJ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ou má vlnovou délku záření slu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  <a:ea typeface="Arial"/>
              </a:rPr>
              <a:t>290 – 50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Tabulka 5" descr=""/>
          <p:cNvPicPr/>
          <p:nvPr/>
        </p:nvPicPr>
        <p:blipFill>
          <a:blip r:embed="rId1"/>
          <a:stretch/>
        </p:blipFill>
        <p:spPr>
          <a:xfrm>
            <a:off x="176040" y="2341440"/>
            <a:ext cx="8643960" cy="2170080"/>
          </a:xfrm>
          <a:prstGeom prst="rect">
            <a:avLst/>
          </a:prstGeom>
          <a:ln w="0">
            <a:noFill/>
          </a:ln>
        </p:spPr>
      </p:pic>
      <p:cxnSp>
        <p:nvCxnSpPr>
          <p:cNvPr id="235" name="Přímá spojovací šipka 12"/>
          <p:cNvCxnSpPr/>
          <p:nvPr/>
        </p:nvCxnSpPr>
        <p:spPr>
          <a:xfrm>
            <a:off x="4571640" y="4581360"/>
            <a:ext cx="1080" cy="5040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36" name=""/>
          <p:cNvGraphicFramePr/>
          <p:nvPr/>
        </p:nvGraphicFramePr>
        <p:xfrm>
          <a:off x="250920" y="5157720"/>
          <a:ext cx="8496360" cy="365040"/>
        </p:xfrm>
        <a:graphic>
          <a:graphicData uri="http://schemas.openxmlformats.org/drawingml/2006/table">
            <a:tbl>
              <a:tblPr/>
              <a:tblGrid>
                <a:gridCol w="1415880"/>
                <a:gridCol w="1416240"/>
                <a:gridCol w="1415880"/>
                <a:gridCol w="1416240"/>
                <a:gridCol w="1415880"/>
                <a:gridCol w="141624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al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r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ele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lut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anž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erve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37" name="TextovéPole 14"/>
          <p:cNvSpPr/>
          <p:nvPr/>
        </p:nvSpPr>
        <p:spPr>
          <a:xfrm>
            <a:off x="179280" y="5950080"/>
            <a:ext cx="86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80nm ............................................................................................................ 75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délník 16" descr=""/>
          <p:cNvPicPr/>
          <p:nvPr/>
        </p:nvPicPr>
        <p:blipFill>
          <a:blip r:embed="rId2"/>
          <a:stretch/>
        </p:blipFill>
        <p:spPr>
          <a:xfrm>
            <a:off x="0" y="633240"/>
            <a:ext cx="914400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UV záření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9528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gativní vliv, mutace D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vorba vitamínu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Nadpis 1"/>
          <p:cNvSpPr/>
          <p:nvPr/>
        </p:nvSpPr>
        <p:spPr>
          <a:xfrm>
            <a:off x="395280" y="2565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Infračervené zář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ástupný symbol pro obsah 2"/>
          <p:cNvSpPr/>
          <p:nvPr/>
        </p:nvSpPr>
        <p:spPr>
          <a:xfrm>
            <a:off x="468360" y="371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 tep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C:\Users\Admin\AppData\Local\Microsoft\Windows\Temporary Internet Files\Content.IE5\2AT3ADVM\MC900291016[1].wmf"/>
          <p:cNvPicPr/>
          <p:nvPr/>
        </p:nvPicPr>
        <p:blipFill>
          <a:blip r:embed="rId1"/>
          <a:stretch/>
        </p:blipFill>
        <p:spPr>
          <a:xfrm>
            <a:off x="6516720" y="3284640"/>
            <a:ext cx="1336680" cy="1380960"/>
          </a:xfrm>
          <a:prstGeom prst="rect">
            <a:avLst/>
          </a:prstGeom>
          <a:ln w="0">
            <a:noFill/>
          </a:ln>
        </p:spPr>
      </p:pic>
      <p:sp>
        <p:nvSpPr>
          <p:cNvPr id="244" name="TextovéPole 6"/>
          <p:cNvSpPr/>
          <p:nvPr/>
        </p:nvSpPr>
        <p:spPr>
          <a:xfrm>
            <a:off x="324000" y="5805360"/>
            <a:ext cx="2016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Vizualizace ilustrující klimatické změny a dokazující globálního oteplová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C:\Users\Admin\AppData\Local\Microsoft\Windows\Temporary Internet Files\Content.IE5\UTJF7CS0\MC900298305[1].wmf"/>
          <p:cNvPicPr/>
          <p:nvPr/>
        </p:nvPicPr>
        <p:blipFill>
          <a:blip r:embed="rId2"/>
          <a:stretch/>
        </p:blipFill>
        <p:spPr>
          <a:xfrm>
            <a:off x="468360" y="4508640"/>
            <a:ext cx="863640" cy="1052280"/>
          </a:xfrm>
          <a:prstGeom prst="rect">
            <a:avLst/>
          </a:prstGeom>
          <a:ln w="0">
            <a:noFill/>
          </a:ln>
        </p:spPr>
      </p:pic>
      <p:sp>
        <p:nvSpPr>
          <p:cNvPr id="246" name="TextovéPole 8"/>
          <p:cNvSpPr/>
          <p:nvPr/>
        </p:nvSpPr>
        <p:spPr>
          <a:xfrm>
            <a:off x="3924360" y="429264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.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ívej se na velmi zajímavý dokument Č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FOTOPERIODISMUS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8" name="Tree"/>
          <p:cNvSpPr/>
          <p:nvPr/>
        </p:nvSpPr>
        <p:spPr>
          <a:xfrm>
            <a:off x="1835280" y="1628640"/>
            <a:ext cx="1081080" cy="1152720"/>
          </a:xfrm>
          <a:custGeom>
            <a:avLst/>
            <a:gdLst>
              <a:gd name="textAreaLeft" fmla="*/ 37800 w 1081080"/>
              <a:gd name="textAreaRight" fmla="*/ 1054800 w 1081080"/>
              <a:gd name="textAreaTop" fmla="*/ 1198440 h 1152720"/>
              <a:gd name="textAreaBottom" fmla="*/ 1509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C:\Users\Admin\AppData\Local\Microsoft\Windows\Temporary Internet Files\Content.IE5\UG1D3JT7\MC900391220[1].wmf"/>
          <p:cNvPicPr/>
          <p:nvPr/>
        </p:nvPicPr>
        <p:blipFill>
          <a:blip r:embed="rId1"/>
          <a:stretch/>
        </p:blipFill>
        <p:spPr>
          <a:xfrm>
            <a:off x="6084720" y="1700280"/>
            <a:ext cx="1235160" cy="892080"/>
          </a:xfrm>
          <a:prstGeom prst="rect">
            <a:avLst/>
          </a:prstGeom>
          <a:ln w="0">
            <a:noFill/>
          </a:ln>
        </p:spPr>
      </p:pic>
      <p:sp>
        <p:nvSpPr>
          <p:cNvPr id="250" name="TextovéPole 5"/>
          <p:cNvSpPr/>
          <p:nvPr/>
        </p:nvSpPr>
        <p:spPr>
          <a:xfrm>
            <a:off x="1414080" y="285264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větlobyt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ínobyt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6"/>
          <p:cNvSpPr/>
          <p:nvPr/>
        </p:nvSpPr>
        <p:spPr>
          <a:xfrm>
            <a:off x="5040360" y="2565360"/>
            <a:ext cx="410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ioryt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Živočichové denní x noční (soumrační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ovéPole 7"/>
          <p:cNvSpPr/>
          <p:nvPr/>
        </p:nvSpPr>
        <p:spPr>
          <a:xfrm>
            <a:off x="826920" y="407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 všechno je ovlivněno biorytmy, fotoperiodosmem, zapište příklady do seš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ovéPole 8"/>
          <p:cNvSpPr/>
          <p:nvPr/>
        </p:nvSpPr>
        <p:spPr>
          <a:xfrm>
            <a:off x="611280" y="5157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b5395"/>
                </a:solidFill>
                <a:latin typeface="Arial"/>
              </a:rPr>
              <a:t>Výměna srsti, rozmnožování, nakvétání, odlet na zimoviště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8028000" y="4581360"/>
            <a:ext cx="8128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VLIV TEPLA</a:t>
            </a:r>
            <a:br>
              <a:rPr sz="4000"/>
            </a:b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EURYTERMNÍ x STENOTERMNÍ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6" name="Tree"/>
          <p:cNvSpPr/>
          <p:nvPr/>
        </p:nvSpPr>
        <p:spPr>
          <a:xfrm>
            <a:off x="324000" y="2060640"/>
            <a:ext cx="1079280" cy="1152360"/>
          </a:xfrm>
          <a:custGeom>
            <a:avLst/>
            <a:gdLst>
              <a:gd name="textAreaLeft" fmla="*/ 37800 w 1079280"/>
              <a:gd name="textAreaRight" fmla="*/ 1053000 w 1079280"/>
              <a:gd name="textAreaTop" fmla="*/ 1198080 h 1152360"/>
              <a:gd name="textAreaBottom" fmla="*/ 15091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C:\Users\Admin\AppData\Local\Microsoft\Windows\Temporary Internet Files\Content.IE5\UG1D3JT7\MC900391220[1].wmf"/>
          <p:cNvPicPr/>
          <p:nvPr/>
        </p:nvPicPr>
        <p:blipFill>
          <a:blip r:embed="rId1"/>
          <a:stretch/>
        </p:blipFill>
        <p:spPr>
          <a:xfrm>
            <a:off x="4788000" y="2205000"/>
            <a:ext cx="1234800" cy="892080"/>
          </a:xfrm>
          <a:prstGeom prst="rect">
            <a:avLst/>
          </a:prstGeom>
          <a:ln w="0">
            <a:noFill/>
          </a:ln>
        </p:spPr>
      </p:pic>
      <p:sp>
        <p:nvSpPr>
          <p:cNvPr id="258" name="TextovéPole 7"/>
          <p:cNvSpPr/>
          <p:nvPr/>
        </p:nvSpPr>
        <p:spPr>
          <a:xfrm>
            <a:off x="468360" y="5300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 všechno je ovlivněno teplotou a jejími změnami? Zapište příklady do seš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ovéPole 8"/>
          <p:cNvSpPr/>
          <p:nvPr/>
        </p:nvSpPr>
        <p:spPr>
          <a:xfrm>
            <a:off x="46836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měna srsti, rozmnožování, nakvétání, odlet na zimoviště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ovéPole 9"/>
          <p:cNvSpPr/>
          <p:nvPr/>
        </p:nvSpPr>
        <p:spPr>
          <a:xfrm>
            <a:off x="1350360" y="1989000"/>
            <a:ext cx="327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upy na listech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sk listů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ezená transpirace – kak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lučování silice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11"/>
          <p:cNvSpPr/>
          <p:nvPr/>
        </p:nvSpPr>
        <p:spPr>
          <a:xfrm>
            <a:off x="6372360" y="2133720"/>
            <a:ext cx="123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bern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s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TextovéPole 12"/>
          <p:cNvGrpSpPr/>
          <p:nvPr/>
        </p:nvGrpSpPr>
        <p:grpSpPr>
          <a:xfrm>
            <a:off x="3041640" y="1682640"/>
            <a:ext cx="2468520" cy="835200"/>
            <a:chOff x="3041640" y="1682640"/>
            <a:chExt cx="2468520" cy="835200"/>
          </a:xfrm>
        </p:grpSpPr>
        <p:pic>
          <p:nvPicPr>
            <p:cNvPr id="263" name="TextovéPole 12" descr=""/>
            <p:cNvPicPr/>
            <p:nvPr/>
          </p:nvPicPr>
          <p:blipFill>
            <a:blip r:embed="rId2"/>
            <a:stretch/>
          </p:blipFill>
          <p:spPr>
            <a:xfrm>
              <a:off x="3041640" y="1682640"/>
              <a:ext cx="24685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287880" y="191628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Uveďte příklad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ovéPole 13"/>
          <p:cNvSpPr/>
          <p:nvPr/>
        </p:nvSpPr>
        <p:spPr>
          <a:xfrm>
            <a:off x="324000" y="3284640"/>
            <a:ext cx="83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logerovo pravidlo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eplejších  a vlhčích oblastech jsou živočichové téhož druhu tmavší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gr na Sibiři a v JV As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ergmannovo pravidlo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chladnějších oblastech jsou větší a hmotnější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leni, lišky, prasat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llenovo pravidlo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chladnějších oblastech mají kratší uši, zobáky, tělní výběžky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ška polární, fenek, liška obecná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C:\Users\Admin\AppData\Local\Microsoft\Windows\Temporary Internet Files\Content.IE5\UTJF7CS0\MC900334546[1].wmf"/>
          <p:cNvPicPr/>
          <p:nvPr/>
        </p:nvPicPr>
        <p:blipFill>
          <a:blip r:embed="rId3"/>
          <a:stretch/>
        </p:blipFill>
        <p:spPr>
          <a:xfrm>
            <a:off x="8172360" y="1989000"/>
            <a:ext cx="6066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VZDUCH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128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b5395"/>
                </a:solidFill>
                <a:latin typeface="Verdana"/>
              </a:rPr>
              <a:t>Mění se v závislosti na nadmořské výšce.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b5395"/>
                </a:solidFill>
                <a:latin typeface="Verdana"/>
              </a:rPr>
              <a:t>Adaptace – svišť himálajský, orel skalní (žijí nad 6000 m n. m. a létají  do 7 km výšky.   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usto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b5395"/>
                </a:solidFill>
                <a:latin typeface="Verdana"/>
              </a:rPr>
              <a:t>Ten, kdo létá má menší velikost a hmotnost.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udění – ví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b5395"/>
                </a:solidFill>
                <a:latin typeface="Verdana"/>
              </a:rPr>
              <a:t>Přenos pylu, plodů...feromonů, eroze.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sah kyslí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b5395"/>
                </a:solidFill>
                <a:latin typeface="Verdana"/>
              </a:rPr>
              <a:t>21% je stále udržováno. Proč? FOTOSYNTÉZA 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sah 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b5395"/>
                </a:solidFill>
                <a:latin typeface="Verdana"/>
              </a:rPr>
              <a:t>VYŠŠÍ PRODUKCE – zvýšená intenzita fotosyntézy i skleníkový efekt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b5395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b5395"/>
                </a:solidFill>
                <a:latin typeface="Verdana"/>
              </a:rPr>
              <a:t>CO2 je pohlcován moři a vázán do uhličitanů.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659640" y="2997360"/>
            <a:ext cx="1295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20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Pastuchová</dc:creator>
  <dc:description/>
  <dc:language>en-US</dc:language>
  <cp:lastModifiedBy>Konetzná Magda</cp:lastModifiedBy>
  <dcterms:modified xsi:type="dcterms:W3CDTF">2013-10-02T07:02:44Z</dcterms:modified>
  <cp:revision>24</cp:revision>
  <dc:subject/>
  <dc:title>Snímek 1</dc:title>
</cp:coreProperties>
</file>