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8C2-8C61-4B8C-A162-A73B2FF0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B35-2E40-4F89-A937-FC3E84F9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0FE-9521-4344-B5B8-63A1A8CD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926-4CE2-4B11-8BB3-9112459E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06B6-3341-4984-BFFB-063D6367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AE31-BCD1-4B05-8C5E-A1BD7E6A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6123-F18B-4975-B4A4-0DD5F7A2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0E8E-14E2-41AF-A177-0BD82E9D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F24D-E456-4EBA-91E0-2F2D5988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C042-9E2A-4B36-A124-C377505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0651-BC76-43ED-8983-DC34195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AF7-9C4E-4340-B0C7-34EAC109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ED0E-FB92-4272-BAFE-178D0BD5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7011-119C-4D50-B019-D7A93CA5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086E-AACB-43E0-A6D1-D4EB465E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FB4C-8EFF-42C9-9A5F-8EA2221E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7471-29E1-475C-9C45-0170389E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3ADD6-313E-4648-BAAA-15F5FC27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97BA8-3A3D-4416-8F0D-677A82CD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536BF-C672-4EB1-A628-23DB1B8C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02637-D62C-4020-B8E8-D5E7A170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9B943-D1E3-47CE-BC70-F8F02B3A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4D3-E7E2-4758-AC56-79144318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5B2C3-723E-41DB-A825-6BB85BC8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2F7CF-E470-42F1-B112-BA916E8D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823B3-CB32-4309-B34B-DB2EE32F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6F3E1-3B83-43F4-BB19-3D882EB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08E2E-C355-49FE-8DD9-AB2A06F8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A9994-A51F-4A44-843E-53E25E1C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095E2-5358-4FF7-8CC0-00845F9F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52C8-C4BB-48D7-A056-C64B0418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E679-6773-47B8-8E4A-4FEC4484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7D74-DC14-4442-AF40-D5A2D0CF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286-DFE9-4669-96BB-D4FA4D0A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F268-7E7A-4B12-9195-254FC442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3041-6095-4DC0-B632-FCFECADF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B6972-F1B6-4C70-833B-182CB996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8CB8-D80C-4D8A-B4A8-CE21CAD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150F-A3FB-40FB-AE97-9A26020C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2014-2E52-40B3-8DF2-C2F8AF52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1297-0264-4A1A-B107-688DE0FE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5B3F-A5B4-4630-8B32-865E0C35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90DDC-05FE-44D6-8559-E77E0F3F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061-7CA3-41EB-8BE8-79BBAA31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C1C-41EB-4FC5-90E9-7425DD68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ABA-97F0-4729-9494-AE76A964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D56-3333-4E8A-83FE-9D9228F8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3E4-65BF-4627-A3E6-A914F4CB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6566-50E3-4822-A5D8-EF835A82B88D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A026-9E40-4BE7-8DA2-6BA0A7B2C2D2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65A9-E156-4A5F-A1F4-B29E746983B1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477C-E88A-435F-BC01-5E81E801DF25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7392-4CAC-4CAF-B817-B67E572317F8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55E7-434B-4279-AC0A-6B87E36F6248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B948-E996-43FE-A76D-CF03242A088D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4AEA-40FC-4E00-AEAC-FCBD74AC1620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rozhlas.cz/leonardo/zpravy/_zprava/1098143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ozhlas.cz/priroda/rostliny_houby/_zprava/907138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cs.wikipedia.org/wiki/Justus_von_Liebig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1stoleti.cz/blog/2010/09/17/nerozlucni-pratele-jak-spolupracuji-podivne-dvojice-zvirat/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rozhlas.cz/leonardo/priroda/_zprava/1062350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ozhlas.cz/priroda/zvirata/_zprava/720101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ého gymná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7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6BAE-2B7E-4B89-9B02-51142EF354D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REDAC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ztah dravce a koři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edátor je větší než koři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87B6-41D7-457D-B288-280B9A959AF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ovéPole 4"/>
          <p:cNvSpPr/>
          <p:nvPr/>
        </p:nvSpPr>
        <p:spPr>
          <a:xfrm>
            <a:off x="785880" y="299736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 Úkol: Uveď příklady predace, zapiš je do seši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6659640" y="2276640"/>
            <a:ext cx="812880" cy="1834920"/>
          </a:xfrm>
          <a:prstGeom prst="rect">
            <a:avLst/>
          </a:prstGeom>
          <a:ln w="0">
            <a:noFill/>
          </a:ln>
        </p:spPr>
      </p:pic>
      <p:sp>
        <p:nvSpPr>
          <p:cNvPr id="270" name="TextovéPole 6"/>
          <p:cNvSpPr/>
          <p:nvPr/>
        </p:nvSpPr>
        <p:spPr>
          <a:xfrm>
            <a:off x="900000" y="4581360"/>
            <a:ext cx="43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Úkol: Proč vyhynul i druhý druh predátora? Přečti si a vysvětli Po kliknutí na symbol internetu se ti objeví článe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 s vymíráním druh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C:\Users\Admin\AppData\Local\Microsoft\Windows\Temporary Internet Files\Content.IE5\F3ID01WC\MC9002822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4508640"/>
            <a:ext cx="14446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ARAZITISMUS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2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ztah parazita a hostite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ostitele je větší než paraz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D1DA-273D-4C5A-A183-41204FCE32F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9" descr="C:\Users\Admin\AppData\Local\Microsoft\Windows\Temporary Internet Files\Content.IE5\F3ID01WC\MC900282200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4724280"/>
            <a:ext cx="1443240" cy="1613160"/>
          </a:xfrm>
          <a:prstGeom prst="rect">
            <a:avLst/>
          </a:prstGeom>
          <a:ln w="0">
            <a:noFill/>
          </a:ln>
        </p:spPr>
      </p:pic>
      <p:sp>
        <p:nvSpPr>
          <p:cNvPr id="276" name="TextovéPole 5"/>
          <p:cNvSpPr/>
          <p:nvPr/>
        </p:nvSpPr>
        <p:spPr>
          <a:xfrm>
            <a:off x="324000" y="465300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knutím na symbol internetu se dostaneš na stránku, kde si můžeš poslechnout příspěve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hatá je škála parazitických rostlin v naší příro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piš si příklady našich parazitických rostlin do sešitu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C:\Users\Admin\AppData\Local\Microsoft\Windows\Temporary Internet Files\Content.IE5\UTJF7CS0\MC900334546[1].wmf"/>
          <p:cNvPicPr/>
          <p:nvPr/>
        </p:nvPicPr>
        <p:blipFill>
          <a:blip r:embed="rId3"/>
          <a:stretch/>
        </p:blipFill>
        <p:spPr>
          <a:xfrm>
            <a:off x="7667640" y="1773360"/>
            <a:ext cx="8128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169992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[online]. [cit. 2013-06-03]. DOI: http://21stoleti.cz/blog/2010/09/17/nerozlucni-pr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online]. [cit. 2013-06-03]. Dostupné z: http://www.rozhlas.cz/leonardo/priroda/_zprava/106235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online]. [cit. 2013-06-03]. Dostupné z: http://www.rozhlas.cz/priroda/zvirata/_zprava/7201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11280" indent="-50400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04CF-27C4-4AFB-A665-A3C1334D9D8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765000"/>
            <a:ext cx="822960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online]. [cit. 2013-06-03]. Dostupné z: http://www.rozhlas.cz/leonardo/zpravy/_zprava/109814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online]. [cit. 2013-06-03]. Dostupné z: http://www.rozhlas.cz/priroda/rostliny_houby/_zprava/9071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.1)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ikipedia: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 [online]. San Francisco (CA): Wikimedia Foundation, 2001- [cit. 2013-06-04]. Dostupné z: http://cs.wikipedia.org/wiki/Soubor:Allium_ursinum0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7D31-E374-4AA4-9639-406000BB47B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VZTAHY MEZI POPULACEMI 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„ 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Příroda dala člověku rozum, aby se jí bránil, a srdce, aby se jí neubránil.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4617b"/>
                </a:solidFill>
                <a:latin typeface="Verdana"/>
              </a:rPr>
              <a:t>(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Jean Galbert de Camprist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je určen pro učitele, ale může sloužit pro samostudium ve škole či doma. Žáci si osvojí nové informace společně s opakováním známých faktů. Doplňující materiály z internetu slouží k doplnění  problematik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ů z RVP zvládne charakterizovat vzájemné vztahy mezi populacemi, uvede příklady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frontálního výkladu a vyhledáváním pojmů a vztahů pomocí internetu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Najdi na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2627280" y="5445000"/>
            <a:ext cx="647640" cy="912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5292720" y="5373720"/>
            <a:ext cx="358920" cy="812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755640" y="6021360"/>
            <a:ext cx="579600" cy="600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C:\Users\Admin\AppData\Local\Microsoft\Windows\Temporary Internet Files\Content.IE5\UTJF7CS0\MC900298305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6332400"/>
            <a:ext cx="431640" cy="525600"/>
          </a:xfrm>
          <a:prstGeom prst="rect">
            <a:avLst/>
          </a:prstGeom>
          <a:ln w="0">
            <a:noFill/>
          </a:ln>
        </p:spPr>
      </p:pic>
      <p:sp>
        <p:nvSpPr>
          <p:cNvPr id="227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94C1-672E-4DA3-B53B-71E5F0FA5EF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ROTOKOOPERAC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528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é, dočasné, vzájemně prospěšné sdružová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polečné hnízdiště ptáků, sdružování zeber či pštrosů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2759-9CE2-4279-B05B-7B64175A17A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C:\Users\Admin\AppData\Local\Microsoft\Windows\Temporary Internet Files\Content.IE5\F3ID01WC\MC900282200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4292640"/>
            <a:ext cx="1096920" cy="1225440"/>
          </a:xfrm>
          <a:prstGeom prst="rect">
            <a:avLst/>
          </a:prstGeom>
          <a:ln w="0">
            <a:noFill/>
          </a:ln>
        </p:spPr>
      </p:pic>
      <p:sp>
        <p:nvSpPr>
          <p:cNvPr id="232" name="TextovéPole 8"/>
          <p:cNvSpPr/>
          <p:nvPr/>
        </p:nvSpPr>
        <p:spPr>
          <a:xfrm>
            <a:off x="468360" y="479736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knutím na symbol internetu se dostaneš na stránku, kde si můžeš přečíst článe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rozluční přátelé: Jak spolupracují podivné dvojice zvířat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 přečtení vypiš příklady protokoope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C:\Users\Admin\AppData\Local\Microsoft\Windows\Temporary Internet Files\Content.IE5\UTJF7CS0\MC900334546[1].wmf"/>
          <p:cNvPicPr/>
          <p:nvPr/>
        </p:nvPicPr>
        <p:blipFill>
          <a:blip r:embed="rId3"/>
          <a:stretch/>
        </p:blipFill>
        <p:spPr>
          <a:xfrm>
            <a:off x="6156360" y="5435640"/>
            <a:ext cx="4507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MUTUALISMUS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1628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av prospěšný pr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bě popul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bo také SYMBIÓ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žvýkavci a 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zák březový a 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DCF7-02B3-4811-ABE0-8AF59533D2B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740720" y="907920"/>
            <a:ext cx="812880" cy="1835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C:\Users\Admin\AppData\Local\Microsoft\Windows\Temporary Internet Files\Content.IE5\F3ID01WC\MC9002822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581360"/>
            <a:ext cx="1444680" cy="16113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6"/>
          <p:cNvSpPr/>
          <p:nvPr/>
        </p:nvSpPr>
        <p:spPr>
          <a:xfrm>
            <a:off x="2340000" y="494172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knutím na symbol internetu se dostaneš na stránku, kde si můžeš přečíst článe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ravenci jsou houbám věr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 přečtení vypiš příklady mutualis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délník 7"/>
          <p:cNvSpPr/>
          <p:nvPr/>
        </p:nvSpPr>
        <p:spPr>
          <a:xfrm>
            <a:off x="6377040" y="2924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plň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KOMENZALISMUS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360" y="191628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užit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NEZBYTNÉ PRO JEDEN DRUH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druhý druh na něm není závisl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yeny či šakalové se zdržují se lv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rchideje (epifytní rostliny)potřebují stromy, stromy nepotřebují orchidej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2136-899F-43DA-BFF0-E203376548E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C:\Users\Admin\AppData\Local\Microsoft\Windows\Temporary Internet Files\Content.IE5\UG1D3JT7\MC900122857[1].wmf"/>
          <p:cNvPicPr/>
          <p:nvPr/>
        </p:nvPicPr>
        <p:blipFill>
          <a:blip r:embed="rId1"/>
          <a:stretch/>
        </p:blipFill>
        <p:spPr>
          <a:xfrm>
            <a:off x="7667640" y="692280"/>
            <a:ext cx="1039680" cy="1511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Admin\AppData\Local\Microsoft\Windows\Temporary Internet Files\Content.IE5\Q8L7FNA7\MC900299133[1].wmf"/>
          <p:cNvPicPr/>
          <p:nvPr/>
        </p:nvPicPr>
        <p:blipFill>
          <a:blip r:embed="rId2"/>
          <a:stretch/>
        </p:blipFill>
        <p:spPr>
          <a:xfrm>
            <a:off x="3276720" y="4724280"/>
            <a:ext cx="12952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KONKURENC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9440" y="2322360"/>
            <a:ext cx="82789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utěž o POTRAVU, PROSTOR, PŘÍSTUP KE SVĚTLU, či K VODĚ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boli KOMPETICE =  širší pojetí symbióz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9B85-FF69-4638-96DC-1EF0475FD86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C:\Users\Admin\AppData\Local\Microsoft\Windows\Temporary Internet Files\Content.IE5\F3ID01WC\MC900282200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24280"/>
            <a:ext cx="1442880" cy="1613160"/>
          </a:xfrm>
          <a:prstGeom prst="rect">
            <a:avLst/>
          </a:prstGeom>
          <a:ln w="0">
            <a:noFill/>
          </a:ln>
        </p:spPr>
      </p:pic>
      <p:sp>
        <p:nvSpPr>
          <p:cNvPr id="250" name="TextovéPole 5"/>
          <p:cNvSpPr/>
          <p:nvPr/>
        </p:nvSpPr>
        <p:spPr>
          <a:xfrm>
            <a:off x="2050920" y="4292640"/>
            <a:ext cx="46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knutím na symbol internetu se dostaneš na stránku, kde si můžeš přečíst či poslechnout článe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j o zdro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piš si příklady kompetice u pěv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C:\Users\Admin\AppData\Local\Microsoft\Windows\Temporary Internet Files\Content.IE5\UTJF7CS0\MC900334546[1].wmf"/>
          <p:cNvPicPr/>
          <p:nvPr/>
        </p:nvPicPr>
        <p:blipFill>
          <a:blip r:embed="rId3"/>
          <a:stretch/>
        </p:blipFill>
        <p:spPr>
          <a:xfrm>
            <a:off x="755640" y="4508640"/>
            <a:ext cx="8128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TYPY KOMPETIC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xploatač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U konkurentům nedochází ke střetu (špaček x vinař)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terferenč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Přímý střet dvou jedinců (druhů)...</a:t>
            </a:r>
            <a:r>
              <a:rPr b="0" lang="cs-CZ" sz="1400" spc="-1" strike="noStrike">
                <a:solidFill>
                  <a:srgbClr val="0f6fc6"/>
                </a:solidFill>
                <a:latin typeface="Verdana"/>
              </a:rPr>
              <a:t>kdy a jak se změní </a:t>
            </a:r>
            <a:endParaRPr b="0" lang="en-US" sz="1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ntest com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Je ztrátová pro obě strany </a:t>
            </a:r>
            <a:r>
              <a:rPr b="0" lang="cs-CZ" sz="1400" spc="-1" strike="noStrike">
                <a:solidFill>
                  <a:srgbClr val="0f6fc6"/>
                </a:solidFill>
                <a:latin typeface="Verdana"/>
              </a:rPr>
              <a:t>(např. rozdílná velikost  stravy)</a:t>
            </a:r>
            <a:endParaRPr b="0" lang="en-US" sz="14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cramble com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Dělení o zdroje</a:t>
            </a:r>
            <a:endParaRPr b="0" lang="en-US" sz="2200" spc="-1" strike="noStrike">
              <a:solidFill>
                <a:srgbClr val="0f6fc6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incip kompetičního uvolně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f6fc6"/>
                </a:solidFill>
                <a:latin typeface="Verdana"/>
              </a:rPr>
              <a:t>Jeden z kompetitorů zmizí </a:t>
            </a:r>
            <a:r>
              <a:rPr b="0" lang="cs-CZ" sz="1400" spc="-1" strike="noStrike">
                <a:solidFill>
                  <a:srgbClr val="0f6fc6"/>
                </a:solidFill>
                <a:latin typeface="Verdana"/>
              </a:rPr>
              <a:t>(např. odletí)</a:t>
            </a:r>
            <a:endParaRPr b="0" lang="en-US" sz="1400" spc="-1" strike="noStrike">
              <a:solidFill>
                <a:srgbClr val="0f6fc6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A2E4-5431-422C-9C27-B716BD91004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Šipka nahoru 4"/>
          <p:cNvSpPr/>
          <p:nvPr/>
        </p:nvSpPr>
        <p:spPr>
          <a:xfrm>
            <a:off x="7236000" y="2349360"/>
            <a:ext cx="360360" cy="648000"/>
          </a:xfrm>
          <a:prstGeom prst="upArrow">
            <a:avLst>
              <a:gd name="adj1" fmla="val 50000"/>
              <a:gd name="adj2" fmla="val 5002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Users\Admin\AppData\Local\Microsoft\Windows\Temporary Internet Files\Content.IE5\2AT3ADVM\MC900151231[1].wmf"/>
          <p:cNvPicPr/>
          <p:nvPr/>
        </p:nvPicPr>
        <p:blipFill>
          <a:blip r:embed="rId1"/>
          <a:stretch/>
        </p:blipFill>
        <p:spPr>
          <a:xfrm>
            <a:off x="7020000" y="4653000"/>
            <a:ext cx="1722240" cy="1830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8101080" y="549360"/>
            <a:ext cx="8128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MENZALISMUS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73360"/>
            <a:ext cx="750240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ztah mezi populacemi, kdy jedna vytváří chemické látky, kterými potlačuje růst druhé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bo také ALELOPATIE či ANTIBIÓZ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1C41-0A63-4702-BDDA-A61B6DC90FE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Users\Admin\AppData\Local\Microsoft\Windows\Temporary Internet Files\Content.IE5\F3ID01WC\MC900411888[1].wmf"/>
          <p:cNvPicPr/>
          <p:nvPr/>
        </p:nvPicPr>
        <p:blipFill>
          <a:blip r:embed="rId1"/>
          <a:stretch/>
        </p:blipFill>
        <p:spPr>
          <a:xfrm>
            <a:off x="5580000" y="4149720"/>
            <a:ext cx="2303640" cy="2232000"/>
          </a:xfrm>
          <a:prstGeom prst="rect">
            <a:avLst/>
          </a:prstGeom>
          <a:ln w="0">
            <a:noFill/>
          </a:ln>
        </p:spPr>
      </p:pic>
      <p:sp>
        <p:nvSpPr>
          <p:cNvPr id="262" name="TextovéPole 6"/>
          <p:cNvSpPr/>
          <p:nvPr/>
        </p:nvSpPr>
        <p:spPr>
          <a:xfrm>
            <a:off x="850680" y="4869000"/>
            <a:ext cx="41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č je zde nakreslený česnek? Ja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visí s amenzalism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Soubor:Allium ursinum0.jpg"/>
          <p:cNvPicPr/>
          <p:nvPr/>
        </p:nvPicPr>
        <p:blipFill>
          <a:blip r:embed="rId2"/>
          <a:stretch/>
        </p:blipFill>
        <p:spPr>
          <a:xfrm>
            <a:off x="5292720" y="3860640"/>
            <a:ext cx="3611520" cy="2710080"/>
          </a:xfrm>
          <a:prstGeom prst="rect">
            <a:avLst/>
          </a:prstGeom>
          <a:ln w="0">
            <a:noFill/>
          </a:ln>
        </p:spPr>
      </p:pic>
      <p:sp>
        <p:nvSpPr>
          <p:cNvPr id="264" name="TextovéPole 8"/>
          <p:cNvSpPr/>
          <p:nvPr/>
        </p:nvSpPr>
        <p:spPr>
          <a:xfrm>
            <a:off x="8535600" y="3500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10-15T05:44:18Z</dcterms:modified>
  <cp:revision>29</cp:revision>
  <dc:subject/>
  <dc:title>Snímek 1</dc:title>
</cp:coreProperties>
</file>