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F42-EF5A-46A9-B998-9FBD8CC7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074-682F-4EF7-B5CB-77DF71B1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B81-B96E-48F0-97F6-C954CB57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590-1FD4-49AE-A29E-A72742A5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139C-F094-4FF1-AB41-69344F16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29D7-BC99-4DB9-BC52-FECF3C3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584D-343D-4416-A64F-A4644C8E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EE41-9B44-4DB6-AFEF-3FE0251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1435-1AD0-475F-87F9-88B3067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F62B-BF5D-402A-B5BC-5C474727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D46-B499-4BAC-95D4-7DFE30B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701-27A8-4ED6-9BA5-BBE10B4F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6306-8940-4570-B69B-B8AEC36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9FD8-69D0-40CD-9EB5-29B3B6A9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1EAB-F1AB-45FA-B49A-BD27DA5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CCCE-3052-4158-83E1-C0D8D5F4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B14E-0522-4429-98D3-C3A104B4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EBBA3-B857-4EA7-8778-C9904D23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79F7B-16DA-45C0-AA59-86EC0470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D5AC2-C611-42A0-924C-3692D64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BEEC9-8A61-4381-B5AE-22ACB4D3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FDBE7-B638-42EA-8E16-B9A5D7C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FF1-4EDE-4D31-BAE2-E69EA18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6F6C7-CA9C-4D58-BB94-E410C724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55196-3472-48DB-9DD7-A04207B1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4BD20-1E9F-4CF3-80AC-13F3E7C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5999E-7DE6-47D7-83B1-B0119AD2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89FB7-0A9A-4FA3-9198-A6D0C0E0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94BD9-CBC1-4290-93C7-D3FB70A6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019DF-41FE-4AE0-8474-B590029B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9EC9-9324-4EA5-A397-E58E310B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79C2-7EC0-4D2D-9DDF-22A55A9D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336D-0854-43D6-8EE2-2D403D3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AB8-9FC2-499D-8872-949A62BF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F874C-95CD-40B7-BD69-A8C2E44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CDF1-4635-4473-81D6-F6B43F38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C153-6574-478B-B46A-8FF8A575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26A18-0C1F-4A41-91D4-4F68D9C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54D9-96C8-40C0-B2A0-A71FE24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8405-6B39-4C01-B36D-004B57F6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DC4E-968E-4E84-B9F5-F526CF0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631D-70C1-4787-8D92-0BA34C68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0F018-6246-4F02-9E91-311F2DF8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C89-4A02-4B76-8288-83BE9F52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32F-62D4-402C-956E-6757B4F1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CDC-D9C0-49B7-B0AA-684D0596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FD5-707F-40A0-B507-4FE859DA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102-2F7C-46F8-8854-D3E0F89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565-7C19-4722-A653-82EA6DEFF176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1573-C814-4A66-8255-98E33BE4DB33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C341-ED1B-4089-9898-1C533A4448B8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867A-886F-42C5-9582-7AAA8C17DC2C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99FF-BA30-4EF6-BF24-161E76F1210B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F1B0-5BD2-4A1F-B539-4E34A7D6445B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009dd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055C-909F-47F1-A7D4-976F30061C9B}" type="datetime">
              <a:rPr b="0" lang="cs-CZ" sz="800" spc="-1" strike="noStrike">
                <a:solidFill>
                  <a:srgbClr val="009dd9"/>
                </a:solidFill>
                <a:latin typeface="Verdana"/>
              </a:rPr>
              <a:t>29.07.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5F65-CB7A-4734-97DB-B61D7541DBE7}" type="slidenum">
              <a:rPr b="0" lang="cs-CZ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cs.wikipedia.org/wiki/Justus_von_Liebig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cs.wikipedia.org/wiki/Justus_von_Liebig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Admin\Documents\JANA\DUMY\logo dumy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60440" y="1781280"/>
          <a:ext cx="8442360" cy="5151240"/>
        </p:xfrm>
        <a:graphic>
          <a:graphicData uri="http://schemas.openxmlformats.org/drawingml/2006/table">
            <a:tbl>
              <a:tblPr/>
              <a:tblGrid>
                <a:gridCol w="4390920"/>
                <a:gridCol w="4051440"/>
              </a:tblGrid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ŠKO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ymnázium Fr. Živného, Bohumín, Jana Palacha 794, příspěvková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lověk a přír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9dd9"/>
                      </a:solidFill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102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logie pro 4. ročník SŠ a odpovídající ročník víceletých gymnázi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k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 Jana Pastucho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6.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713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ÁZEV A ČÍSLO PROJEKT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číme se pro život v 21. století CZ.1.07/1.5.00/34.0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ZNAČENÍVÝUKOVÉ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BI.PS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8" name="Zástupný symbol pro číslo snímku 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1489-0963-419C-8CD2-85F79F82B65E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4617b"/>
                </a:solidFill>
                <a:latin typeface="Verdana"/>
              </a:rPr>
              <a:t>Miloslav Herčík ve své knize 111 otázek a odpovědí o ŽP napsal v úvodu toto: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2" name="TextovéPole 4"/>
          <p:cNvSpPr/>
          <p:nvPr/>
        </p:nvSpPr>
        <p:spPr>
          <a:xfrm>
            <a:off x="395280" y="1197000"/>
            <a:ext cx="8209080" cy="3448080"/>
          </a:xfrm>
          <a:prstGeom prst="rect">
            <a:avLst/>
          </a:prstGeom>
          <a:gradFill rotWithShape="0">
            <a:gsLst>
              <a:gs pos="0">
                <a:srgbClr val="d9fed1"/>
              </a:gs>
              <a:gs pos="100000">
                <a:srgbClr val="83fb62"/>
              </a:gs>
            </a:gsLst>
            <a:lin ang="5400000"/>
          </a:gradFill>
          <a:ln w="10080">
            <a:solidFill>
              <a:srgbClr val="7cca62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Šetři energií – nejčistší energie je ta ušetře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plýtvej vodou – brzy ji bude nedostat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vyhazuj suroviny – kovy, papír, textil, plasty patří do sběr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kupuj zboží na jedno použití – rozhoduje kvalita a účel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mez používání dopravních prostředků – choď pěš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Šetři potravinami – přejídání vede k obezit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éč se přírodně – než zajdeš do lékárny, zkus byli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uď čistotný – čisté myšlenky a čisté prostředí jsou devizy do budouc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hraň přírodu – neobejdeš se bez 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uď více člověke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ovéPole 5"/>
          <p:cNvSpPr/>
          <p:nvPr/>
        </p:nvSpPr>
        <p:spPr>
          <a:xfrm>
            <a:off x="1473840" y="5445000"/>
            <a:ext cx="63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Toto je desatero katedry ekologie VŠB- Technické univerzity v Ostra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ovéPole 6"/>
          <p:cNvSpPr/>
          <p:nvPr/>
        </p:nvSpPr>
        <p:spPr>
          <a:xfrm>
            <a:off x="250920" y="5877000"/>
            <a:ext cx="86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Verdana"/>
              </a:rPr>
              <a:t>Souhlasíš s tímto desaterem? Pokus se vytvořit své vlas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8101080" y="1484280"/>
            <a:ext cx="812880" cy="1835280"/>
          </a:xfrm>
          <a:prstGeom prst="rect">
            <a:avLst/>
          </a:prstGeom>
          <a:ln w="0">
            <a:noFill/>
          </a:ln>
        </p:spPr>
      </p:pic>
      <p:sp>
        <p:nvSpPr>
          <p:cNvPr id="266" name="Zástupný symbol pro číslo snímku 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AF6-FBFF-4373-8D06-898E1C6EF32D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13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Zdroj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9640" y="170028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Dostupné pod licencí wikimedia na WWW:http://upload.wikimedia.org/wikipedia/commons/thumb/3/3b/Ernst_Haeckel_1860.jpg/220px-Ernst_Haeckel_1860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ERGER, Josef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1. vyd. České Budějovice: Kopp, 1998, 197 s. ISBN 80-723-2013-0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ERČÍK, Miloslav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111 otázek a odpovědí o životním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chytrá kniha pro studenty, odborné pracovníky a širokou veřejnost!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2004. vyd. Ostrava: Montanex, 2004, 150 s. ISBN 80-722-5123-6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LÉGL, Jiří, František KISLINGER a Jana LANÍKOVÁ.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logie a ochrana životního prostřed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: 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 gymnázi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Vyd. 1. Praha: Fortuna, 2002, 157 s. ISBN 80-716-8828-2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6854-F661-4E10-BB79-2089A3801FE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CO JE TO EKOLOGIE</a:t>
            </a:r>
            <a:endParaRPr b="0" lang="en-US" sz="44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 „</a:t>
            </a:r>
            <a:r>
              <a:rPr b="0" i="1" lang="cs-CZ" sz="2000" spc="-1" strike="noStrike">
                <a:solidFill>
                  <a:srgbClr val="04617b"/>
                </a:solidFill>
                <a:latin typeface="Verdana"/>
              </a:rPr>
              <a:t>Člověk si teprve tehdy podmaní přírodu, až se plně podřídí jejím zákonům.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(Francis Bac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4617b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Anotac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8920" y="1557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Materiál je koncipován jako úvodní lekce k celku EKOLOGIE pro čtvrtý ročník čtyřletého a osmý ročník osmiletého studi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Na úvod je vložena evokace pomocí pětilístku. Žáci vypracují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ětilístek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nstruk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rvní řádek je jednoslovné téma, námět (podstatné jméno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Druhý řádek je dvouslovný popis námětu, odpověď na otázku, jaký je námě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Třetí řádek je sestaven ze tří slov vyjadřujících dějovou složku námětu – tedy, co dělá nebo co se s ním děj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Čtvrtý řádek je věta o čtyřech slovech vztahující se k námě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slední řádek je jednoslovné synonymum, které rekapituluje podstatu námětu – co si vybavím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Jako reflexe je použita forma vypracování vlastního ekologického desatera – práce ve skupinách. Formou brainstormingu pak sestaví desatero třídního kolektivu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Zástupný symbol pro číslo snímku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F01-FFF4-4604-8E46-C6D53D718BF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evládající klíčové kompetence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etence k učení, kompetence k řešení problémů, kompetence sociální a personální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kolní vzdělávací program pro čtyřleté studium – čtvrtý roční (případně odpovídající ročníky víceletého studia) – učební osnovy BIOLOGIE – Ekologie, seminář z biologi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Formy výuky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Uvědomění probíhá formou frontálního výkladu a vyhledáváním pojmů a vztahů pomocí internetu. Materiál lze využít s pomocí PC a dataprojektoru, nutné je připojení na intern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užití symbolů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:             Zapamatuj si !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Poznamenej si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  <a:ea typeface="Verdana"/>
              </a:rPr>
              <a:t>Podívej se na video.           Najdi na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032B-EA01-4728-9CA3-BBE41F8F23F1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3132000" y="3645000"/>
            <a:ext cx="648000" cy="912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Admin\AppData\Local\Microsoft\Windows\Temporary Internet Files\Content.IE5\UTJF7CS0\MC900334546[1].wmf"/>
          <p:cNvPicPr/>
          <p:nvPr/>
        </p:nvPicPr>
        <p:blipFill>
          <a:blip r:embed="rId2"/>
          <a:stretch/>
        </p:blipFill>
        <p:spPr>
          <a:xfrm>
            <a:off x="5940360" y="3789360"/>
            <a:ext cx="414360" cy="934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Admin\AppData\Local\Microsoft\Windows\Temporary Internet Files\Content.IE5\2AT3ADVM\MC900291016[1].wmf"/>
          <p:cNvPicPr/>
          <p:nvPr/>
        </p:nvPicPr>
        <p:blipFill>
          <a:blip r:embed="rId3"/>
          <a:stretch/>
        </p:blipFill>
        <p:spPr>
          <a:xfrm>
            <a:off x="900000" y="4797360"/>
            <a:ext cx="579600" cy="600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C:\Users\Admin\AppData\Local\Microsoft\Windows\Temporary Internet Files\Content.IE5\UTJF7CS0\MC900298305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4869000"/>
            <a:ext cx="4316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KOL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5280" y="1483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Verdana"/>
              </a:rPr>
              <a:t>Vytvoř pětilístek na slovo EKOLOGI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Diagram 3" descr=""/>
          <p:cNvPicPr/>
          <p:nvPr/>
        </p:nvPicPr>
        <p:blipFill>
          <a:blip r:embed="rId1"/>
          <a:stretch/>
        </p:blipFill>
        <p:spPr>
          <a:xfrm>
            <a:off x="1042920" y="1987560"/>
            <a:ext cx="6862680" cy="4711680"/>
          </a:xfrm>
          <a:prstGeom prst="rect">
            <a:avLst/>
          </a:prstGeom>
          <a:ln w="0">
            <a:noFill/>
          </a:ln>
        </p:spPr>
      </p:pic>
      <p:sp>
        <p:nvSpPr>
          <p:cNvPr id="233" name="Zástupný symbol pro číslo snímku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2682-04BF-4CF3-9172-562F46EB52D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EKOLOGI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55736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kologie se zabývá vztahy mezi organismy a jejich prostředí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395280" y="2637000"/>
            <a:ext cx="1287360" cy="181116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2213280" y="3789360"/>
            <a:ext cx="400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iko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D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Logo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VĚ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torem pojmu je E. Haeckel (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://upload.wikimedia.org/wikipedia/commons/thumb/3/3b/Ernst_Haeckel_1860.jpg/220px-Ernst_Haeckel_1860.jpg"/>
          <p:cNvPicPr/>
          <p:nvPr/>
        </p:nvPicPr>
        <p:blipFill>
          <a:blip r:embed="rId2"/>
          <a:stretch/>
        </p:blipFill>
        <p:spPr>
          <a:xfrm>
            <a:off x="6419880" y="2517840"/>
            <a:ext cx="2290680" cy="343224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9"/>
          <p:cNvSpPr/>
          <p:nvPr/>
        </p:nvSpPr>
        <p:spPr>
          <a:xfrm>
            <a:off x="6184440" y="5805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1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253-C4AD-48DA-86CF-69E4CD570D2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DĚLENÍ EKOLOGIE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1268280"/>
            <a:ext cx="6697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úrovně skup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Autekologi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Demekologi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Synekologie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systematických skup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kologie bakterií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kologie rostlin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kologie……..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marL="623880" indent="-514440"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le prostřed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kologie vody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kologie lesa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dd9"/>
                </a:solidFill>
                <a:latin typeface="Verdana"/>
              </a:rPr>
              <a:t>Ekologie………</a:t>
            </a: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  <a:p>
            <a:pPr lvl="1" marL="915840" indent="-514080">
              <a:spcBef>
                <a:spcPts val="300"/>
              </a:spcBef>
              <a:buClr>
                <a:srgbClr val="009dd9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dd9"/>
              </a:solidFill>
              <a:latin typeface="Verdana"/>
            </a:endParaRPr>
          </a:p>
        </p:txBody>
      </p:sp>
      <p:pic>
        <p:nvPicPr>
          <p:cNvPr id="24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7020000" y="2421000"/>
            <a:ext cx="1285920" cy="1809720"/>
          </a:xfrm>
          <a:prstGeom prst="rect">
            <a:avLst/>
          </a:prstGeom>
          <a:ln w="0">
            <a:noFill/>
          </a:ln>
        </p:spPr>
      </p:pic>
      <p:sp>
        <p:nvSpPr>
          <p:cNvPr id="244" name="Zástupný symbol pro číslo snímku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625A-00A8-4CF3-93F4-90A6E1238D2A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ovéPole 6"/>
          <p:cNvSpPr/>
          <p:nvPr/>
        </p:nvSpPr>
        <p:spPr>
          <a:xfrm>
            <a:off x="6670080" y="4508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pl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Přímá spojovací šipka 8"/>
          <p:cNvCxnSpPr/>
          <p:nvPr/>
        </p:nvCxnSpPr>
        <p:spPr>
          <a:xfrm flipH="1">
            <a:off x="3058920" y="4652640"/>
            <a:ext cx="3529440" cy="108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7" name="Přímá spojovací šipka 10"/>
          <p:cNvCxnSpPr>
            <a:stCxn id="245" idx="1"/>
          </p:cNvCxnSpPr>
          <p:nvPr/>
        </p:nvCxnSpPr>
        <p:spPr>
          <a:xfrm flipH="1">
            <a:off x="3492000" y="4692240"/>
            <a:ext cx="3168000" cy="1616760"/>
          </a:xfrm>
          <a:prstGeom prst="straightConnector1">
            <a:avLst/>
          </a:prstGeom>
          <a:ln w="1008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4535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Verdana"/>
              </a:rPr>
              <a:t>ÚKOL:</a:t>
            </a:r>
            <a:endParaRPr b="0" lang="en-US" sz="40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557360"/>
            <a:ext cx="822960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HLEDEJ V UČEBNICI NEBO PŘÍMO NA INTERNETU VÝZNAM SLOV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f6fc6"/>
                </a:solidFill>
                <a:latin typeface="Verdana"/>
              </a:rPr>
              <a:t>AUEKOLOGIE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Verdana"/>
              </a:rPr>
              <a:t>DEMEKOLOGIE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5a839"/>
                </a:solidFill>
                <a:latin typeface="Verdana"/>
              </a:rPr>
              <a:t>SYNEKOLOGIE</a:t>
            </a:r>
            <a:endParaRPr b="0" lang="en-US" sz="2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0" name="TextovéPole 3"/>
          <p:cNvSpPr/>
          <p:nvPr/>
        </p:nvSpPr>
        <p:spPr>
          <a:xfrm>
            <a:off x="539280" y="3716280"/>
            <a:ext cx="45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f6fc6"/>
                </a:solidFill>
                <a:latin typeface="Verdana"/>
              </a:rPr>
              <a:t>STUDUJE VZTAHY JEDINCE K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4"/>
          <p:cNvSpPr/>
          <p:nvPr/>
        </p:nvSpPr>
        <p:spPr>
          <a:xfrm>
            <a:off x="1844640" y="4292640"/>
            <a:ext cx="66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Verdana"/>
              </a:rPr>
              <a:t>STUDUJE VZTAHY MEZI POPULACEMI A JEJICH PROSTŘED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ovéPole 5"/>
          <p:cNvSpPr/>
          <p:nvPr/>
        </p:nvSpPr>
        <p:spPr>
          <a:xfrm>
            <a:off x="546480" y="5013360"/>
            <a:ext cx="67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a8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5a839"/>
                </a:solidFill>
                <a:latin typeface="Verdana"/>
              </a:rPr>
              <a:t>STUDUJE VZTAHY NA ÚROVNI SPOLEČENSTEV A EKOSYTÉM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Users\Admin\AppData\Local\Microsoft\Windows\Temporary Internet Files\Content.IE5\Q8L7FNA7\MC900299133[1].wmf"/>
          <p:cNvPicPr/>
          <p:nvPr/>
        </p:nvPicPr>
        <p:blipFill>
          <a:blip r:embed="rId1"/>
          <a:stretch/>
        </p:blipFill>
        <p:spPr>
          <a:xfrm>
            <a:off x="6948360" y="1989000"/>
            <a:ext cx="1243080" cy="1749600"/>
          </a:xfrm>
          <a:prstGeom prst="rect">
            <a:avLst/>
          </a:prstGeom>
          <a:ln w="0">
            <a:noFill/>
          </a:ln>
        </p:spPr>
      </p:pic>
      <p:sp>
        <p:nvSpPr>
          <p:cNvPr id="254" name="Zástupný symbol pro číslo snímku 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0DDA-7605-408B-AF84-B3C52CA18AF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C:\Users\Admin\AppData\Local\Microsoft\Windows\Temporary Internet Files\Content.IE5\UTJF7CS0\MC900298305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01080" y="1052640"/>
            <a:ext cx="7254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Verdana"/>
              </a:rPr>
              <a:t>Jak vysvětlíš dělení ŽP ze synekologického hlediska?</a:t>
            </a:r>
            <a:endParaRPr b="0" lang="en-US" sz="3600" spc="-1" strike="noStrike">
              <a:solidFill>
                <a:srgbClr val="04617b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9280" y="2420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ivotní prostředí dělíme n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rod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roz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nehodnoc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měl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ovéPole 3"/>
          <p:cNvSpPr/>
          <p:nvPr/>
        </p:nvSpPr>
        <p:spPr>
          <a:xfrm>
            <a:off x="468360" y="479736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veď na příklad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jakém prostředí nyní žije většina obyvatel naší Země? Vysvět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C:\Users\Admin\AppData\Local\Microsoft\Windows\Temporary Internet Files\Content.IE5\UTJF7CS0\MC900334546[1].wmf"/>
          <p:cNvPicPr/>
          <p:nvPr/>
        </p:nvPicPr>
        <p:blipFill>
          <a:blip r:embed="rId1"/>
          <a:stretch/>
        </p:blipFill>
        <p:spPr>
          <a:xfrm>
            <a:off x="6732720" y="2205000"/>
            <a:ext cx="812520" cy="1835280"/>
          </a:xfrm>
          <a:prstGeom prst="rect">
            <a:avLst/>
          </a:prstGeom>
          <a:ln w="0">
            <a:noFill/>
          </a:ln>
        </p:spPr>
      </p:pic>
      <p:sp>
        <p:nvSpPr>
          <p:cNvPr id="260" name="Zástupný symbol pro číslo snímku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1180-BFE2-4A05-8EB7-46DDE0E54E42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5:36:48Z</dcterms:created>
  <dc:creator>Admin</dc:creator>
  <dc:description/>
  <dc:language>en-US</dc:language>
  <cp:lastModifiedBy>Konetzná Magda</cp:lastModifiedBy>
  <dcterms:modified xsi:type="dcterms:W3CDTF">2013-06-06T09:40:59Z</dcterms:modified>
  <cp:revision>20</cp:revision>
  <dc:subject/>
  <dc:title>Snímek 1</dc:title>
</cp:coreProperties>
</file>