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F09-067B-4DF6-9805-F8430EDB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9F8-CBE7-4F63-82CA-01D0223D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A9-DB44-45BB-B1E7-DAA943DC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789-AD1D-47A7-BF35-CDE2BB1F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6D55-0DE4-4450-97B5-4F49D20B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8D0-8C72-4452-9CBC-1F96E56F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7D6B-DE1D-4B2F-AA7A-1E6B9BA6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E5C7-7FBB-4147-B6D1-C0445F6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C17A-E0DE-4C09-B6A2-E29E1824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5C87-E3C0-4707-92B3-9F90C207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4847-8EEF-4F0C-98A3-2BC52F7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69A-33E8-4A65-9DA1-75DFDA08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4D12-C526-4DD6-BCE5-0223587E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ADE6-7D7F-4E96-A541-5DB33BB4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0468-3244-4149-9AD7-3C40C146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99A-78B7-4027-82F5-843E61A7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FE7C-A391-49E7-A14C-0EDFCF56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67A8E-8594-4FB9-B920-2EC6CE6F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EB8F0-A326-42BE-854A-25B72AB7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BEEFC-3105-44FE-8A5D-6FDA9EBD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7E13C-928F-43AC-90F9-B7F5C0F6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9C39C-FA94-4847-BBFC-49F32259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091-F90A-455C-AF8F-1B2D33A8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911DE-B5D0-414E-8589-F50BF742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283C7-D909-44D0-ACA4-A733102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FBFAC-3764-4ECD-86DA-7E2B45E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78C2B-E530-4481-B7D7-DA2C586F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B1875-52A0-4B8C-BDA7-97B86001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17D24-D88F-4B73-AB43-9D0B56F7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5DA07-0F47-4F68-9158-11D26570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52E4-B8F6-4D10-95FE-5977B2F3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5360-DEA6-4A54-88AB-E0DE60F2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0930-13CC-487F-A03D-2C34FFA2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E4A-161E-4E1B-A465-BD86335D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6FBE-E51F-496D-8852-EE59B1D4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4C3F-CF6A-4BEA-93ED-AE51B30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77C0-2929-4216-80FD-D95ADFC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0612-C241-426A-AA23-E3F895E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5173-7F6F-47FA-9AD7-5D065614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40D0-845E-4994-825A-F7F3767B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3122-1B5E-4656-A8A3-C20A608E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8970-DF93-4997-8477-36CAE249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402E-D7FD-4AC1-B7C0-ADA048E9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65D-13ED-4BB7-A809-A95BAE2B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C56-3FC2-428F-B830-64ACEC47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E8B-2F46-48E1-9727-7643B3A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6F7-E2B4-41F0-ACFC-AC270F7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17D-4D03-407E-B2D5-83214B5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D88-ECBC-480A-9F8E-BB548CC99C8F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15C4-2761-4A44-AB84-4D7DA42FED6A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1AC-973B-4B3C-BB73-717103AD632F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32D-7F46-46E7-9852-59F9D31BD18D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39FD-F91B-44CD-B705-CD93F3FB07AD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7130-6C8B-4476-9A72-2F7C9E4C703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8477-104A-4656-8881-1B0A4267B22B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F7B8-DEDE-4C0E-837C-1E4387442B8F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 8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83D9-87E5-4FCB-9D48-C92BA4485B8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Verdana"/>
              </a:rPr>
              <a:t>Ochrana světovým moří a oceánů</a:t>
            </a:r>
            <a:endParaRPr b="0" lang="en-US" sz="36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achování vysoké druhové diverz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lankton, korálové útesy, ryby, magrovové porosty,   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chrana v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Odpady z lodí, odpady z pevnin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Vysoká teplota vod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Zvýšený obsah CO</a:t>
            </a:r>
            <a:r>
              <a:rPr b="0" lang="cs-CZ" sz="1600" spc="-1" strike="noStrike">
                <a:solidFill>
                  <a:srgbClr val="0f6fc6"/>
                </a:solidFill>
                <a:latin typeface="Verdana"/>
              </a:rPr>
              <a:t>2 </a:t>
            </a:r>
            <a:endParaRPr b="0" lang="en-US" sz="16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Toxické látk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řemnožení medúz a řas – narušená reakční schopnost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Těžba nerostného bohatství + tankery  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D30B-E48E-41F9-937A-88C275FF41E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Admin\AppData\Local\Microsoft\Windows\Temporary Internet Files\Content.IE5\87D3KACK\MC900200501[1].wmf"/>
          <p:cNvPicPr/>
          <p:nvPr/>
        </p:nvPicPr>
        <p:blipFill>
          <a:blip r:embed="rId1"/>
          <a:stretch/>
        </p:blipFill>
        <p:spPr>
          <a:xfrm>
            <a:off x="6804000" y="2565360"/>
            <a:ext cx="1825560" cy="179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7667640" y="5300640"/>
            <a:ext cx="936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RVINKA, Pavel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životní prostředí: učebnice pro střední odborné školy a učiliště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Praha: Nakladatelství České geografické společnosti, 2005, 118 s. ISBN 80-860-3463-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ek 1)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Wikipedia: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[online]. San Francisco (CA): Wikimedia Foundation, 2001- [cit. 2013-06-25]. Dostupné z: http://cs.wikipedia.org/wiki/Soubor:Watercycleczechhigh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B2BD-409F-43A4-8588-1FFF0189B01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ANTROPOGENNÍ OVLIVNĚNÍ VODY 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 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Kryton: Vodu jsme už recyklovali tolikrát, že už chutná jako holandský ležák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         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Červený trpaslí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56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lze využít v počítačové učebně nebo v odborné učebně s připojením k internetu. Umožňuje žákům pracovat samostatně s využitím internetu a odborné literatury nebo umožňuje učiteli formou výkladu motivovat pro další domácí studiu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občansk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uvede základní znečišťovatele vody a navrhne opatření. Dle průřezových témat označí důsledky znečišťování vody a chápe je jako globální ekologické problémy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studiem článků a poslechem pořadů, ve kterých odborníci vysvětlují daná témata a vyhledáváním pojmů a vztahů pomocí internetu. Materiál lze využít s pomocí PC, nutné je připojení na internet s audio výstupe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  Najdi na internetu.          Odpověz 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tázk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771640" y="5373720"/>
            <a:ext cx="648000" cy="912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6372360" y="5157720"/>
            <a:ext cx="358560" cy="812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179280" y="5877000"/>
            <a:ext cx="579600" cy="600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6093000"/>
            <a:ext cx="432000" cy="525240"/>
          </a:xfrm>
          <a:prstGeom prst="rect">
            <a:avLst/>
          </a:prstGeom>
          <a:ln w="0">
            <a:noFill/>
          </a:ln>
        </p:spPr>
      </p:pic>
      <p:sp>
        <p:nvSpPr>
          <p:cNvPr id="227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2DA8-31AF-4755-9BBC-BC9A791D4B5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C:\Users\Admin\AppData\Local\Microsoft\Windows\Temporary Internet Files\Content.IE5\F3ID01WC\MC900282178[1].wmf"/>
          <p:cNvPicPr/>
          <p:nvPr/>
        </p:nvPicPr>
        <p:blipFill>
          <a:blip r:embed="rId6"/>
          <a:stretch/>
        </p:blipFill>
        <p:spPr>
          <a:xfrm>
            <a:off x="6516720" y="6021360"/>
            <a:ext cx="500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Vod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505D-C9A3-4E31-9076-8FE77BBBF9C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Soubor:Watercycleczechhigh.jpg"/>
          <p:cNvPicPr/>
          <p:nvPr/>
        </p:nvPicPr>
        <p:blipFill>
          <a:blip r:embed="rId1"/>
          <a:stretch/>
        </p:blipFill>
        <p:spPr>
          <a:xfrm>
            <a:off x="324000" y="1268280"/>
            <a:ext cx="7200720" cy="5010120"/>
          </a:xfrm>
          <a:prstGeom prst="rect">
            <a:avLst/>
          </a:prstGeom>
          <a:ln w="0">
            <a:noFill/>
          </a:ln>
        </p:spPr>
      </p:pic>
      <p:sp>
        <p:nvSpPr>
          <p:cNvPr id="232" name="TextovéPole 6"/>
          <p:cNvSpPr/>
          <p:nvPr/>
        </p:nvSpPr>
        <p:spPr>
          <a:xfrm>
            <a:off x="326520" y="623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ovéPole 7"/>
          <p:cNvSpPr/>
          <p:nvPr/>
        </p:nvSpPr>
        <p:spPr>
          <a:xfrm>
            <a:off x="7596360" y="126828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pakuj si koloběh vody v přírodě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Users\Admin\AppData\Local\Microsoft\Windows\Temporary Internet Files\Content.IE5\Q8L7FNA7\MC900299133[1].wmf"/>
          <p:cNvPicPr/>
          <p:nvPr/>
        </p:nvPicPr>
        <p:blipFill>
          <a:blip r:embed="rId2"/>
          <a:stretch/>
        </p:blipFill>
        <p:spPr>
          <a:xfrm>
            <a:off x="7740720" y="2708280"/>
            <a:ext cx="1008000" cy="142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Users\Admin\AppData\Local\Microsoft\Windows\Temporary Internet Files\Content.IE5\UTJF7CS0\MC900298305[1].wmf"/>
          <p:cNvPicPr/>
          <p:nvPr/>
        </p:nvPicPr>
        <p:blipFill>
          <a:blip r:embed="rId3"/>
          <a:stretch/>
        </p:blipFill>
        <p:spPr>
          <a:xfrm>
            <a:off x="7812000" y="4869000"/>
            <a:ext cx="8636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potřeba vody...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á je průměrná spotřeba vody v ČR pro jednu čtyřčlennou domácnost za rok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lik vody je pak v této domácnosti využito pouze na WC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á navrhnete opatření pro šetření s vod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 vůbec nutné toto šetření? Uveďte argumenty pr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je to se spotřebou vody ve světě? Které země jsou nejméně šetrné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1E46-BE00-4A9E-81E9-CD6E6138E67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C:\Users\Admin\AppData\Local\Microsoft\Windows\Temporary Internet Files\Content.IE5\UTJF7CS0\MC900298305[1].wmf"/>
          <p:cNvPicPr/>
          <p:nvPr/>
        </p:nvPicPr>
        <p:blipFill>
          <a:blip r:embed="rId1"/>
          <a:stretch/>
        </p:blipFill>
        <p:spPr>
          <a:xfrm>
            <a:off x="7812000" y="4869000"/>
            <a:ext cx="1184400" cy="1439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101080" y="2421000"/>
            <a:ext cx="647640" cy="1468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Users\Admin\AppData\Local\Microsoft\Windows\Temporary Internet Files\Content.IE5\F3ID01WC\MC900282178[1].wmf"/>
          <p:cNvPicPr/>
          <p:nvPr/>
        </p:nvPicPr>
        <p:blipFill>
          <a:blip r:embed="rId3"/>
          <a:stretch/>
        </p:blipFill>
        <p:spPr>
          <a:xfrm>
            <a:off x="7812000" y="549360"/>
            <a:ext cx="8636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nečištění vod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34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atogenní organis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toxická organická hmo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ěžké ko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tmosférické imise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evné lát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plotní znečiště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výšená koncentrace sol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0172-9B57-4037-9AFB-9F49CC24187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C:\Users\Admin\AppData\Local\Microsoft\Windows\Temporary Internet Files\Content.IE5\UTJF7CS0\MC900298305[1].wmf"/>
          <p:cNvPicPr/>
          <p:nvPr/>
        </p:nvPicPr>
        <p:blipFill>
          <a:blip r:embed="rId1"/>
          <a:stretch/>
        </p:blipFill>
        <p:spPr>
          <a:xfrm>
            <a:off x="6804000" y="1125360"/>
            <a:ext cx="1184400" cy="144000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5"/>
          <p:cNvSpPr/>
          <p:nvPr/>
        </p:nvSpPr>
        <p:spPr>
          <a:xfrm>
            <a:off x="6372360" y="30686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robné informace nalezneš na této strá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C:\Users\Admin\AppData\Local\Microsoft\Windows\Temporary Internet Files\Content.IE5\YK6I8EG1\MC900311308[1].wmf"/>
          <p:cNvPicPr/>
          <p:nvPr/>
        </p:nvPicPr>
        <p:blipFill>
          <a:blip r:embed="rId2"/>
          <a:stretch/>
        </p:blipFill>
        <p:spPr>
          <a:xfrm>
            <a:off x="5796000" y="4292640"/>
            <a:ext cx="2873160" cy="2070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C:\Users\Admin\AppData\Local\Microsoft\Windows\Temporary Internet Files\Content.IE5\UTJF7CS0\MC900334546[1].wmf"/>
          <p:cNvPicPr/>
          <p:nvPr/>
        </p:nvPicPr>
        <p:blipFill>
          <a:blip r:embed="rId3"/>
          <a:stretch/>
        </p:blipFill>
        <p:spPr>
          <a:xfrm>
            <a:off x="826920" y="4941720"/>
            <a:ext cx="6494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Druhy odpadních vod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lašková (komunální) odpadní vo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ůmyslová odpadní vo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padní voda ze zemědělských podnik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7FEA-0960-4E5C-8991-B1AA1B36D35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Graf 4" descr=""/>
          <p:cNvPicPr/>
          <p:nvPr/>
        </p:nvPicPr>
        <p:blipFill>
          <a:blip r:embed="rId1"/>
          <a:stretch/>
        </p:blipFill>
        <p:spPr>
          <a:xfrm>
            <a:off x="3451320" y="1785960"/>
            <a:ext cx="5844960" cy="360828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5"/>
          <p:cNvSpPr/>
          <p:nvPr/>
        </p:nvSpPr>
        <p:spPr>
          <a:xfrm>
            <a:off x="324000" y="249228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l znečišťování komunální odpadní 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971640" y="3357720"/>
            <a:ext cx="647640" cy="146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:\Users\Admin\AppData\Local\Microsoft\Windows\Temporary Internet Files\Content.IE5\UTJF7CS0\MC900298305[1].wmf"/>
          <p:cNvPicPr/>
          <p:nvPr/>
        </p:nvPicPr>
        <p:blipFill>
          <a:blip r:embed="rId3"/>
          <a:stretch/>
        </p:blipFill>
        <p:spPr>
          <a:xfrm>
            <a:off x="8244000" y="5445000"/>
            <a:ext cx="6746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Čištění odpadních vod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dpadní vody obsahují 3 základní frak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Unášené sedimentující látk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Vznášející se nesedimentující látk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Rozpuštěné látk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ištění probíhá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Mechanickou cesto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Biologickou cesto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Chemickou cestou 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6700-9553-4758-8E7B-E5DD50E2E75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524720" y="4653000"/>
            <a:ext cx="6476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Verdana"/>
              </a:rPr>
              <a:t>Zdravotní rizika znečištěné vody</a:t>
            </a:r>
            <a:endParaRPr b="0" lang="en-US" sz="36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413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pitná vod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užitková vod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provozní vod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teré látky mohou být obsaženy v pitné vodě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Escherichia col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? Jaký vztah má tento organismus vzhledem k pitné vodě a její kontaminaci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F551-6216-4483-BF6F-10945446C3B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0" descr="C:\Users\Admin\AppData\Local\Microsoft\Windows\Temporary Internet Files\Content.IE5\UTJF7CS0\MC900298305[1].wmf"/>
          <p:cNvPicPr/>
          <p:nvPr/>
        </p:nvPicPr>
        <p:blipFill>
          <a:blip r:embed="rId1"/>
          <a:stretch/>
        </p:blipFill>
        <p:spPr>
          <a:xfrm>
            <a:off x="826920" y="5445000"/>
            <a:ext cx="72072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TextovéPole 5"/>
          <p:cNvSpPr/>
          <p:nvPr/>
        </p:nvSpPr>
        <p:spPr>
          <a:xfrm>
            <a:off x="1842120" y="5661000"/>
            <a:ext cx="68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využitím internetu a odborné literatury odpověz na dané otáz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C:\Users\Admin\AppData\Local\Microsoft\Windows\Temporary Internet Files\Content.IE5\F3ID01WC\MC900282178[1].wmf"/>
          <p:cNvPicPr/>
          <p:nvPr/>
        </p:nvPicPr>
        <p:blipFill>
          <a:blip r:embed="rId2"/>
          <a:stretch/>
        </p:blipFill>
        <p:spPr>
          <a:xfrm>
            <a:off x="6804000" y="1484280"/>
            <a:ext cx="1224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08-29T06:39:24Z</dcterms:modified>
  <cp:revision>42</cp:revision>
  <dc:subject/>
  <dc:title>Snímek 1</dc:title>
</cp:coreProperties>
</file>