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4B87-F531-4DF3-B2FC-85D5084879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0398-44A7-4876-A974-DFF0EA8174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FF99-F567-4ECB-AB21-54967A7D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1F89-8B7F-47D9-9825-D62E3649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4C6A-9900-4EDC-A46F-B40C220EC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3E5A-F229-4A5C-884E-05B0DA136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9726-D362-4327-A2B3-0FDFC2095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6EDE-894A-476D-9AEE-2459FC25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BE97-4F51-4EFD-A860-8661323C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3FE7-69E6-45C5-AFFF-B8D2953C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0F24-8877-4051-A3E5-3DB58CC6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0BE5-C2CE-472B-9382-C075CA86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BD31-55AC-4DA7-8E76-F22BF7BD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E7C4-8E60-48F2-8E12-C221F424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FBDC-FB6D-4689-BC17-BB226F95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AE98-4144-41FB-AA16-2F4EF96D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C870-C6CA-47F3-A464-50F20615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E27A-5B1E-4433-8C9F-86AEF8A0A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B88C-AD6F-40E5-8E59-A48EE0587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45EA0E-6D79-4493-8932-D1CD6893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D98966-5205-4D73-8FC7-2093B3FE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3B0763-6887-4346-8B48-26C98432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6D3F5C-879C-4151-9B10-6F1406AE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63F5B3-53D3-43FD-B9BF-A3D53AAD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904E-2934-4026-97E7-F30E0628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D6E278-D01C-4C27-A2A6-E60AD496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B1A47E-B08E-40E3-AB45-B285EEF4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59FCC9-AB98-4351-8113-0636641D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42D298-B5D6-43DD-BAF2-4AA3888F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745DAB-FD14-4DA4-B388-C88B8C8C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158D9E-8787-4B98-9458-058705DB3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3B1608-791D-4A30-A150-285161296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E24DC-368F-4064-944A-7E6EFFBE3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E2E85-5BAC-4726-A40C-EF3CAD50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31811-868F-42BA-8340-9BAE5F7E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4A28-49CD-4AF0-8593-AAA3E099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4B46D-394A-4533-8592-606FA802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6EB20-F6C2-47E8-AE8F-42FF9369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F18E1-98CC-4501-A146-84D78C34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657F2-808F-4E96-9AF8-675372AB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4612B-7FD2-4C2C-BD4F-885696EC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D9027-845C-4958-8357-7C74772D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A2B1A-DBA9-41D4-A3DD-0AAF2551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375A5-48AE-4323-AA50-FCC646651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FC9E7-C41B-4737-9B26-CBF3C14C8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FE96-7EFD-40E0-94A9-C1C75CB4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4005-EC42-46EE-9705-B75D8266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7C9E-2C7E-4FD0-A8B7-4A9FF11D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E68C-F4C0-48E3-B2B2-C4FC9A00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10C8-BE56-4BF4-B44E-6AD698AC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6276-F39A-438E-8458-F80039E6C660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40F9-DDFF-49E4-8540-B533EA046904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bdélník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bdélník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bdélník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bdélník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aoblený obdélník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aoblený obdélník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bdélník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bdélník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bdélník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bdélník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AD8D-9B09-4E71-B161-7A31B332D4B2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35D4-6226-47B6-91D9-69CF054A8EB3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2640-AC66-4467-BCD1-6F0096A7190A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E14C-349A-4894-8BFB-CD6815B3998A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0519-172D-45A8-937E-B56365514971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B98D-EEB0-4EC4-98A6-2300E71A8996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5" descr="C:\Users\Admin\Documents\JANA\DUMY\logo dumy.jpg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460440" y="1432080"/>
          <a:ext cx="8442360" cy="5425920"/>
        </p:xfrm>
        <a:graphic>
          <a:graphicData uri="http://schemas.openxmlformats.org/drawingml/2006/table">
            <a:tbl>
              <a:tblPr/>
              <a:tblGrid>
                <a:gridCol w="4390920"/>
                <a:gridCol w="4051440"/>
              </a:tblGrid>
              <a:tr h="102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ÁZEV ŠKOL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ymnázium Fr. Živného, Bohumín, Jana Palacha 794, příspěvková organiz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Člověk a přír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1335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ZDĚLÁVACÍ OB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ologie pro 4. ročník SŠ a odpovídající ročník víceletých gymnázi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ÉM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kolo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70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gr. Jana Pastuchov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U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 6.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713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ÁZEV A ČÍSLO PROJEKT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číme se pro život v 21. století CZ.1.07/1.5.00/34.06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ZNAČENÍVÝUKOVÉ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Y_32_INOVACE_BI.PS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25" name="Zástupný symbol pro číslo snímku 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29C4-8F51-4D44-BCD1-26CC31E99911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68360" y="765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o jsou to organism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2244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23760" indent="-514080">
              <a:spcBef>
                <a:spcPts val="300"/>
              </a:spcBef>
              <a:buClr>
                <a:srgbClr val="009dd9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Stenoekní – </a:t>
            </a:r>
            <a:r>
              <a:rPr b="0" lang="cs-CZ" sz="1600" spc="-1" strike="noStrike">
                <a:solidFill>
                  <a:srgbClr val="009dd9"/>
                </a:solidFill>
                <a:latin typeface="Verdana"/>
              </a:rPr>
              <a:t>úzká ekologická valence</a:t>
            </a:r>
            <a:endParaRPr b="0" lang="en-US" sz="1600" spc="-1" strike="noStrike">
              <a:solidFill>
                <a:srgbClr val="009dd9"/>
              </a:solidFill>
              <a:latin typeface="Verdana"/>
            </a:endParaRPr>
          </a:p>
          <a:p>
            <a:pPr lvl="1" marL="923760" indent="-514080">
              <a:spcBef>
                <a:spcPts val="300"/>
              </a:spcBef>
              <a:buClr>
                <a:srgbClr val="009dd9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Euryekní - </a:t>
            </a:r>
            <a:r>
              <a:rPr b="0" lang="cs-CZ" sz="1600" spc="-1" strike="noStrike">
                <a:solidFill>
                  <a:srgbClr val="009dd9"/>
                </a:solidFill>
                <a:latin typeface="Verdana"/>
              </a:rPr>
              <a:t>široká ekologická valence – velká </a:t>
            </a:r>
            <a:endParaRPr b="0" lang="en-US" sz="1600" spc="-1" strike="noStrike">
              <a:solidFill>
                <a:srgbClr val="009dd9"/>
              </a:solidFill>
              <a:latin typeface="Verdana"/>
            </a:endParaRPr>
          </a:p>
          <a:p>
            <a:pPr lvl="1" marL="923760" indent="-514080">
              <a:spcBef>
                <a:spcPts val="300"/>
              </a:spcBef>
              <a:buClr>
                <a:srgbClr val="009dd9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923760" indent="-514080">
              <a:spcBef>
                <a:spcPts val="300"/>
              </a:spcBef>
              <a:buClr>
                <a:srgbClr val="009dd9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Stenotermní – </a:t>
            </a:r>
            <a:r>
              <a:rPr b="0" lang="cs-CZ" sz="1600" spc="-1" strike="noStrike">
                <a:solidFill>
                  <a:srgbClr val="009dd9"/>
                </a:solidFill>
                <a:latin typeface="Verdana"/>
              </a:rPr>
              <a:t>organismus, který nesnáší kolísání teplot</a:t>
            </a:r>
            <a:endParaRPr b="0" lang="en-US" sz="1600" spc="-1" strike="noStrike">
              <a:solidFill>
                <a:srgbClr val="009dd9"/>
              </a:solidFill>
              <a:latin typeface="Verdana"/>
            </a:endParaRPr>
          </a:p>
          <a:p>
            <a:pPr lvl="1" marL="923760" indent="-514080">
              <a:spcBef>
                <a:spcPts val="300"/>
              </a:spcBef>
              <a:buClr>
                <a:srgbClr val="009dd9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Eurytermní - ............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923760" indent="-514080">
              <a:spcBef>
                <a:spcPts val="300"/>
              </a:spcBef>
              <a:buClr>
                <a:srgbClr val="009dd9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923760" indent="-514080">
              <a:spcBef>
                <a:spcPts val="300"/>
              </a:spcBef>
              <a:buClr>
                <a:srgbClr val="009dd9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Stenovalentní = Stenoekní 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923760" indent="-514080">
              <a:spcBef>
                <a:spcPts val="300"/>
              </a:spcBef>
              <a:buClr>
                <a:srgbClr val="009dd9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Euryvalentní =...........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923760" indent="-514080">
              <a:spcBef>
                <a:spcPts val="300"/>
              </a:spcBef>
              <a:buClr>
                <a:srgbClr val="009dd9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923760" indent="-514080">
              <a:spcBef>
                <a:spcPts val="300"/>
              </a:spcBef>
              <a:buClr>
                <a:srgbClr val="009dd9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923760" indent="-514080">
              <a:spcBef>
                <a:spcPts val="300"/>
              </a:spcBef>
              <a:buClr>
                <a:srgbClr val="009dd9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923760" indent="-514080">
              <a:spcBef>
                <a:spcPts val="300"/>
              </a:spcBef>
              <a:buClr>
                <a:srgbClr val="009dd9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923760" indent="-514080">
              <a:spcBef>
                <a:spcPts val="300"/>
              </a:spcBef>
              <a:buClr>
                <a:srgbClr val="009dd9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923760" indent="-514080">
              <a:spcBef>
                <a:spcPts val="300"/>
              </a:spcBef>
              <a:buClr>
                <a:srgbClr val="009dd9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923760" indent="-514080">
              <a:spcBef>
                <a:spcPts val="300"/>
              </a:spcBef>
              <a:buClr>
                <a:srgbClr val="009dd9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923760" indent="-514080">
              <a:spcBef>
                <a:spcPts val="300"/>
              </a:spcBef>
              <a:buClr>
                <a:srgbClr val="009dd9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65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4C7A-E016-4404-8FD9-BBEF99A0EFAC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ovéPole 4"/>
          <p:cNvSpPr/>
          <p:nvPr/>
        </p:nvSpPr>
        <p:spPr>
          <a:xfrm>
            <a:off x="552600" y="5877000"/>
            <a:ext cx="67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jdi v učebnici nebo na internetu. Své výsledky zapiš do seš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2" descr="C:\Users\Admin\AppData\Local\Microsoft\Windows\Temporary Internet Files\Content.IE5\Q8L7FNA7\MC900299133[1].wmf"/>
          <p:cNvPicPr/>
          <p:nvPr/>
        </p:nvPicPr>
        <p:blipFill>
          <a:blip r:embed="rId1"/>
          <a:stretch/>
        </p:blipFill>
        <p:spPr>
          <a:xfrm>
            <a:off x="7236000" y="765000"/>
            <a:ext cx="1296720" cy="1825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C:\Users\Admin\AppData\Local\Microsoft\Windows\Temporary Internet Files\Content.IE5\UTJF7CS0\MC900334546[1].wmf"/>
          <p:cNvPicPr/>
          <p:nvPr/>
        </p:nvPicPr>
        <p:blipFill>
          <a:blip r:embed="rId2"/>
          <a:stretch/>
        </p:blipFill>
        <p:spPr>
          <a:xfrm>
            <a:off x="7524720" y="4653000"/>
            <a:ext cx="719280" cy="16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Areál = </a:t>
            </a:r>
            <a:r>
              <a:rPr b="0" lang="cs-CZ" sz="4000" spc="-1" strike="noStrike">
                <a:solidFill>
                  <a:srgbClr val="000000"/>
                </a:solidFill>
                <a:latin typeface="Verdana"/>
              </a:rPr>
              <a:t>místo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(území), které může organismus obývat vzhledem k jeho životním podmínkám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.  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1C70-51DA-4221-9A3F-4C0CE8763D16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Zástupný symbol pro obsah 2"/>
          <p:cNvSpPr/>
          <p:nvPr/>
        </p:nvSpPr>
        <p:spPr>
          <a:xfrm>
            <a:off x="914400" y="3357720"/>
            <a:ext cx="82296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Zástupný symbol pro obsah 2"/>
          <p:cNvSpPr/>
          <p:nvPr/>
        </p:nvSpPr>
        <p:spPr>
          <a:xfrm>
            <a:off x="395280" y="2060640"/>
            <a:ext cx="82296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Zástupný symbol pro obsah 2"/>
          <p:cNvSpPr/>
          <p:nvPr/>
        </p:nvSpPr>
        <p:spPr>
          <a:xfrm>
            <a:off x="611280" y="3500280"/>
            <a:ext cx="8229600" cy="43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Zástupný symbol pro obsah 2"/>
          <p:cNvSpPr/>
          <p:nvPr/>
        </p:nvSpPr>
        <p:spPr>
          <a:xfrm>
            <a:off x="622440" y="4680000"/>
            <a:ext cx="82296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ovéPole 8"/>
          <p:cNvSpPr/>
          <p:nvPr/>
        </p:nvSpPr>
        <p:spPr>
          <a:xfrm>
            <a:off x="2210760" y="1916280"/>
            <a:ext cx="5021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b5395"/>
                </a:solidFill>
                <a:latin typeface="Verdana"/>
              </a:rPr>
              <a:t>Co to jsou organism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b539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b5395"/>
                </a:solidFill>
                <a:latin typeface="Verdana"/>
              </a:rPr>
              <a:t>SYNANTROP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b539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b5395"/>
                </a:solidFill>
                <a:latin typeface="Verdana"/>
              </a:rPr>
              <a:t>KOSMOPOLIT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b539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b5395"/>
                </a:solidFill>
                <a:latin typeface="Verdana"/>
              </a:rPr>
              <a:t>ENDEMITICK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b539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b5395"/>
                </a:solidFill>
                <a:latin typeface="Verdana"/>
              </a:rPr>
              <a:t>RELIKTNÍ</a:t>
            </a:r>
            <a:r>
              <a:rPr b="0" lang="cs-CZ" sz="3200" spc="-1" strike="noStrike">
                <a:solidFill>
                  <a:srgbClr val="0b5395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0b5395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9" descr="C:\Users\Admin\AppData\Local\Microsoft\Windows\Temporary Internet Files\Content.IE5\UTJF7CS0\MC900298305[1].wmf"/>
          <p:cNvPicPr/>
          <p:nvPr/>
        </p:nvPicPr>
        <p:blipFill>
          <a:blip r:embed="rId1"/>
          <a:stretch/>
        </p:blipFill>
        <p:spPr>
          <a:xfrm>
            <a:off x="468360" y="4941720"/>
            <a:ext cx="993600" cy="1206720"/>
          </a:xfrm>
          <a:prstGeom prst="rect">
            <a:avLst/>
          </a:prstGeom>
          <a:ln w="0">
            <a:noFill/>
          </a:ln>
        </p:spPr>
      </p:pic>
      <p:sp>
        <p:nvSpPr>
          <p:cNvPr id="277" name="TextovéPole 10"/>
          <p:cNvSpPr/>
          <p:nvPr/>
        </p:nvSpPr>
        <p:spPr>
          <a:xfrm>
            <a:off x="1834560" y="5445000"/>
            <a:ext cx="659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Zde si vyslechni a přečti poutavé informace o Madagaska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5" descr="C:\Users\Admin\AppData\Local\Microsoft\Windows\Temporary Internet Files\Content.IE5\UTJF7CS0\MC900334546[1].wmf"/>
          <p:cNvPicPr/>
          <p:nvPr/>
        </p:nvPicPr>
        <p:blipFill>
          <a:blip r:embed="rId2"/>
          <a:stretch/>
        </p:blipFill>
        <p:spPr>
          <a:xfrm>
            <a:off x="7596360" y="1700280"/>
            <a:ext cx="7333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Zdroje: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3964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řispěvatelé Wikipedie,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 Justus von Liebig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 [online], Wikipedie: Otevřená encyklopedie, c2012, Datum poslední revize 10. 04. 2012, 15:59 UTC, [citováno 3. 10. 2012] &lt;</a:t>
            </a:r>
            <a:r>
              <a:rPr b="0" lang="cs-CZ" sz="1600" spc="-1" strike="noStrike" u="sng">
                <a:solidFill>
                  <a:srgbClr val="000000"/>
                </a:solidFill>
                <a:uFillTx/>
                <a:latin typeface="Verdana"/>
              </a:rPr>
              <a:t>http://cs.wikipedia.org/w/index.php?title=Justus_von_Liebig&amp;oldid=8375778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BERGER, Josef.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Ekologie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. 1. vyd. České Budějovice: Kopp, 1998, 197 s. ISBN 80-723-2013-0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REJMERS, Nikolaj Fjodorovič.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Abeceda přírody: Biosféra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. 1. vyd. Ostrava: Horizont, 1985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ŠLÉGL, Jiří, František KISLINGER a Jana LANÍKOVÁ.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Ekologie a ochrana životního prostředí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: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pro gymnázia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. Vyd. 1. Praha: Fortuna, 2002, 157 s. ISBN 80-716-8828-2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[online]. [cit. 2013-06-03]. Dostupné z: http://www.rozhlas.cz/priroda/zvirata/_zprava/69189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Zástupný symbol pro číslo snímku 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B35E-1804-4864-8407-FEF7683FAA8B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Verdana"/>
              </a:rPr>
              <a:t>ORGANISMUS A PROSTŘEDÍ </a:t>
            </a:r>
            <a:endParaRPr b="0" lang="en-US" sz="44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539640" y="4292640"/>
            <a:ext cx="7067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„</a:t>
            </a: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Příroda zachovává druhy, velmi málo se stará o jedince.“</a:t>
            </a:r>
            <a:r>
              <a:rPr b="0" i="1" lang="cs-CZ" sz="24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4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4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4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4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4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4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4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4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i="1" lang="cs-CZ" sz="24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4617b"/>
                </a:solidFill>
                <a:latin typeface="Verdana"/>
              </a:rPr>
              <a:t>    (Voltair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Anotace: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9528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Materiál je koncipován jako pomůcka pro učitele při výkladu učiva. Pro evokaci je využito opakování základních znaků života. Prezentace je vhodná pro frontální výuku. Během vyvozování učiva  žáci využívají učebnice a internet. Rozšiřující informace pocházejí z internetových stránek Českého rozhlasu. Tyto si mohou žáci přečíst nebo vyslechnou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evládající klíčové kompetence: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ompetence k učení, kompetence k řešení problémů, kompetence sociální a personální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Vazba na ŠVP: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Školní vzdělávací program pro čtyřleté studium – čtvrtý ročník (případně odpovídající ročníky víceletého studia) – učební osnovy BIOLOGIE – Ekologie, seminář z biologi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Formy výuky: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Uvědomění probíhá formou frontálního výkladu a vyhledáváním pojmů a vztahů pomocí internetu. Materiál lze využít s pomocí PC a dataprojektoru, nutné je připojení na interne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4338-A820-454A-A55F-8E4D34D00312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90756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Použití symbolů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:             Zapamatuj si !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      Poznamenej si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           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Podívej se na video.           Najdi na internetu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ABD8-91CB-4F81-B30F-F0D22C4D06A2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C:\Users\Admin\AppData\Local\Microsoft\Windows\Temporary Internet Files\Content.IE5\Q8L7FNA7\MC900299133[1].wmf"/>
          <p:cNvPicPr/>
          <p:nvPr/>
        </p:nvPicPr>
        <p:blipFill>
          <a:blip r:embed="rId1"/>
          <a:stretch/>
        </p:blipFill>
        <p:spPr>
          <a:xfrm>
            <a:off x="3203640" y="981000"/>
            <a:ext cx="647640" cy="912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C:\Users\Admin\AppData\Local\Microsoft\Windows\Temporary Internet Files\Content.IE5\UTJF7CS0\MC900334546[1].wmf"/>
          <p:cNvPicPr/>
          <p:nvPr/>
        </p:nvPicPr>
        <p:blipFill>
          <a:blip r:embed="rId2"/>
          <a:stretch/>
        </p:blipFill>
        <p:spPr>
          <a:xfrm>
            <a:off x="5940360" y="907920"/>
            <a:ext cx="414360" cy="935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C:\Users\Admin\AppData\Local\Microsoft\Windows\Temporary Internet Files\Content.IE5\2AT3ADVM\MC900291016[1].wmf"/>
          <p:cNvPicPr/>
          <p:nvPr/>
        </p:nvPicPr>
        <p:blipFill>
          <a:blip r:embed="rId3"/>
          <a:stretch/>
        </p:blipFill>
        <p:spPr>
          <a:xfrm>
            <a:off x="826920" y="1989000"/>
            <a:ext cx="579600" cy="600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0" descr="C:\Users\Admin\AppData\Local\Microsoft\Windows\Temporary Internet Files\Content.IE5\UTJF7CS0\MC900298305[1].wmf"/>
          <p:cNvPicPr/>
          <p:nvPr/>
        </p:nvPicPr>
        <p:blipFill>
          <a:blip r:embed="rId4"/>
          <a:stretch/>
        </p:blipFill>
        <p:spPr>
          <a:xfrm>
            <a:off x="4356000" y="2133720"/>
            <a:ext cx="432000" cy="5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Základní znaky života: 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95280" y="184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ÚKOL: Vyhledej na internetu (popřípadě si vzpomeň), které to jsou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4600-6153-47DB-BD7E-DF8884DA0EAA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042920" y="3070080"/>
          <a:ext cx="6096240" cy="2590920"/>
        </p:xfrm>
        <a:graphic>
          <a:graphicData uri="http://schemas.openxmlformats.org/drawingml/2006/table">
            <a:tbl>
              <a:tblPr/>
              <a:tblGrid>
                <a:gridCol w="1008000"/>
                <a:gridCol w="5088240"/>
              </a:tblGrid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TextovéPole 5"/>
          <p:cNvSpPr/>
          <p:nvPr/>
        </p:nvSpPr>
        <p:spPr>
          <a:xfrm>
            <a:off x="982080" y="6237360"/>
            <a:ext cx="39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Máš první písmena jako nápově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C:\Users\Admin\AppData\Local\Microsoft\Windows\Temporary Internet Files\Content.IE5\UTJF7CS0\MC900434381[1].wmf"/>
          <p:cNvPicPr/>
          <p:nvPr/>
        </p:nvPicPr>
        <p:blipFill>
          <a:blip r:embed="rId1"/>
          <a:stretch/>
        </p:blipFill>
        <p:spPr>
          <a:xfrm>
            <a:off x="5148360" y="5805360"/>
            <a:ext cx="8539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6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Základní znaky života: 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84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ÚKOL: Vyhledej na internetu (popřípadě si vzpomeň), které to jsou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48F2-B122-47C2-B4ED-C271AAFB157D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042920" y="3070080"/>
          <a:ext cx="6096240" cy="2590920"/>
        </p:xfrm>
        <a:graphic>
          <a:graphicData uri="http://schemas.openxmlformats.org/drawingml/2006/table">
            <a:tbl>
              <a:tblPr/>
              <a:tblGrid>
                <a:gridCol w="1008000"/>
                <a:gridCol w="5088240"/>
              </a:tblGrid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emické složení - podobn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něčná organiz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abolism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ráždiv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zmnožová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ědičn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volu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Živé soustavy: 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pic>
        <p:nvPicPr>
          <p:cNvPr id="248" name="Zástupný symbol pro obsah 82" descr=""/>
          <p:cNvPicPr/>
          <p:nvPr/>
        </p:nvPicPr>
        <p:blipFill>
          <a:blip r:embed="rId1"/>
          <a:stretch/>
        </p:blipFill>
        <p:spPr>
          <a:xfrm>
            <a:off x="390600" y="2206800"/>
            <a:ext cx="8362800" cy="4456080"/>
          </a:xfrm>
          <a:prstGeom prst="rect">
            <a:avLst/>
          </a:prstGeom>
          <a:ln w="0">
            <a:noFill/>
          </a:ln>
        </p:spPr>
      </p:pic>
      <p:sp>
        <p:nvSpPr>
          <p:cNvPr id="249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BBCA-4DA5-4B99-A205-8983C2060DDB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C:\Users\Admin\AppData\Local\Microsoft\Windows\Temporary Internet Files\Content.IE5\UTJF7CS0\MC900334546[1].wmf"/>
          <p:cNvPicPr/>
          <p:nvPr/>
        </p:nvPicPr>
        <p:blipFill>
          <a:blip r:embed="rId2"/>
          <a:stretch/>
        </p:blipFill>
        <p:spPr>
          <a:xfrm>
            <a:off x="7740720" y="620640"/>
            <a:ext cx="64764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11280" y="764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i="1" lang="cs-CZ" sz="2800" spc="-1" strike="noStrike">
                <a:solidFill>
                  <a:srgbClr val="000000"/>
                </a:solidFill>
                <a:latin typeface="Verdana"/>
              </a:rPr>
              <a:t>Faktor  prostředí, který je v minimu, omezuje život organismu.“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3792-4D92-405B-A0B6-1926A4DC8740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ovéPole 4"/>
          <p:cNvSpPr/>
          <p:nvPr/>
        </p:nvSpPr>
        <p:spPr>
          <a:xfrm>
            <a:off x="611280" y="2133720"/>
            <a:ext cx="4762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o je autorem této poučk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ji dnes zná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Justus von Liebig"/>
          <p:cNvPicPr/>
          <p:nvPr/>
        </p:nvPicPr>
        <p:blipFill>
          <a:blip r:embed="rId1"/>
          <a:stretch/>
        </p:blipFill>
        <p:spPr>
          <a:xfrm>
            <a:off x="5724360" y="2205000"/>
            <a:ext cx="2880000" cy="2879640"/>
          </a:xfrm>
          <a:prstGeom prst="rect">
            <a:avLst/>
          </a:prstGeom>
          <a:ln w="0">
            <a:noFill/>
          </a:ln>
        </p:spPr>
      </p:pic>
      <p:sp>
        <p:nvSpPr>
          <p:cNvPr id="255" name="TextovéPole 6"/>
          <p:cNvSpPr/>
          <p:nvPr/>
        </p:nvSpPr>
        <p:spPr>
          <a:xfrm>
            <a:off x="5541840" y="5157720"/>
            <a:ext cx="31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b5395"/>
                </a:solidFill>
                <a:latin typeface="Verdana"/>
              </a:rPr>
              <a:t>Justus von Lieb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ovéPole 7"/>
          <p:cNvSpPr/>
          <p:nvPr/>
        </p:nvSpPr>
        <p:spPr>
          <a:xfrm>
            <a:off x="415080" y="5373720"/>
            <a:ext cx="3376440" cy="368280"/>
          </a:xfrm>
          <a:prstGeom prst="rect">
            <a:avLst/>
          </a:prstGeom>
          <a:solidFill>
            <a:srgbClr val="004e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00"/>
                </a:solidFill>
                <a:latin typeface="Arial"/>
              </a:rPr>
              <a:t>Další informace naleznete zd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0" descr="C:\Users\Admin\AppData\Local\Microsoft\Windows\Temporary Internet Files\Content.IE5\UTJF7CS0\MC900298305[1].wmf"/>
          <p:cNvPicPr/>
          <p:nvPr/>
        </p:nvPicPr>
        <p:blipFill>
          <a:blip r:embed="rId2"/>
          <a:stretch/>
        </p:blipFill>
        <p:spPr>
          <a:xfrm>
            <a:off x="3851280" y="5084640"/>
            <a:ext cx="725400" cy="882720"/>
          </a:xfrm>
          <a:prstGeom prst="rect">
            <a:avLst/>
          </a:prstGeom>
          <a:ln w="0">
            <a:noFill/>
          </a:ln>
        </p:spPr>
      </p:pic>
      <p:pic>
        <p:nvPicPr>
          <p:cNvPr id="258" name="Obdélník 8" descr=""/>
          <p:cNvPicPr/>
          <p:nvPr/>
        </p:nvPicPr>
        <p:blipFill>
          <a:blip r:embed="rId3"/>
          <a:stretch/>
        </p:blipFill>
        <p:spPr>
          <a:xfrm>
            <a:off x="817560" y="665280"/>
            <a:ext cx="727236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68360" y="765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o jsou to organism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2244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23760" indent="-514080">
              <a:spcBef>
                <a:spcPts val="300"/>
              </a:spcBef>
              <a:buClr>
                <a:srgbClr val="009dd9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Stenoekní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923760" indent="-514080">
              <a:spcBef>
                <a:spcPts val="300"/>
              </a:spcBef>
              <a:buClr>
                <a:srgbClr val="009dd9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Euryekní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923760" indent="-514080">
              <a:spcBef>
                <a:spcPts val="300"/>
              </a:spcBef>
              <a:buClr>
                <a:srgbClr val="009dd9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923760" indent="-514080">
              <a:spcBef>
                <a:spcPts val="300"/>
              </a:spcBef>
              <a:buClr>
                <a:srgbClr val="009dd9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Stenotermní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923760" indent="-514080">
              <a:spcBef>
                <a:spcPts val="300"/>
              </a:spcBef>
              <a:buClr>
                <a:srgbClr val="009dd9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Eurytermní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923760" indent="-514080">
              <a:spcBef>
                <a:spcPts val="300"/>
              </a:spcBef>
              <a:buClr>
                <a:srgbClr val="009dd9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923760" indent="-514080">
              <a:spcBef>
                <a:spcPts val="300"/>
              </a:spcBef>
              <a:buClr>
                <a:srgbClr val="009dd9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Stenovalentní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923760" indent="-514080">
              <a:spcBef>
                <a:spcPts val="300"/>
              </a:spcBef>
              <a:buClr>
                <a:srgbClr val="009dd9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Euryvalentní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923760" indent="-514080">
              <a:spcBef>
                <a:spcPts val="300"/>
              </a:spcBef>
              <a:buClr>
                <a:srgbClr val="009dd9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923760" indent="-514080">
              <a:spcBef>
                <a:spcPts val="300"/>
              </a:spcBef>
              <a:buClr>
                <a:srgbClr val="009dd9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923760" indent="-514080">
              <a:spcBef>
                <a:spcPts val="300"/>
              </a:spcBef>
              <a:buClr>
                <a:srgbClr val="009dd9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923760" indent="-514080">
              <a:spcBef>
                <a:spcPts val="300"/>
              </a:spcBef>
              <a:buClr>
                <a:srgbClr val="009dd9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923760" indent="-514080">
              <a:spcBef>
                <a:spcPts val="300"/>
              </a:spcBef>
              <a:buClr>
                <a:srgbClr val="009dd9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60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8BC6-0A4C-454E-8BF3-83FCA943659B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C:\Users\Admin\AppData\Local\Microsoft\Windows\Temporary Internet Files\Content.IE5\UTJF7CS0\MC900434403[1].wmf"/>
          <p:cNvPicPr/>
          <p:nvPr/>
        </p:nvPicPr>
        <p:blipFill>
          <a:blip r:embed="rId1"/>
          <a:stretch/>
        </p:blipFill>
        <p:spPr>
          <a:xfrm>
            <a:off x="5724360" y="1125360"/>
            <a:ext cx="1594080" cy="1944720"/>
          </a:xfrm>
          <a:prstGeom prst="rect">
            <a:avLst/>
          </a:prstGeom>
          <a:ln w="0">
            <a:noFill/>
          </a:ln>
        </p:spPr>
      </p:pic>
      <p:sp>
        <p:nvSpPr>
          <p:cNvPr id="262" name="TextovéPole 4"/>
          <p:cNvSpPr/>
          <p:nvPr/>
        </p:nvSpPr>
        <p:spPr>
          <a:xfrm>
            <a:off x="552600" y="5877000"/>
            <a:ext cx="67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jdi v učebnici nebo na internetu. Své výsledky zapiš do seš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C:\Users\Admin\AppData\Local\Microsoft\Windows\Temporary Internet Files\Content.IE5\UTJF7CS0\MC900334546[1].wmf"/>
          <p:cNvPicPr/>
          <p:nvPr/>
        </p:nvPicPr>
        <p:blipFill>
          <a:blip r:embed="rId2"/>
          <a:stretch/>
        </p:blipFill>
        <p:spPr>
          <a:xfrm>
            <a:off x="7740720" y="5084640"/>
            <a:ext cx="7189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5T18:16:31Z</dcterms:created>
  <dc:creator>Admin</dc:creator>
  <dc:description/>
  <dc:language>en-US</dc:language>
  <cp:lastModifiedBy>Konetzná Magda</cp:lastModifiedBy>
  <dcterms:modified xsi:type="dcterms:W3CDTF">2013-06-06T09:41:22Z</dcterms:modified>
  <cp:revision>23</cp:revision>
  <dc:subject/>
  <dc:title>Snímek 1</dc:title>
</cp:coreProperties>
</file>