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71B-D1E2-4153-A831-4C569468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D7A-35A7-4D53-96C2-A1C45A82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C76-1B30-4D13-826B-47E25E86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B9F-0828-48A8-967F-D536C20D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279-4B89-4A6B-8446-628422DB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743F-C9ED-409D-8CEE-5C2D507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D7B-322C-4194-8280-F98EEDD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675-DB01-4785-9D69-7EE68B9D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455-FE0A-4169-98D8-A3B04EC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B967-F53C-4B75-9A64-141A11B4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0EA-A437-4E95-A1C1-BA72B4E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726-07F6-4543-9EAC-1351C017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BAD6-B1C2-4728-A71D-214D423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95B-F97A-4966-A437-2992522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647-6776-458A-BA81-00D74C7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47EC-AE5D-4DF8-B899-A2F33A2E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66C-DEA1-48FB-A0C6-B40936F8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3C899-BCAF-4B77-BAA2-E6196019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11981-228F-4733-A8E5-2A91EB29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C2ED5-EA0F-4A91-A860-4F3E45A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BB526-AFBE-4576-BCDA-C9EB92F2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3BA2C-4C2B-4E71-B2E6-8D8B221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2E1-1872-4FEE-B950-7742E30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68FDB-7756-4E0F-9CE6-AF0CF70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A4C2F-5095-4209-9165-FD136234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66F9D-BD82-484C-884D-29CFA5B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80319-7B69-410F-939B-55BCC51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3FE6F-C099-41E9-B964-6DA94BBD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3D3A1-6A0C-4A2B-8A70-B372ED84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A6426-2B95-486F-96D0-1632FB77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413E-C188-4D93-A240-288FCE3E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6D98-C28E-4C8B-B56D-EF7DA4E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C2A4-3603-4F67-95DD-D7BC22A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0BD-6688-42D5-A369-4493AA01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47B8-6DF3-432B-A2BA-FC65FA74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1EA1-C31C-4BBB-8EF2-EC87718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BC6D-4F7D-4325-997A-8DF2F15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447D-ECFF-43B0-8C63-BAED014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5661-1DA2-4416-ABF0-DCAA54A7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D44B-9685-4559-983F-6EDE44C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DF78-B72E-4169-B736-EB953DB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EECA-FA33-4399-A189-494DA9D2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E8E4-7B25-490A-B1AE-98AAF7D2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94E-9588-4983-BAB7-5D3DFB8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188-541A-47F5-959F-B8BA0882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617-3E6E-4876-9E34-AC662CF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EED-69D3-438F-9B5A-D580196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E7A-8F52-4B97-A4BE-2CE6EFA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DD3-B0D4-48D2-A7EF-8EDABF02D85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411-299B-42BB-9EEA-D3D58B74335E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FBDE-037C-4433-8523-73A9C99CAD38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C05-DF06-4244-938F-02D7E826282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32A9-AF4E-4D4A-9685-E75246E5A160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8FFB-412D-4E7E-B716-8998086CBCC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4514-FFFB-4CFD-B8B9-63606FACE6D5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D18-CAD7-4629-95AA-169D814AF0E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anety.astro.cz/zeme/1943-atmosfera-zeme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skatelevize.cz/porady/10267535337-tajemstvi-vody-ii/210562210700008-kysele-deste/video/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. 8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A4A4-BBEF-440B-97C2-E29613DBBBF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Globální oteplován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sou extrémní mrazy v Evropě důsledkem globálního oteplování? Proč? Vysvětl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440-6D6F-4F46-B0BF-B02365C0E45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http://media.novinky.cz/772/247727-original1-xzq8j.jpg"/>
          <p:cNvPicPr/>
          <p:nvPr/>
        </p:nvPicPr>
        <p:blipFill>
          <a:blip r:embed="rId1"/>
          <a:stretch/>
        </p:blipFill>
        <p:spPr>
          <a:xfrm>
            <a:off x="1908000" y="2492280"/>
            <a:ext cx="6409080" cy="4048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7812000" y="1989000"/>
            <a:ext cx="936720" cy="1138320"/>
          </a:xfrm>
          <a:prstGeom prst="rect">
            <a:avLst/>
          </a:prstGeom>
          <a:ln w="0">
            <a:noFill/>
          </a:ln>
        </p:spPr>
      </p:pic>
      <p:sp>
        <p:nvSpPr>
          <p:cNvPr id="292" name="TextovéPole 6"/>
          <p:cNvSpPr/>
          <p:nvPr/>
        </p:nvSpPr>
        <p:spPr>
          <a:xfrm>
            <a:off x="853560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C:\Users\Admin\AppData\Local\Microsoft\Windows\Temporary Internet Files\Content.IE5\UTJF7CS0\MC900298305[1].wmf"/>
          <p:cNvPicPr/>
          <p:nvPr/>
        </p:nvPicPr>
        <p:blipFill>
          <a:blip r:embed="rId3"/>
          <a:stretch/>
        </p:blipFill>
        <p:spPr>
          <a:xfrm>
            <a:off x="324000" y="2852640"/>
            <a:ext cx="934920" cy="1139760"/>
          </a:xfrm>
          <a:prstGeom prst="rect">
            <a:avLst/>
          </a:prstGeom>
          <a:ln w="0">
            <a:noFill/>
          </a:ln>
        </p:spPr>
      </p:pic>
      <p:sp>
        <p:nvSpPr>
          <p:cNvPr id="294" name="TextovéPole 8"/>
          <p:cNvSpPr/>
          <p:nvPr/>
        </p:nvSpPr>
        <p:spPr>
          <a:xfrm>
            <a:off x="250920" y="443700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vej se na toto video a pokus se pochopit základní princi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C:\Users\Admin\AppData\Local\Microsoft\Windows\Temporary Internet Files\Content.IE5\UTJF7CS0\MC900298305[1].wmf"/>
          <p:cNvPicPr/>
          <p:nvPr/>
        </p:nvPicPr>
        <p:blipFill>
          <a:blip r:embed="rId4"/>
          <a:stretch/>
        </p:blipFill>
        <p:spPr>
          <a:xfrm>
            <a:off x="5435640" y="692280"/>
            <a:ext cx="590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bytek ozonu ve stratosféř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 se objevily první chlorované a fluorované uhlovodí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freon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č dochází k rozpadu ozonové vrstv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ozonová dí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jakých jednotkách se udává množství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809-7438-45AD-A5DC-C147C144831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372360" y="1714680"/>
            <a:ext cx="10792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bytek ozonu ve stratosféř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 se objevily první chlorované a fluorované uhlovodí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30. létech 20. století je vyrobila firma DuPont pod zkratkou CFC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freon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e je největší koncentrace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ozonová dí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jakých jednotkách se udává množství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D167-367D-4A31-9F8D-9D6C3BA5D20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bytek ozonu ve stratosféř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 se objevily první chlorované a fluorované uhlovodí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30. létech 20. století je vyrobila firma DuPont pod zkratkou CFC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freon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Obchodní název chlorovaných a fluorovaných uhlovodíků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e je největší koncentrace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ozonová dí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jakých jednotkách se udává množství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1CD3-A4DC-4D07-A6F4-7D09E2EB814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bytek ozonu ve stratosféř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 se objevily první chlorované a fluorované uhlovodí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30. létech 20. století je vyrobila firma DuPont pod zkratkou CFC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freon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Obchodní název chlorovaných a fluorovaných uhlovodíků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e je největší koncentrace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stratosféře ve výšce asi 20 – 25 km nad povrchem Země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ozonová dí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jakých jednotkách se udává množství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E7F-08CA-428D-8D39-128974FBF63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bytek ozonu ve stratosféř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9528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 se objevily první chlorované a fluorované uhlovodí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30. létech 20. století je vyrobila firma DuPont pod zkratkou CFC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freon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Obchodní název chlorovaných a fluorovaných uhlovodíků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e je největší koncentrace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Ve stratosféře ve výšce asi 20 – 25 km nad povrchem Země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ozonová dír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Místo, kde je ztenčená vrstva ozonu(nikoliv skutečná díra).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jakých jednotkách se udává množství ozon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dd9"/>
                </a:solidFill>
                <a:latin typeface="Verdana"/>
              </a:rPr>
              <a:t>DU = Dobsonova jednotka, průměr je 350 DU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C4B-D05A-4FAE-A154-E5A1FC48681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spolu souvisejí ozon a fre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to vypadá s ozonovou díru v rámci prognóz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4440" indent="-1710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Montrealský protokol, čeho se týká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2557-3DDB-4709-A1D5-7EC21EBA0AF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1116000" y="4005360"/>
            <a:ext cx="934920" cy="1138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971640" y="1700280"/>
            <a:ext cx="936360" cy="1139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Admin\AppData\Local\Microsoft\Windows\Temporary Internet Files\Content.IE5\Q8L7FNA7\MC900299133[1].wmf"/>
          <p:cNvPicPr/>
          <p:nvPr/>
        </p:nvPicPr>
        <p:blipFill>
          <a:blip r:embed="rId3"/>
          <a:stretch/>
        </p:blipFill>
        <p:spPr>
          <a:xfrm>
            <a:off x="7812000" y="1197000"/>
            <a:ext cx="936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avotní rizik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 význam má zvýšená koncentrace CO v ovzduší (např. ve městech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smo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inverz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 význam má městská zeleň při zmírňování těchto rizik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ovlivňují zdravotní kondici obyvatel vysoké koncentrace olova a kadmia? Co je to bezolovnatých benzín?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7D7E-F091-49BD-B6D3-2E12862CCC6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7596360" y="2205000"/>
            <a:ext cx="106200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7596360" y="5229360"/>
            <a:ext cx="1008000" cy="1420560"/>
          </a:xfrm>
          <a:prstGeom prst="rect">
            <a:avLst/>
          </a:prstGeom>
          <a:ln w="0">
            <a:noFill/>
          </a:ln>
        </p:spPr>
      </p:pic>
      <p:sp>
        <p:nvSpPr>
          <p:cNvPr id="322" name="TextovéPole 6"/>
          <p:cNvSpPr/>
          <p:nvPr/>
        </p:nvSpPr>
        <p:spPr>
          <a:xfrm>
            <a:off x="611280" y="5732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uj jako samostatnou práci. Vyhledej odpovědi v odborné literatuře na intern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1) dostupný z: Planety - Země: Atmosféra. http://planety.astro.cz/zeme/1943-atmosfera-ze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2) z knihy: ČERVINKA, Pavel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životní prostředí: učebnice pro střední odborné školy a učiliště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Praha: Nakladatelství České geografické společnosti, 2005, 118 s. ISBN 80-860-3463-1, str. 38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E508-1510-4412-92E0-4B6EC60F731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3) dostupný z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http://home.tiscali.cz/chemie/pH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ek 4) dostupný z: http://www.novinky.cz/zahranicni/evropa/220973-extremni-mrazy-jsou-dusledkem-oteplovani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C8B3-A9B1-42FB-A1EC-B423E4E096F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ANTROPOGENNÍ OVLIVNĚNÍ ATMOSFÉRY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Příroda nám klade do cesty naši tupost jako past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</a:t>
            </a:r>
            <a:r>
              <a:rPr b="0" lang="cs-CZ" sz="2400" spc="-1" strike="noStrike">
                <a:solidFill>
                  <a:srgbClr val="04617b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Greene Graha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lze využít v počítačové učebně ve škole či doma. Umožňuje žákům pracovat samostatně s využitím internetu a odborné literatur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uvede základní znečišťovatele atmosféry a navrhne opatření. Dle průřezových témat označí důsledky znečišťování atmosféry a chápe je jako globální ekologické problémy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daná témata a vyhledáváním pojmů a vztahů pomocí internetu. Materiál lze využít s pomocí PC, nutné je připojení na internet s audio výstup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  Najdi na internetu.          Odpověz 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71640" y="5229360"/>
            <a:ext cx="648000" cy="912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6372360" y="4941720"/>
            <a:ext cx="358560" cy="812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179280" y="558972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5877000"/>
            <a:ext cx="432000" cy="525240"/>
          </a:xfrm>
          <a:prstGeom prst="rect">
            <a:avLst/>
          </a:prstGeom>
          <a:ln w="0">
            <a:noFill/>
          </a:ln>
        </p:spPr>
      </p:pic>
      <p:sp>
        <p:nvSpPr>
          <p:cNvPr id="227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688-6D0D-4303-B884-8F1FA6E49FD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300720" y="5950080"/>
            <a:ext cx="5000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ýškové členění atmosfér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927A-AE3F-4DEA-96F7-F65BE34D872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Struktura atmosféry"/>
          <p:cNvPicPr/>
          <p:nvPr/>
        </p:nvPicPr>
        <p:blipFill>
          <a:blip r:embed="rId1"/>
          <a:stretch/>
        </p:blipFill>
        <p:spPr>
          <a:xfrm>
            <a:off x="4211640" y="1484280"/>
            <a:ext cx="4464000" cy="5113440"/>
          </a:xfrm>
          <a:prstGeom prst="rect">
            <a:avLst/>
          </a:prstGeom>
          <a:ln w="0">
            <a:noFill/>
          </a:ln>
        </p:spPr>
      </p:pic>
      <p:sp>
        <p:nvSpPr>
          <p:cNvPr id="232" name="TextovéPole 5"/>
          <p:cNvSpPr/>
          <p:nvPr/>
        </p:nvSpPr>
        <p:spPr>
          <a:xfrm>
            <a:off x="8751240" y="638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C:\Users\Admin\AppData\Local\Microsoft\Windows\Temporary Internet Files\Content.IE5\UTJF7CS0\MC900298305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44640"/>
            <a:ext cx="934920" cy="113976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8"/>
          <p:cNvSpPr/>
          <p:nvPr/>
        </p:nvSpPr>
        <p:spPr>
          <a:xfrm>
            <a:off x="1692360" y="2060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éto stránce si prostuduj text a proveď zápis do seši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C:\Users\Admin\AppData\Local\Microsoft\Windows\Temporary Internet Files\Content.IE5\UTJF7CS0\MC900334546[1].wmf"/>
          <p:cNvPicPr/>
          <p:nvPr/>
        </p:nvPicPr>
        <p:blipFill>
          <a:blip r:embed="rId4"/>
          <a:stretch/>
        </p:blipFill>
        <p:spPr>
          <a:xfrm>
            <a:off x="3419640" y="2565360"/>
            <a:ext cx="5745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časí a podneb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čas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okamžitý stav atmosféry, který je charakterizovaný souborem meteorologických prv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dnebí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dlouhodobý chod počasí v určité lokalitě na Zemi. Je utvářeno radiačními procesy, atmosférickou cirkulací a zeměpisnými fak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70C-0AC3-44B0-BC80-0DAEB959542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826920" y="3068640"/>
            <a:ext cx="9367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TextovéPole 5"/>
          <p:cNvSpPr/>
          <p:nvPr/>
        </p:nvSpPr>
        <p:spPr>
          <a:xfrm>
            <a:off x="1863360" y="3429000"/>
            <a:ext cx="56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to jsou meteorologické prvky? Vypiš si je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24720" y="2924280"/>
            <a:ext cx="574560" cy="1303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Admin\AppData\Local\Microsoft\Windows\Temporary Internet Files\Content.IE5\Q8L7FNA7\MC900299133[1].wmf"/>
          <p:cNvPicPr/>
          <p:nvPr/>
        </p:nvPicPr>
        <p:blipFill>
          <a:blip r:embed="rId3"/>
          <a:stretch/>
        </p:blipFill>
        <p:spPr>
          <a:xfrm>
            <a:off x="5219640" y="333360"/>
            <a:ext cx="93672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tmosférický aerosol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jemně rozptýlený pevný a kapalný materiál ve vzduch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E607-C1EF-498A-871A-33DC612515F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Diagram 4" descr=""/>
          <p:cNvPicPr/>
          <p:nvPr/>
        </p:nvPicPr>
        <p:blipFill>
          <a:blip r:embed="rId1"/>
          <a:stretch/>
        </p:blipFill>
        <p:spPr>
          <a:xfrm>
            <a:off x="1835280" y="1798560"/>
            <a:ext cx="8820000" cy="5016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26920" y="3429000"/>
            <a:ext cx="574920" cy="130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Users\Admin\AppData\Local\Microsoft\Windows\Temporary Internet Files\Content.IE5\Q8L7FNA7\MC900299133[1].wmf"/>
          <p:cNvPicPr/>
          <p:nvPr/>
        </p:nvPicPr>
        <p:blipFill>
          <a:blip r:embed="rId3"/>
          <a:stretch/>
        </p:blipFill>
        <p:spPr>
          <a:xfrm>
            <a:off x="7956720" y="549360"/>
            <a:ext cx="9363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ECF-9F4B-4A8C-A040-BE3DE01C230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10"/>
          <p:cNvSpPr/>
          <p:nvPr/>
        </p:nvSpPr>
        <p:spPr>
          <a:xfrm>
            <a:off x="4716360" y="1484280"/>
            <a:ext cx="4248360" cy="4681440"/>
          </a:xfrm>
          <a:prstGeom prst="rect">
            <a:avLst/>
          </a:prstGeom>
          <a:gradFill rotWithShape="0">
            <a:gsLst>
              <a:gs pos="0">
                <a:srgbClr val="59aaf2"/>
              </a:gs>
              <a:gs pos="100000">
                <a:srgbClr val="e6f3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OKRÝ S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erosoly, ostatní lá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délník 8"/>
          <p:cNvSpPr/>
          <p:nvPr/>
        </p:nvSpPr>
        <p:spPr>
          <a:xfrm>
            <a:off x="539640" y="1484280"/>
            <a:ext cx="4248360" cy="468144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UCHÝ S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elké a malé čá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Mrak 11"/>
          <p:cNvGrpSpPr/>
          <p:nvPr/>
        </p:nvGrpSpPr>
        <p:grpSpPr>
          <a:xfrm>
            <a:off x="5114880" y="1657440"/>
            <a:ext cx="3516480" cy="1347840"/>
            <a:chOff x="5114880" y="1657440"/>
            <a:chExt cx="3516480" cy="1347840"/>
          </a:xfrm>
        </p:grpSpPr>
        <p:pic>
          <p:nvPicPr>
            <p:cNvPr id="253" name="Mrak 11" descr=""/>
            <p:cNvPicPr/>
            <p:nvPr/>
          </p:nvPicPr>
          <p:blipFill>
            <a:blip r:embed="rId1"/>
            <a:stretch/>
          </p:blipFill>
          <p:spPr>
            <a:xfrm>
              <a:off x="5114880" y="1657440"/>
              <a:ext cx="35164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676840" y="1874880"/>
              <a:ext cx="2163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obl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Slza 14"/>
          <p:cNvSpPr/>
          <p:nvPr/>
        </p:nvSpPr>
        <p:spPr>
          <a:xfrm rot="19591800">
            <a:off x="4991040" y="3030120"/>
            <a:ext cx="576360" cy="647640"/>
          </a:xfrm>
          <a:custGeom>
            <a:avLst/>
            <a:gdLst/>
            <a:ahLst/>
            <a:rect l="l" t="t" r="r" b="b"/>
            <a:pathLst>
              <a:path w="576263" h="647700">
                <a:moveTo>
                  <a:pt x="0" y="323850"/>
                </a:moveTo>
                <a:cubicBezTo>
                  <a:pt x="0" y="144993"/>
                  <a:pt x="129001" y="0"/>
                  <a:pt x="288132" y="0"/>
                </a:cubicBezTo>
                <a:lnTo>
                  <a:pt x="576263" y="0"/>
                </a:lnTo>
                <a:lnTo>
                  <a:pt x="576263" y="323850"/>
                </a:lnTo>
                <a:cubicBezTo>
                  <a:pt x="576263" y="502707"/>
                  <a:pt x="447262" y="647700"/>
                  <a:pt x="288131" y="647700"/>
                </a:cubicBezTo>
                <a:cubicBezTo>
                  <a:pt x="129000" y="647700"/>
                  <a:pt x="-1" y="502707"/>
                  <a:pt x="-1" y="323850"/>
                </a:cubicBezTo>
                <a:lnTo>
                  <a:pt x="0" y="32385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za 15"/>
          <p:cNvSpPr/>
          <p:nvPr/>
        </p:nvSpPr>
        <p:spPr>
          <a:xfrm rot="19591800">
            <a:off x="7151760" y="483048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0" y="323850"/>
                </a:moveTo>
                <a:cubicBezTo>
                  <a:pt x="0" y="144993"/>
                  <a:pt x="129001" y="0"/>
                  <a:pt x="288131" y="0"/>
                </a:cubicBezTo>
                <a:lnTo>
                  <a:pt x="576262" y="0"/>
                </a:lnTo>
                <a:lnTo>
                  <a:pt x="576262" y="323850"/>
                </a:lnTo>
                <a:cubicBezTo>
                  <a:pt x="576262" y="502707"/>
                  <a:pt x="447261" y="647700"/>
                  <a:pt x="288131" y="647700"/>
                </a:cubicBezTo>
                <a:cubicBezTo>
                  <a:pt x="129001" y="647700"/>
                  <a:pt x="0" y="502707"/>
                  <a:pt x="0" y="323850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za 16"/>
          <p:cNvSpPr/>
          <p:nvPr/>
        </p:nvSpPr>
        <p:spPr>
          <a:xfrm rot="19591800">
            <a:off x="6070680" y="4830480"/>
            <a:ext cx="576360" cy="647640"/>
          </a:xfrm>
          <a:custGeom>
            <a:avLst/>
            <a:gdLst/>
            <a:ahLst/>
            <a:rect l="l" t="t" r="r" b="b"/>
            <a:pathLst>
              <a:path w="576263" h="647700">
                <a:moveTo>
                  <a:pt x="0" y="323850"/>
                </a:moveTo>
                <a:cubicBezTo>
                  <a:pt x="0" y="144993"/>
                  <a:pt x="129001" y="0"/>
                  <a:pt x="288132" y="0"/>
                </a:cubicBezTo>
                <a:lnTo>
                  <a:pt x="576263" y="0"/>
                </a:lnTo>
                <a:lnTo>
                  <a:pt x="576263" y="323850"/>
                </a:lnTo>
                <a:cubicBezTo>
                  <a:pt x="576263" y="502707"/>
                  <a:pt x="447262" y="647700"/>
                  <a:pt x="288131" y="647700"/>
                </a:cubicBezTo>
                <a:cubicBezTo>
                  <a:pt x="129000" y="647700"/>
                  <a:pt x="-1" y="502707"/>
                  <a:pt x="-1" y="323850"/>
                </a:cubicBezTo>
                <a:lnTo>
                  <a:pt x="0" y="32385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za 17"/>
          <p:cNvSpPr/>
          <p:nvPr/>
        </p:nvSpPr>
        <p:spPr>
          <a:xfrm rot="19591800">
            <a:off x="5135400" y="483048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0" y="323850"/>
                </a:moveTo>
                <a:cubicBezTo>
                  <a:pt x="0" y="144993"/>
                  <a:pt x="129001" y="0"/>
                  <a:pt x="288131" y="0"/>
                </a:cubicBezTo>
                <a:lnTo>
                  <a:pt x="576262" y="0"/>
                </a:lnTo>
                <a:lnTo>
                  <a:pt x="576262" y="323850"/>
                </a:lnTo>
                <a:cubicBezTo>
                  <a:pt x="576262" y="502707"/>
                  <a:pt x="447261" y="647700"/>
                  <a:pt x="288131" y="647700"/>
                </a:cubicBezTo>
                <a:cubicBezTo>
                  <a:pt x="129001" y="647700"/>
                  <a:pt x="0" y="502707"/>
                  <a:pt x="0" y="323850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za 18"/>
          <p:cNvSpPr/>
          <p:nvPr/>
        </p:nvSpPr>
        <p:spPr>
          <a:xfrm rot="19591800">
            <a:off x="8086320" y="4757400"/>
            <a:ext cx="576360" cy="649440"/>
          </a:xfrm>
          <a:custGeom>
            <a:avLst/>
            <a:gdLst/>
            <a:ahLst/>
            <a:rect l="l" t="t" r="r" b="b"/>
            <a:pathLst>
              <a:path w="576263" h="649287">
                <a:moveTo>
                  <a:pt x="0" y="324644"/>
                </a:moveTo>
                <a:cubicBezTo>
                  <a:pt x="0" y="145348"/>
                  <a:pt x="129001" y="0"/>
                  <a:pt x="288132" y="0"/>
                </a:cubicBezTo>
                <a:lnTo>
                  <a:pt x="576263" y="0"/>
                </a:lnTo>
                <a:lnTo>
                  <a:pt x="576263" y="324644"/>
                </a:lnTo>
                <a:cubicBezTo>
                  <a:pt x="576263" y="503940"/>
                  <a:pt x="447262" y="649288"/>
                  <a:pt x="288131" y="649288"/>
                </a:cubicBezTo>
                <a:cubicBezTo>
                  <a:pt x="129000" y="649288"/>
                  <a:pt x="-1" y="503940"/>
                  <a:pt x="-1" y="324644"/>
                </a:cubicBezTo>
                <a:lnTo>
                  <a:pt x="0" y="324644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za 19"/>
          <p:cNvSpPr/>
          <p:nvPr/>
        </p:nvSpPr>
        <p:spPr>
          <a:xfrm rot="19591800">
            <a:off x="7870680" y="3246120"/>
            <a:ext cx="576360" cy="647640"/>
          </a:xfrm>
          <a:custGeom>
            <a:avLst/>
            <a:gdLst/>
            <a:ahLst/>
            <a:rect l="l" t="t" r="r" b="b"/>
            <a:pathLst>
              <a:path w="576263" h="647700">
                <a:moveTo>
                  <a:pt x="0" y="323850"/>
                </a:moveTo>
                <a:cubicBezTo>
                  <a:pt x="0" y="144993"/>
                  <a:pt x="129001" y="0"/>
                  <a:pt x="288132" y="0"/>
                </a:cubicBezTo>
                <a:lnTo>
                  <a:pt x="576263" y="0"/>
                </a:lnTo>
                <a:lnTo>
                  <a:pt x="576263" y="323850"/>
                </a:lnTo>
                <a:cubicBezTo>
                  <a:pt x="576263" y="502707"/>
                  <a:pt x="447262" y="647700"/>
                  <a:pt x="288131" y="647700"/>
                </a:cubicBezTo>
                <a:cubicBezTo>
                  <a:pt x="129000" y="647700"/>
                  <a:pt x="-1" y="502707"/>
                  <a:pt x="-1" y="323850"/>
                </a:cubicBezTo>
                <a:lnTo>
                  <a:pt x="0" y="32385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25"/>
          <p:cNvSpPr/>
          <p:nvPr/>
        </p:nvSpPr>
        <p:spPr>
          <a:xfrm>
            <a:off x="5435640" y="4149720"/>
            <a:ext cx="3168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mývání pod obla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26"/>
          <p:cNvSpPr/>
          <p:nvPr/>
        </p:nvSpPr>
        <p:spPr>
          <a:xfrm>
            <a:off x="5651640" y="2349360"/>
            <a:ext cx="2376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mývání v ob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27"/>
          <p:cNvSpPr/>
          <p:nvPr/>
        </p:nvSpPr>
        <p:spPr>
          <a:xfrm>
            <a:off x="6443640" y="5084640"/>
            <a:ext cx="93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r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římá spojovací čára 29"/>
          <p:cNvSpPr/>
          <p:nvPr/>
        </p:nvSpPr>
        <p:spPr>
          <a:xfrm>
            <a:off x="1258920" y="2781360"/>
            <a:ext cx="0" cy="2663640"/>
          </a:xfrm>
          <a:prstGeom prst="line">
            <a:avLst/>
          </a:prstGeom>
          <a:ln w="28440">
            <a:solidFill>
              <a:srgbClr val="0f6f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32"/>
          <p:cNvSpPr/>
          <p:nvPr/>
        </p:nvSpPr>
        <p:spPr>
          <a:xfrm>
            <a:off x="1844640" y="2717640"/>
            <a:ext cx="0" cy="2664000"/>
          </a:xfrm>
          <a:prstGeom prst="line">
            <a:avLst/>
          </a:prstGeom>
          <a:ln w="28440">
            <a:solidFill>
              <a:srgbClr val="0f6f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římá spojovací čára 33"/>
          <p:cNvSpPr/>
          <p:nvPr/>
        </p:nvSpPr>
        <p:spPr>
          <a:xfrm>
            <a:off x="2340000" y="2133720"/>
            <a:ext cx="0" cy="2663640"/>
          </a:xfrm>
          <a:prstGeom prst="line">
            <a:avLst/>
          </a:prstGeom>
          <a:ln w="28440">
            <a:solidFill>
              <a:srgbClr val="0f6f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34"/>
          <p:cNvSpPr/>
          <p:nvPr/>
        </p:nvSpPr>
        <p:spPr>
          <a:xfrm>
            <a:off x="3203640" y="3068640"/>
            <a:ext cx="0" cy="2664000"/>
          </a:xfrm>
          <a:prstGeom prst="line">
            <a:avLst/>
          </a:prstGeom>
          <a:ln w="28440">
            <a:solidFill>
              <a:srgbClr val="0f6f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římá spojovací čára 35"/>
          <p:cNvSpPr/>
          <p:nvPr/>
        </p:nvSpPr>
        <p:spPr>
          <a:xfrm>
            <a:off x="3924360" y="2205000"/>
            <a:ext cx="0" cy="2664000"/>
          </a:xfrm>
          <a:prstGeom prst="line">
            <a:avLst/>
          </a:prstGeom>
          <a:ln w="28440">
            <a:solidFill>
              <a:srgbClr val="0f6f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Šipka dolů 36"/>
          <p:cNvSpPr/>
          <p:nvPr/>
        </p:nvSpPr>
        <p:spPr>
          <a:xfrm>
            <a:off x="2411280" y="2421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délník 39" descr=""/>
          <p:cNvPicPr/>
          <p:nvPr/>
        </p:nvPicPr>
        <p:blipFill>
          <a:blip r:embed="rId2"/>
          <a:stretch/>
        </p:blipFill>
        <p:spPr>
          <a:xfrm>
            <a:off x="438120" y="5967360"/>
            <a:ext cx="8609040" cy="324000"/>
          </a:xfrm>
          <a:prstGeom prst="rect">
            <a:avLst/>
          </a:prstGeom>
          <a:ln w="0">
            <a:noFill/>
          </a:ln>
        </p:spPr>
      </p:pic>
      <p:sp>
        <p:nvSpPr>
          <p:cNvPr id="271" name="TextovéPole 41"/>
          <p:cNvSpPr/>
          <p:nvPr/>
        </p:nvSpPr>
        <p:spPr>
          <a:xfrm>
            <a:off x="3780000" y="6021360"/>
            <a:ext cx="194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emský pov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ovéPole 42"/>
          <p:cNvSpPr/>
          <p:nvPr/>
        </p:nvSpPr>
        <p:spPr>
          <a:xfrm>
            <a:off x="2124000" y="90792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amočisticí schopnost atmosf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Emise a imis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1483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mise = uvolněné škodliviny ze zdro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mise = dopadající škodliviny na určitém místě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9290-8768-42CE-A653-41A70EA2144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základní vzdušné škodliviny a jejich zdroje"/>
          <p:cNvPicPr/>
          <p:nvPr/>
        </p:nvPicPr>
        <p:blipFill>
          <a:blip r:embed="rId1"/>
          <a:stretch/>
        </p:blipFill>
        <p:spPr>
          <a:xfrm>
            <a:off x="3564000" y="3213000"/>
            <a:ext cx="5276880" cy="3286080"/>
          </a:xfrm>
          <a:prstGeom prst="rect">
            <a:avLst/>
          </a:prstGeom>
          <a:ln w="0">
            <a:noFill/>
          </a:ln>
        </p:spPr>
      </p:pic>
      <p:sp>
        <p:nvSpPr>
          <p:cNvPr id="277" name="TextovéPole 5"/>
          <p:cNvSpPr/>
          <p:nvPr/>
        </p:nvSpPr>
        <p:spPr>
          <a:xfrm>
            <a:off x="7667640" y="62373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ovéPole 6"/>
          <p:cNvSpPr/>
          <p:nvPr/>
        </p:nvSpPr>
        <p:spPr>
          <a:xfrm>
            <a:off x="684360" y="3716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ď z obrázku, které, lidské činnosti jsou vhledem  čistotě ovzduší nejškodliv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1547640" y="4941720"/>
            <a:ext cx="93672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yselé srážk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412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vznikají kyselé srážk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8407-A289-48DD-AD1D-3AC9E523E4D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C:\Users\Admin\AppData\Local\Microsoft\Windows\Temporary Internet Files\Content.IE5\UTJF7CS0\MC900298305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765000"/>
            <a:ext cx="936360" cy="11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611280" y="2133720"/>
          <a:ext cx="7777080" cy="1854000"/>
        </p:xfrm>
        <a:graphic>
          <a:graphicData uri="http://schemas.openxmlformats.org/drawingml/2006/table">
            <a:tbl>
              <a:tblPr/>
              <a:tblGrid>
                <a:gridCol w="5726160"/>
                <a:gridCol w="205092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znečištěná dešťová 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ážky v Č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4 – 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vasný oc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rónová šťá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85" name="Picture 2" descr="http://home.tiscali.cz/chemie/images/kysely_dest.gif"/>
          <p:cNvPicPr/>
          <p:nvPr/>
        </p:nvPicPr>
        <p:blipFill>
          <a:blip r:embed="rId3"/>
          <a:stretch/>
        </p:blipFill>
        <p:spPr>
          <a:xfrm>
            <a:off x="1042920" y="4238640"/>
            <a:ext cx="7143840" cy="2619360"/>
          </a:xfrm>
          <a:prstGeom prst="rect">
            <a:avLst/>
          </a:prstGeom>
          <a:ln w="0">
            <a:noFill/>
          </a:ln>
        </p:spPr>
      </p:pic>
      <p:sp>
        <p:nvSpPr>
          <p:cNvPr id="286" name="TextovéPole 9"/>
          <p:cNvSpPr/>
          <p:nvPr/>
        </p:nvSpPr>
        <p:spPr>
          <a:xfrm>
            <a:off x="839196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8-29T06:37:18Z</dcterms:modified>
  <cp:revision>35</cp:revision>
  <dc:subject/>
  <dc:title>Snímek 1</dc:title>
</cp:coreProperties>
</file>