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7.jpeg" ContentType="image/jpeg"/>
  <Override PartName="/ppt/media/image20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666-BD9A-485E-9164-7AB106A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B7C-3926-4114-A030-D25808A4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B1E-22E7-4D20-B448-62431819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816-BED9-462C-8EBE-55A9FF42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0649-FF64-4678-8A9D-8663119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BFA-ECAB-411B-B80A-29863104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7BB9-B328-483A-8CF2-52A23597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0D01-A8A3-4779-B1DC-91207D7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FF65-5D3E-4218-9C4A-D11E43F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6F8A-2D0A-49E7-B9AA-CD24458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F01E-4AC7-41B1-9820-2453FF9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C7E-FA30-4023-BDDD-C27BBAB5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6498-0111-415E-BC7E-AB2A1314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ED2-C8B1-41CA-B30E-8DA9F66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F0AE-451E-4613-B72B-EDAF36F9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3E87-2142-4130-9108-8A0C6CAF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A85A-751A-4D35-B49D-EE2343D5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FF060-7FFA-4704-87ED-5895FDE9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A12C4-6F8A-444D-ADC8-8DF491C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515B9-62EE-474A-9C49-83A2E29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04B6A-5B86-4BF8-A23C-8BA72C03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270A0-CDD6-4EF5-BC35-36376AEB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CD0-2CFE-4BCB-A837-F45FD2D6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F957F-6202-49C8-BA91-566EA0E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1A62A-B002-4E02-92AC-92A14F1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0D0A2-2B90-41B2-9A52-5955766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B4042-696A-4743-9BEC-F14A24E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2D8AD-ACDF-47D4-81F5-170A2FD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78286-8BBE-4E88-982A-0C07161F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94C6-C6C8-412F-9914-F487AF8E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2042-C1E2-4CE9-97D7-B40BE37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31C1-0918-4F9D-8027-E0F1B8B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8F6A2-B9A0-4B65-A4F3-3CE5CE36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610-FC88-40EC-B4A0-2BAB957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B7D3-E195-412D-9EB2-7EC76EA1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451C-977B-473F-9BA5-2D1C253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D5F3-C7EF-49FF-8ECD-D6AB08C7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E57F-A505-4222-9AEB-F6182DF3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9F2C-29F3-488C-B205-C54C547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C42D-E3E7-426D-921A-7B02F69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1252-37B9-4CF4-8C45-6C00FB2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2520-5AFA-474B-B873-49BE0EF1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7134-BB5A-49CC-8561-D5862871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8BA-988B-42D5-8D54-BB3DC710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2DB-1C06-4D5C-8011-3C05BC7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D1-430A-4AD1-BCEC-752B088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C80-C044-440E-9253-1CF762D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F5A-4218-4E4C-884C-3BB4182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DDF8-AEB6-4B07-BA18-0371489C604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7A73-53B3-4405-AEF3-8B1CC236AC8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33F1-23B1-4329-A60E-BB067171E78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0DFE-09BE-45D0-AD1A-63C7B7D4CDE9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777-674F-421B-8284-E8FD0BF912A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C7A9-3E62-4FB0-A179-1A0AA1FD3471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545-D84E-4E2E-B398-6A628FEAF106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2205-6EF8-4BB5-BF44-EFBC2C34520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hyperlink" Target="http://www.youtube.com/watch?v=aiFe5ZcKEWI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4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ublicdomainpictures.net/pictures/30000/nahled/rainforest-vegetation.jpg" TargetMode="External"/><Relationship Id="rId2" Type="http://schemas.openxmlformats.org/officeDocument/2006/relationships/hyperlink" Target="http://www.publicdomainpictures.net/pictures/20000/nahled/tapir.jpg" TargetMode="External"/><Relationship Id="rId3" Type="http://schemas.openxmlformats.org/officeDocument/2006/relationships/hyperlink" Target="http://www.publicdomainpictures.net/pictures/10000/nahled/resting-lion-11280486129OiLJ.jpg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ublicdomainpictures.net/pictures/10000/nahled/resting-lion-11280486129OiLJ.jpg" TargetMode="External"/><Relationship Id="rId2" Type="http://schemas.openxmlformats.org/officeDocument/2006/relationships/hyperlink" Target="http://www.publicdomainpictures.net/pictures/10000/nahled/1-1254837755HEXs.jpg" TargetMode="External"/><Relationship Id="rId3" Type="http://schemas.openxmlformats.org/officeDocument/2006/relationships/hyperlink" Target="http://www.publicdomainpictures.net/pictures/30000/nahled/cute-red-panda.jpg" TargetMode="External"/><Relationship Id="rId4" Type="http://schemas.openxmlformats.org/officeDocument/2006/relationships/hyperlink" Target="http://upload.wikimedia.org/wikipedia/commons/thumb/1/1d/Bu&#269;ina.jpg/800px-Bu&#269;ina.jpg" TargetMode="External"/><Relationship Id="rId5" Type="http://schemas.openxmlformats.org/officeDocument/2006/relationships/hyperlink" Target="http://www.publicdomainpictures.net/pictures/20000/nahled/monument-valley-124421296902509fdu.jpg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blicdomainpictures.net/pictures/30000/nahled/dromedar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cs.wikipedia.org/wiki/Soubor:Tropicke_lesy_sveta.png" TargetMode="External"/><Relationship Id="rId3" Type="http://schemas.openxmlformats.org/officeDocument/2006/relationships/image" Target="../media/image5.wmf"/><Relationship Id="rId4" Type="http://schemas.openxmlformats.org/officeDocument/2006/relationships/slide" Target="slide4.xm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s.wikipedia.org/wiki/Tropick&#253;_st&#345;&#237;dav&#283;_vlhk&#253;_les" TargetMode="External"/><Relationship Id="rId3" Type="http://schemas.openxmlformats.org/officeDocument/2006/relationships/image" Target="../media/image5.wmf"/><Relationship Id="rId4" Type="http://schemas.openxmlformats.org/officeDocument/2006/relationships/slide" Target="slide4.xm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hyperlink" Target="http://www.youtube.com/watch?v=9hRQVUjq9qg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 7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406-5FE6-454B-88A6-6C24F51D2D2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LESY S VLHKÝM KLIMATEM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8360" y="1413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sy Číny, Japonska, Koreje, Kanárských ostrov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2°C, 1000 – 2800mm ročních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vory, duby, magnó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betka, p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BA97-3AA2-4FCE-AD12-4FF7DFAF438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ute Red Panda"/>
          <p:cNvPicPr/>
          <p:nvPr/>
        </p:nvPicPr>
        <p:blipFill>
          <a:blip r:embed="rId1"/>
          <a:stretch/>
        </p:blipFill>
        <p:spPr>
          <a:xfrm>
            <a:off x="4572000" y="3500280"/>
            <a:ext cx="3938760" cy="2953080"/>
          </a:xfrm>
          <a:prstGeom prst="rect">
            <a:avLst/>
          </a:prstGeom>
          <a:ln w="0">
            <a:noFill/>
          </a:ln>
        </p:spPr>
      </p:pic>
      <p:sp>
        <p:nvSpPr>
          <p:cNvPr id="271" name="TextovéPole 5"/>
          <p:cNvSpPr/>
          <p:nvPr/>
        </p:nvSpPr>
        <p:spPr>
          <a:xfrm>
            <a:off x="853560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30064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OPADAVÉ LISTNATÉ LES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1484280"/>
            <a:ext cx="439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še le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5°C až 19°C. 500 – 1500mm ročních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ubravy, buči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verka, liška, jelen, srne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791B-3B94-499B-BAB9-95C214160B2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File:Bučina.jpg"/>
          <p:cNvPicPr/>
          <p:nvPr/>
        </p:nvPicPr>
        <p:blipFill>
          <a:blip r:embed="rId1"/>
          <a:stretch/>
        </p:blipFill>
        <p:spPr>
          <a:xfrm>
            <a:off x="4716360" y="2924280"/>
            <a:ext cx="3959280" cy="2971800"/>
          </a:xfrm>
          <a:prstGeom prst="rect">
            <a:avLst/>
          </a:prstGeom>
          <a:ln w="0">
            <a:noFill/>
          </a:ln>
        </p:spPr>
      </p:pic>
      <p:sp>
        <p:nvSpPr>
          <p:cNvPr id="277" name="TextovéPole 6"/>
          <p:cNvSpPr/>
          <p:nvPr/>
        </p:nvSpPr>
        <p:spPr>
          <a:xfrm>
            <a:off x="817596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2440" y="5519880"/>
            <a:ext cx="6746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TEPI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5280" y="1557360"/>
            <a:ext cx="439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ÉRI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......Amerika)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PAMP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........Ameri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ízké teploty (-10 až -15°C), v létě až 25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rávy, cibuloviny, bez drěv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soun prériový, bizon, ků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F2B-F316-48C7-97D4-9D5D8C7BAF2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Monument Valley"/>
          <p:cNvPicPr/>
          <p:nvPr/>
        </p:nvPicPr>
        <p:blipFill>
          <a:blip r:embed="rId1"/>
          <a:stretch/>
        </p:blipFill>
        <p:spPr>
          <a:xfrm>
            <a:off x="4859280" y="907920"/>
            <a:ext cx="3942000" cy="5257800"/>
          </a:xfrm>
          <a:prstGeom prst="rect">
            <a:avLst/>
          </a:prstGeom>
          <a:ln w="0">
            <a:noFill/>
          </a:ln>
        </p:spPr>
      </p:pic>
      <p:sp>
        <p:nvSpPr>
          <p:cNvPr id="283" name="TextovéPole 5"/>
          <p:cNvSpPr/>
          <p:nvPr/>
        </p:nvSpPr>
        <p:spPr>
          <a:xfrm>
            <a:off x="853560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8040" y="5603760"/>
            <a:ext cx="67464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UŠTĚ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000" y="1484280"/>
            <a:ext cx="403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ký denní výkyv teplo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00mm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amaryšek, ju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štěři, velbloudi, křečí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0D81-3D6B-470A-A317-072E9BDC885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Dromedary"/>
          <p:cNvPicPr/>
          <p:nvPr/>
        </p:nvPicPr>
        <p:blipFill>
          <a:blip r:embed="rId1"/>
          <a:stretch/>
        </p:blipFill>
        <p:spPr>
          <a:xfrm>
            <a:off x="4427640" y="692280"/>
            <a:ext cx="4086000" cy="5857920"/>
          </a:xfrm>
          <a:prstGeom prst="rect">
            <a:avLst/>
          </a:prstGeom>
          <a:ln w="0">
            <a:noFill/>
          </a:ln>
        </p:spPr>
      </p:pic>
      <p:sp>
        <p:nvSpPr>
          <p:cNvPr id="289" name="TextovéPole 6"/>
          <p:cNvSpPr/>
          <p:nvPr/>
        </p:nvSpPr>
        <p:spPr>
          <a:xfrm>
            <a:off x="860760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ovéPole 8"/>
          <p:cNvSpPr/>
          <p:nvPr/>
        </p:nvSpPr>
        <p:spPr>
          <a:xfrm>
            <a:off x="1908000" y="5373720"/>
            <a:ext cx="2016360" cy="642600"/>
          </a:xfrm>
          <a:prstGeom prst="rect">
            <a:avLst/>
          </a:prstGeom>
          <a:solidFill>
            <a:srgbClr val="19f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poušť Nam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72440" y="835200"/>
            <a:ext cx="674640" cy="947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:\Users\Admin\AppData\Local\Microsoft\Windows\Temporary Internet Files\Content.IE5\2AT3ADVM\MC900291016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653000"/>
            <a:ext cx="1320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AJG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528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sy S poloko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ční rozdíly 30 až 50°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450 – 600mm ročních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mba, jedle, meruzalka, vr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věd, sobol, 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CE3-B613-4438-A130-829C897DB3B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Soubor:Moose in Gros Ventre Campgroud 4.jpg"/>
          <p:cNvPicPr/>
          <p:nvPr/>
        </p:nvPicPr>
        <p:blipFill>
          <a:blip r:embed="rId1"/>
          <a:stretch/>
        </p:blipFill>
        <p:spPr>
          <a:xfrm>
            <a:off x="826920" y="3716280"/>
            <a:ext cx="4140360" cy="2951280"/>
          </a:xfrm>
          <a:prstGeom prst="rect">
            <a:avLst/>
          </a:prstGeom>
          <a:ln w="0">
            <a:noFill/>
          </a:ln>
        </p:spPr>
      </p:pic>
      <p:sp>
        <p:nvSpPr>
          <p:cNvPr id="297" name="TextovéPole 5"/>
          <p:cNvSpPr/>
          <p:nvPr/>
        </p:nvSpPr>
        <p:spPr>
          <a:xfrm>
            <a:off x="5080680" y="645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Soubor:Picea glauca taiga.jpg"/>
          <p:cNvPicPr/>
          <p:nvPr/>
        </p:nvPicPr>
        <p:blipFill>
          <a:blip r:embed="rId2"/>
          <a:stretch/>
        </p:blipFill>
        <p:spPr>
          <a:xfrm>
            <a:off x="611280" y="1268280"/>
            <a:ext cx="8089920" cy="5327640"/>
          </a:xfrm>
          <a:prstGeom prst="rect">
            <a:avLst/>
          </a:prstGeom>
          <a:ln w="0">
            <a:noFill/>
          </a:ln>
        </p:spPr>
      </p:pic>
      <p:sp>
        <p:nvSpPr>
          <p:cNvPr id="299" name="TextovéPole 7"/>
          <p:cNvSpPr/>
          <p:nvPr/>
        </p:nvSpPr>
        <p:spPr>
          <a:xfrm>
            <a:off x="8600400" y="981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C:\Users\Admin\AppData\Local\Microsoft\Windows\Temporary Internet Files\Content.IE5\F3ID01WC\MC900340030[1]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44080" y="5589720"/>
            <a:ext cx="6746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UNDR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1128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65-70°S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ima trvá 9 - 11 měsí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50-300 mm ročních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rávy, mechy, lišejní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b, polární liška, polární medvěd, sovice sněžná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3CD-F086-4D08-B1FC-529120E2CF4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Soubor:Tundra coastal vegetation Alaska.jpg"/>
          <p:cNvPicPr/>
          <p:nvPr/>
        </p:nvPicPr>
        <p:blipFill>
          <a:blip r:embed="rId1"/>
          <a:stretch/>
        </p:blipFill>
        <p:spPr>
          <a:xfrm>
            <a:off x="5940360" y="404640"/>
            <a:ext cx="3033720" cy="1872000"/>
          </a:xfrm>
          <a:prstGeom prst="rect">
            <a:avLst/>
          </a:prstGeom>
          <a:ln w="0">
            <a:noFill/>
          </a:ln>
        </p:spPr>
      </p:pic>
      <p:sp>
        <p:nvSpPr>
          <p:cNvPr id="305" name="TextovéPole 5"/>
          <p:cNvSpPr/>
          <p:nvPr/>
        </p:nvSpPr>
        <p:spPr>
          <a:xfrm>
            <a:off x="817236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Soubor:800px-Map-Tundra.png"/>
          <p:cNvPicPr/>
          <p:nvPr/>
        </p:nvPicPr>
        <p:blipFill>
          <a:blip r:embed="rId2"/>
          <a:stretch/>
        </p:blipFill>
        <p:spPr>
          <a:xfrm>
            <a:off x="3598920" y="3933720"/>
            <a:ext cx="5545080" cy="2563920"/>
          </a:xfrm>
          <a:prstGeom prst="rect">
            <a:avLst/>
          </a:prstGeom>
          <a:ln w="0">
            <a:noFill/>
          </a:ln>
        </p:spPr>
      </p:pic>
      <p:sp>
        <p:nvSpPr>
          <p:cNvPr id="307" name="TextovéPole 7"/>
          <p:cNvSpPr/>
          <p:nvPr/>
        </p:nvSpPr>
        <p:spPr>
          <a:xfrm>
            <a:off x="4216320" y="6381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Zástupný symbol pro číslo snímku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018-2F5B-4166-9F3B-D6186B15FAB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Soubor:Vegetation-no-legend.PN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310" name="TextovéPole 4"/>
          <p:cNvSpPr/>
          <p:nvPr/>
        </p:nvSpPr>
        <p:spPr>
          <a:xfrm>
            <a:off x="890640" y="549360"/>
            <a:ext cx="31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4617b"/>
                </a:solidFill>
                <a:latin typeface="Arial"/>
                <a:ea typeface="Arial"/>
              </a:rPr>
              <a:t>MAPA BIOM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ovéPole 5"/>
          <p:cNvSpPr/>
          <p:nvPr/>
        </p:nvSpPr>
        <p:spPr>
          <a:xfrm>
            <a:off x="8320680" y="6021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1"/>
              </a:rPr>
              <a:t>http://www.publicdomainpictures.net/pictures/30000/nahled/rainforest-vegetation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2) obrázke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2"/>
              </a:rPr>
              <a:t>http://www.publicdomainpictures.net/pictures/20000/nahled/tapir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3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http://www.publicdomainpictures.net/pictures/10000/nahled/resting-lion-11280486129OiLJ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63B4-094D-47C5-A248-D7A860BAAAA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5280" y="765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4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1"/>
              </a:rPr>
              <a:t>http://www.publicdomainpictures.net/pictures/10000/nahled/resting-lion-11280486129OiLJ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5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2"/>
              </a:rPr>
              <a:t>http://www.publicdomainpictures.net/pictures/10000/nahled/1-1254837755HEXs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6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http://www.publicdomainpictures.net/pictures/30000/nahled/cute-red-pand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7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4"/>
              </a:rPr>
              <a:t>http://upload.wikimedia.org/wikipedia/commons/thumb/1/1d/Bu%C4%8Dina.jpg/800px-Bu%C4%8Din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8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5"/>
              </a:rPr>
              <a:t>http://www.publicdomainpictures.net/pictures/20000/nahled/monument-valley-124421296902509fdu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5A0C-FD18-48E1-B1BC-0D77E3BF37C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6836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9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1"/>
              </a:rPr>
              <a:t>http://www.publicdomainpictures.net/pictures/30000/nahled/dromedar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0 obrázek dostupný z http://upload.wikimedia.org/wikipedia/commons/thumb/c/c6/Moose_in_Gros_Ventre_Campgroud_4.jpg/800px-Moose_in_Gros_Ventre_Campgroud_4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1) obrázek dostupný z http://upload.wikimedia.org/wikipedia/commons/2/2d/Picea_glauca_taig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2) obrázek dostupný z http://upload.wikimedia.org/wikipedia/commons/e/ee/Tundra_coastal_vegetation_Alask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3) obrázek dostupný z http://upload.wikimedia.org/wikipedia/commons/a/a5/800px-Map-Tundra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4) obrázek dostupný z http://upload.wikimedia.org/wikipedia/commons/thumb/7/7b/Vegetation-no-legend.PNG/800px-Vegetation-no-legend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E2E7-6E76-4ED3-B016-BA4B183DBD7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BIOMY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00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Člověka z pralesa můžeš vyrvat snadno, hůř vyrveš prales z člověka.“ 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2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4617b"/>
                </a:solidFill>
                <a:latin typeface="Verdana"/>
              </a:rPr>
              <a:t>(Africké příslov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6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6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22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700360" y="5445000"/>
            <a:ext cx="503280" cy="711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508720" y="5445000"/>
            <a:ext cx="350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395280" y="5805360"/>
            <a:ext cx="77940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D2F-8A41-4FCD-9183-4FA24FD4172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:\Users\Admin\AppData\Local\Microsoft\Windows\Temporary Internet Files\Content.IE5\2AT3ADVM\MC900282200[1].wmf"/>
          <p:cNvPicPr/>
          <p:nvPr/>
        </p:nvPicPr>
        <p:blipFill>
          <a:blip r:embed="rId4"/>
          <a:stretch/>
        </p:blipFill>
        <p:spPr>
          <a:xfrm>
            <a:off x="3851280" y="5950080"/>
            <a:ext cx="631800" cy="70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Admin\AppData\Local\Microsoft\Windows\Temporary Internet Files\Content.IE5\F3ID01WC\MC900340030[1]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948360" y="5732640"/>
            <a:ext cx="674640" cy="947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0" y="1483920"/>
            <a:ext cx="896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je součástí celku EKOLOGIE pro čtvrtý ročník čtyřletého a osmý ročník osmiletého studia. Jednotlivé biomy jsou představovány a výklad je doplněn interaktivním propojením s internetem. Návrat zpět do nabídky je pomocí symbolu šipky.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určí výskyt přirozených důsledků dlouhodobého působení klimatických faktorů  a změn v zemské kůř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            Vrať 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6360" indent="-21456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BIOM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oubory biocenóz (ekosystémů) podle struktury a funkce, které se vyvinuly v určitých podmínká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1" action="ppaction://hlinksldjump"/>
              </a:rPr>
              <a:t>TROPICKÝ DEŠTNÝ PRALES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2" action="ppaction://hlinksldjump"/>
              </a:rPr>
              <a:t>TROPICKÉ POLOOPADAVÉ A OPADAVÉ LES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3" action="ppaction://hlinksldjump"/>
              </a:rPr>
              <a:t>SAVAN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4" action="ppaction://hlinksldjump"/>
              </a:rPr>
              <a:t>TROPICKÉ POUŠTĚ A POLOPOUŠTĚ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5" action="ppaction://hlinksldjump"/>
              </a:rPr>
              <a:t>TVRDOLISTÉ LES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6" action="ppaction://hlinksldjump"/>
              </a:rPr>
              <a:t>LESY S VLHKÝM KLIMATEM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7" action="ppaction://hlinksldjump"/>
              </a:rPr>
              <a:t>OPADAVÉ LISTNATÉ LES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8" action="ppaction://hlinksldjump"/>
              </a:rPr>
              <a:t>STEP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9" action="ppaction://hlinksldjump"/>
              </a:rPr>
              <a:t>POUŠTĚ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10" action="ppaction://hlinksldjump"/>
              </a:rPr>
              <a:t>TAJG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e2d700"/>
                </a:solidFill>
                <a:uFillTx/>
                <a:latin typeface="Verdana"/>
                <a:hlinkClick r:id="rId11" action="ppaction://hlinksldjump"/>
              </a:rPr>
              <a:t>TUNDR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24240" indent="-2336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A62-FCEC-468F-B8D0-E90E3DB3B5F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ROPICKÝ DEŠTNÝ LE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1413000"/>
            <a:ext cx="4464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5°C, 2000 – 8000 mm vodních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any, epify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apoušek, kolibřík, opice, hmy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E71A-3E90-4FF8-8DAD-3408187F3DB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Rainforest Vegetation"/>
          <p:cNvPicPr/>
          <p:nvPr/>
        </p:nvPicPr>
        <p:blipFill>
          <a:blip r:embed="rId1"/>
          <a:stretch/>
        </p:blipFill>
        <p:spPr>
          <a:xfrm>
            <a:off x="5076720" y="1413000"/>
            <a:ext cx="3389400" cy="5084640"/>
          </a:xfrm>
          <a:prstGeom prst="rect">
            <a:avLst/>
          </a:prstGeom>
          <a:ln w="0">
            <a:noFill/>
          </a:ln>
        </p:spPr>
      </p:pic>
      <p:sp>
        <p:nvSpPr>
          <p:cNvPr id="236" name="TextovéPole 5"/>
          <p:cNvSpPr/>
          <p:nvPr/>
        </p:nvSpPr>
        <p:spPr>
          <a:xfrm>
            <a:off x="8751240" y="638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C:\Users\Admin\AppData\Local\Microsoft\Windows\Temporary Internet Files\Content.IE5\2AT3ADVM\MC9002822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933720"/>
            <a:ext cx="820800" cy="916200"/>
          </a:xfrm>
          <a:prstGeom prst="rect">
            <a:avLst/>
          </a:prstGeom>
          <a:ln w="0">
            <a:noFill/>
          </a:ln>
        </p:spPr>
      </p:pic>
      <p:sp>
        <p:nvSpPr>
          <p:cNvPr id="238" name="TextovéPole 7"/>
          <p:cNvSpPr/>
          <p:nvPr/>
        </p:nvSpPr>
        <p:spPr>
          <a:xfrm>
            <a:off x="1763640" y="4149720"/>
            <a:ext cx="2232000" cy="64260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se nacházejí tropické prale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Users\Admin\AppData\Local\Microsoft\Windows\Temporary Internet Files\Content.IE5\F3ID01WC\MC90034003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5120" y="5450040"/>
            <a:ext cx="6746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ROPICKÉ POLOOPADAVÉ A OPADAVÉ LES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773000"/>
            <a:ext cx="518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ídání chladných (15–20°C) a teplých (25–30°C)  období, srážky 1500 – 2000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pice a tapí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4C0F-A69A-4AAC-90A9-78B42F1BBD7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Tapir"/>
          <p:cNvPicPr/>
          <p:nvPr/>
        </p:nvPicPr>
        <p:blipFill>
          <a:blip r:embed="rId1"/>
          <a:stretch/>
        </p:blipFill>
        <p:spPr>
          <a:xfrm>
            <a:off x="5076720" y="1197000"/>
            <a:ext cx="3635640" cy="545292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5"/>
          <p:cNvSpPr/>
          <p:nvPr/>
        </p:nvSpPr>
        <p:spPr>
          <a:xfrm>
            <a:off x="875700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C:\Users\Admin\AppData\Local\Microsoft\Windows\Temporary Internet Files\Content.IE5\2AT3ADVM\MC9002822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0520" y="4494240"/>
            <a:ext cx="820440" cy="91584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8"/>
          <p:cNvSpPr/>
          <p:nvPr/>
        </p:nvSpPr>
        <p:spPr>
          <a:xfrm>
            <a:off x="1619280" y="4076640"/>
            <a:ext cx="2016000" cy="1739880"/>
          </a:xfrm>
          <a:prstGeom prst="rect">
            <a:avLst/>
          </a:prstGeom>
          <a:solidFill>
            <a:srgbClr val="19f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 to znamená, když řekneme, že často trpí desertifikac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větli pojem i vaz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C:\Users\Admin\AppData\Local\Microsoft\Windows\Temporary Internet Files\Content.IE5\F3ID01WC\MC900340030[1]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81320" y="5533920"/>
            <a:ext cx="67500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AVAN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000" y="1413000"/>
            <a:ext cx="43196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plota klesá až k O°C, srážky 400 – 1000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ráv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ntilopa, gazela, zebra, lev, hye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299-E98D-43B0-B7EE-60D997A002A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Resting Lion"/>
          <p:cNvPicPr/>
          <p:nvPr/>
        </p:nvPicPr>
        <p:blipFill>
          <a:blip r:embed="rId1"/>
          <a:stretch/>
        </p:blipFill>
        <p:spPr>
          <a:xfrm>
            <a:off x="4643280" y="692280"/>
            <a:ext cx="3905280" cy="585792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5"/>
          <p:cNvSpPr/>
          <p:nvPr/>
        </p:nvSpPr>
        <p:spPr>
          <a:xfrm>
            <a:off x="867924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5445000"/>
            <a:ext cx="674640" cy="947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C:\Users\Admin\AppData\Local\Microsoft\Windows\Temporary Internet Files\Content.IE5\2AT3ADVM\MC900291016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4221000"/>
            <a:ext cx="12970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TROPICKÉ POUŠTĚ A POLOPOUŠTĚ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4920" y="1413000"/>
            <a:ext cx="8280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ké teplotní rozdíly (až 40°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ž 11 měsíců bez sráž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ukulenty, efe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adi, ještěři, hmyz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E37-7943-448E-8C13-F827211F5AE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Desert Scenery"/>
          <p:cNvPicPr/>
          <p:nvPr/>
        </p:nvPicPr>
        <p:blipFill>
          <a:blip r:embed="rId1"/>
          <a:stretch/>
        </p:blipFill>
        <p:spPr>
          <a:xfrm>
            <a:off x="395280" y="3357720"/>
            <a:ext cx="4994280" cy="3328920"/>
          </a:xfrm>
          <a:prstGeom prst="rect">
            <a:avLst/>
          </a:prstGeom>
          <a:ln w="0">
            <a:noFill/>
          </a:ln>
        </p:spPr>
      </p:pic>
      <p:sp>
        <p:nvSpPr>
          <p:cNvPr id="259" name="TextovéPole 6"/>
          <p:cNvSpPr/>
          <p:nvPr/>
        </p:nvSpPr>
        <p:spPr>
          <a:xfrm>
            <a:off x="543924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61480" y="5253120"/>
            <a:ext cx="6746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VRDOLISTÉ LES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000" y="1484280"/>
            <a:ext cx="806436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5-20°C, 1000mm srážek za ro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inie, blahovičníky, ced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zy, ovce, koa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075F-ABC6-4971-B102-1765F6BC493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Goats"/>
          <p:cNvPicPr/>
          <p:nvPr/>
        </p:nvPicPr>
        <p:blipFill>
          <a:blip r:embed="rId1"/>
          <a:stretch/>
        </p:blipFill>
        <p:spPr>
          <a:xfrm>
            <a:off x="1763640" y="2924280"/>
            <a:ext cx="5400720" cy="360036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5"/>
          <p:cNvSpPr/>
          <p:nvPr/>
        </p:nvSpPr>
        <p:spPr>
          <a:xfrm>
            <a:off x="7455240" y="63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C:\Users\Admin\AppData\Local\Microsoft\Windows\Temporary Internet Files\Content.IE5\F3ID01WC\MC900340030[1]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0160" y="1130400"/>
            <a:ext cx="67464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10-21T06:50:12Z</dcterms:modified>
  <cp:revision>21</cp:revision>
  <dc:subject/>
  <dc:title>Snímek 1</dc:title>
</cp:coreProperties>
</file>