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3F9-7060-41D8-A169-1CB99576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A78-FDED-4330-AD91-4D47144E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C4BD-501A-4B9D-82B7-B7A77115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9A7-E56F-4BE6-B1EA-252D584F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F2C3-9E0F-49D8-A409-701AE57A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D43E-E7DF-4ABD-BFA4-5680C6DC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1D91-5B52-469F-957B-BA81BC2F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EACE-6E86-4992-A9D2-6BF53DAF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CEA2-22D0-4A36-BB5C-7F31405D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0111-4E8A-429A-8FCF-E50BF426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A485-CBE6-49C0-B5E7-E877D61E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EFA2-D8DB-448D-9876-829B83BB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C334-D6EE-4768-B23A-309569D0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6F68-16E5-494B-8527-C091781C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399F-A931-47CE-9E94-3EAB6503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DCFC-E348-4153-9C1C-EEBFA305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086A-9559-4ADC-818E-A2041FBC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45917-273B-425D-B885-D6C21868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0AB8B1-9924-4412-A029-0BADB6FF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928BC-55E1-43FA-9DE5-E1F6B700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08449-36AF-43EB-A509-9AB2EECB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88C0B-AD94-48A1-A335-ABD2DF15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D17-AC52-492B-A60A-536EE824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8D4AD-E3FD-47DB-B0E8-EB634F63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0CD7C8-4BB6-46F7-8127-550DB4B7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10723B-EBC1-4EC9-802B-5EAAE12B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42979-9F08-480A-B515-3F063FD9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64078-00A9-4BE1-A813-68DAAB4C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55267-695C-4DE6-A871-1618D1EC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1C62C-D1C1-4EE8-8F4A-F2953FF9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432EB-2143-409D-B7AD-6D2B0F7F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72593-6871-43B4-BA04-691E88BC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BB95B-3725-4A95-B02A-C0FC14D1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BA86-B467-47B0-89B7-9541C4FA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28CF5-FB90-4850-8BEC-FD072E8D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C133A-5170-4518-8FF8-D4847B1B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8C50A-AA4E-44E7-BD96-9A2CABC5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9430C-D83E-4FEF-9BC0-FE12455B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CA56D-ACFF-4D03-B9B5-0D7AB60C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9A487-2FBF-4C14-95B0-5B6DE18D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1B3F8-FE5E-4064-AED7-3B5793AA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4876F-4D3E-43B6-A900-61510333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A72D0-CF7A-4D49-A71E-7AC17FDA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1751-C661-49AD-B00C-9A64799D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A30-DE7F-4ED7-8F99-AE91C6CA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7B7-65A3-4683-B559-03B80D7C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8ACA-7AE6-432A-BDFA-9EE85028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083A-878B-46EA-8A40-C488B149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8AA3-CCC3-431E-89DF-2F248F35B803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D776-A9C0-4469-B094-D9936CEB8227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bdélní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délní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délní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aoblený obdélní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aoblený obdélní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2841-B81F-4431-BCD1-239CA0ED8B12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DED7-5EF0-41FE-B2ED-AC4D9AF75838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58D4-B44D-42D8-9476-83DE86DFBA85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6356-A88C-4EB9-833F-0486EAD09150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3630-D7E6-40F9-81EC-EAF312246945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065A-9B41-4218-B85C-5735F8F38980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C:\Users\Admin\Documents\JANA\DUMY\logo dumy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468360" y="1700280"/>
          <a:ext cx="8442360" cy="5151240"/>
        </p:xfrm>
        <a:graphic>
          <a:graphicData uri="http://schemas.openxmlformats.org/drawingml/2006/table">
            <a:tbl>
              <a:tblPr/>
              <a:tblGrid>
                <a:gridCol w="4390920"/>
                <a:gridCol w="4051440"/>
              </a:tblGrid>
              <a:tr h="102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ymnázium Fr.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lověk a přír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logie pro 4. ročník SŠ a odpovídající ročník víceletých gymnázi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k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r. Jana Pastuch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7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íme se pro život v 21. století 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ZNAČENÍ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_32_INOVACE_BI.PS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8" name="Zástupný symbol pro číslo snímku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5AE5-8EF0-45CA-AECD-EF384620EABA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EKOLOGIE POPULACÍ </a:t>
            </a:r>
            <a:endParaRPr b="0" lang="en-US" sz="44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280" y="458100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„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Není nám dovoleno vědět vše.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(Horatius Quintus Flaccu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Anotac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364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ateriál je určen pro učitele, ale může sloužit pro samostudium ve škole či doma. Žáci si osvojí nové informace společně s opakováním známých faktů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evládající klíčové kompetence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petence k učení, kompetence k řešení problémů, kompetence sociální a personální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Školní vzdělávací program pro čtyřleté studium – čtvrtý ročník (případně odpovídající ročníky víceletého studia) – učební osnovy BIOLOGIE – Ekologie, seminář z biologie. Podle výstupu charakterizuje vzájemné vztahy mezi organismy a populacemi, uvede příklady. Zvládne charakterizovat populace, jejich vlastnosti a vzájemné vztah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Formy výuky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Uvědomění probíhá formou frontálního výkladu a vyhledáváním pojmů a vztahů pomocí internetu. Materiál lze využít s pomocí PC a dataprojektoru, nutné je připojení na intern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užití symbolů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: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Zapamatuj si !      Poznamenej si!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Najdi na internet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539640" y="5877000"/>
            <a:ext cx="511200" cy="720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3059280" y="5877000"/>
            <a:ext cx="318960" cy="720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Users\Admin\AppData\Local\Microsoft\Windows\Temporary Internet Files\Content.IE5\F3ID01WC\MC900282200[1].wmf"/>
          <p:cNvPicPr/>
          <p:nvPr/>
        </p:nvPicPr>
        <p:blipFill>
          <a:blip r:embed="rId3"/>
          <a:stretch/>
        </p:blipFill>
        <p:spPr>
          <a:xfrm>
            <a:off x="5435640" y="5877000"/>
            <a:ext cx="51588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POPULAC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oubor jedinců téhož druhu, kteří žijí a rozmnožují se v určitém prosto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pulace využívá biotopu s populacemi jiného druh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udiem populace se zabývá DEMEKOLOGI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F2E2-3826-4946-9769-DB0C34A3EF66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6516720" y="4005360"/>
            <a:ext cx="12952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VLASTNOSTI POPULAC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9528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usto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03600" indent="-2142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Počet jedinců na jednotce plochy nebo jednotce objemu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PROČ?)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03600" indent="-2142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Vysoká populační hustota  x  nízká p.h.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ůst popul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4040" indent="-24120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Množivost (natalita)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44040" indent="-24120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44040" indent="-24120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44040" indent="-24120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44040" indent="-24120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Úmrtnost (mortalila) 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(obdobně)</a:t>
            </a:r>
            <a:endParaRPr b="0" lang="en-US" sz="1400" spc="-1" strike="noStrike">
              <a:solidFill>
                <a:srgbClr val="009dd9"/>
              </a:solidFill>
              <a:latin typeface="Verdana"/>
            </a:endParaRPr>
          </a:p>
          <a:p>
            <a:pPr lvl="1" marL="644040" indent="-24120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Stěhování (migrace)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44040" indent="-24120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DCFD-D8E3-4039-8912-20CB49870EBD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ovéPole 4"/>
          <p:cNvSpPr/>
          <p:nvPr/>
        </p:nvSpPr>
        <p:spPr>
          <a:xfrm>
            <a:off x="5724360" y="2781360"/>
            <a:ext cx="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1214280" y="4365720"/>
                <a:ext cx="29689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atalit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arozenýc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35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6588000" y="3933720"/>
            <a:ext cx="129564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9117-791D-4305-B96B-DF9423BD77DA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40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yp růstu popul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zmístění – rozptyl popul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3" descr="C:\Users\Admin\Pictures\růstové křivky populace.tif"/>
          <p:cNvPicPr/>
          <p:nvPr/>
        </p:nvPicPr>
        <p:blipFill>
          <a:blip r:embed="rId1"/>
          <a:stretch/>
        </p:blipFill>
        <p:spPr>
          <a:xfrm>
            <a:off x="682560" y="1197000"/>
            <a:ext cx="4753080" cy="2355840"/>
          </a:xfrm>
          <a:prstGeom prst="rect">
            <a:avLst/>
          </a:prstGeom>
          <a:ln w="0">
            <a:noFill/>
          </a:ln>
        </p:spPr>
      </p:pic>
      <p:sp>
        <p:nvSpPr>
          <p:cNvPr id="239" name="TextovéPole 9"/>
          <p:cNvSpPr/>
          <p:nvPr/>
        </p:nvSpPr>
        <p:spPr>
          <a:xfrm>
            <a:off x="5168520" y="1916280"/>
            <a:ext cx="34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řivka tvaru J (exponencionál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řivka tvaru S (sigmoid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ovéPole 10"/>
          <p:cNvSpPr/>
          <p:nvPr/>
        </p:nvSpPr>
        <p:spPr>
          <a:xfrm>
            <a:off x="5367600" y="2997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826920" y="3933720"/>
          <a:ext cx="6096240" cy="14400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sp>
        <p:nvSpPr>
          <p:cNvPr id="242" name="Elipsa 12"/>
          <p:cNvSpPr/>
          <p:nvPr/>
        </p:nvSpPr>
        <p:spPr>
          <a:xfrm>
            <a:off x="1116000" y="4149720"/>
            <a:ext cx="21600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lipsa 13"/>
          <p:cNvSpPr/>
          <p:nvPr/>
        </p:nvSpPr>
        <p:spPr>
          <a:xfrm>
            <a:off x="1763640" y="4149720"/>
            <a:ext cx="21600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lipsa 14"/>
          <p:cNvSpPr/>
          <p:nvPr/>
        </p:nvSpPr>
        <p:spPr>
          <a:xfrm>
            <a:off x="1763640" y="4941720"/>
            <a:ext cx="21600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lipsa 15"/>
          <p:cNvSpPr/>
          <p:nvPr/>
        </p:nvSpPr>
        <p:spPr>
          <a:xfrm>
            <a:off x="2484360" y="4941720"/>
            <a:ext cx="21600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lipsa 16"/>
          <p:cNvSpPr/>
          <p:nvPr/>
        </p:nvSpPr>
        <p:spPr>
          <a:xfrm>
            <a:off x="2484360" y="4149720"/>
            <a:ext cx="21600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lipsa 17"/>
          <p:cNvSpPr/>
          <p:nvPr/>
        </p:nvSpPr>
        <p:spPr>
          <a:xfrm>
            <a:off x="1116000" y="4941720"/>
            <a:ext cx="21600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Elipsa 18"/>
          <p:cNvSpPr/>
          <p:nvPr/>
        </p:nvSpPr>
        <p:spPr>
          <a:xfrm>
            <a:off x="3276720" y="4221000"/>
            <a:ext cx="21564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lipsa 19"/>
          <p:cNvSpPr/>
          <p:nvPr/>
        </p:nvSpPr>
        <p:spPr>
          <a:xfrm>
            <a:off x="3276720" y="4869000"/>
            <a:ext cx="215640" cy="21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lipsa 20"/>
          <p:cNvSpPr/>
          <p:nvPr/>
        </p:nvSpPr>
        <p:spPr>
          <a:xfrm>
            <a:off x="3419640" y="4508640"/>
            <a:ext cx="215640" cy="21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lipsa 21"/>
          <p:cNvSpPr/>
          <p:nvPr/>
        </p:nvSpPr>
        <p:spPr>
          <a:xfrm>
            <a:off x="4427640" y="4076640"/>
            <a:ext cx="21564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lipsa 22"/>
          <p:cNvSpPr/>
          <p:nvPr/>
        </p:nvSpPr>
        <p:spPr>
          <a:xfrm>
            <a:off x="5292720" y="4221000"/>
            <a:ext cx="21600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lipsa 23"/>
          <p:cNvSpPr/>
          <p:nvPr/>
        </p:nvSpPr>
        <p:spPr>
          <a:xfrm>
            <a:off x="3851280" y="5084640"/>
            <a:ext cx="21600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lipsa 24"/>
          <p:cNvSpPr/>
          <p:nvPr/>
        </p:nvSpPr>
        <p:spPr>
          <a:xfrm>
            <a:off x="4572000" y="4941720"/>
            <a:ext cx="21600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ipsa 25"/>
          <p:cNvSpPr/>
          <p:nvPr/>
        </p:nvSpPr>
        <p:spPr>
          <a:xfrm>
            <a:off x="5445000" y="4373640"/>
            <a:ext cx="21600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lipsa 26"/>
          <p:cNvSpPr/>
          <p:nvPr/>
        </p:nvSpPr>
        <p:spPr>
          <a:xfrm>
            <a:off x="5597640" y="4525920"/>
            <a:ext cx="21564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lipsa 27"/>
          <p:cNvSpPr/>
          <p:nvPr/>
        </p:nvSpPr>
        <p:spPr>
          <a:xfrm>
            <a:off x="5435640" y="4508640"/>
            <a:ext cx="216000" cy="21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lipsa 28"/>
          <p:cNvSpPr/>
          <p:nvPr/>
        </p:nvSpPr>
        <p:spPr>
          <a:xfrm>
            <a:off x="6443640" y="4437000"/>
            <a:ext cx="21600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lipsa 29"/>
          <p:cNvSpPr/>
          <p:nvPr/>
        </p:nvSpPr>
        <p:spPr>
          <a:xfrm>
            <a:off x="6443640" y="4292640"/>
            <a:ext cx="21600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lipsa 30"/>
          <p:cNvSpPr/>
          <p:nvPr/>
        </p:nvSpPr>
        <p:spPr>
          <a:xfrm>
            <a:off x="6227640" y="4292640"/>
            <a:ext cx="21600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ovéPole 31"/>
          <p:cNvSpPr/>
          <p:nvPr/>
        </p:nvSpPr>
        <p:spPr>
          <a:xfrm>
            <a:off x="1002600" y="5445000"/>
            <a:ext cx="57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vnoměr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náhod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hlouč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7524720" y="2781360"/>
            <a:ext cx="863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24000" y="620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ruktura popul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= složení populace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Pohlaví – počet samic a samců 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Věk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Sociální hierarchie – dominantní vůdce, podřízenost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1E16-C834-470B-B42D-91CF0C359AA5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C:\Users\Admin\AppData\Local\Microsoft\Windows\Temporary Internet Files\Content.IE5\7V399T9K\MC900330292[1].wmf"/>
          <p:cNvPicPr/>
          <p:nvPr/>
        </p:nvPicPr>
        <p:blipFill>
          <a:blip r:embed="rId1"/>
          <a:stretch/>
        </p:blipFill>
        <p:spPr>
          <a:xfrm>
            <a:off x="5292720" y="5013360"/>
            <a:ext cx="1803240" cy="1352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C:\Users\Admin\AppData\Local\Microsoft\Windows\Temporary Internet Files\Content.IE5\UG1D3JT7\MC900330291[1].wmf"/>
          <p:cNvPicPr/>
          <p:nvPr/>
        </p:nvPicPr>
        <p:blipFill>
          <a:blip r:embed="rId2"/>
          <a:stretch/>
        </p:blipFill>
        <p:spPr>
          <a:xfrm>
            <a:off x="6804000" y="3357720"/>
            <a:ext cx="1790640" cy="1608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C:\Users\Admin\AppData\Local\Microsoft\Windows\Temporary Internet Files\Content.IE5\F3ID01WC\MC900330283[1].wmf"/>
          <p:cNvPicPr/>
          <p:nvPr/>
        </p:nvPicPr>
        <p:blipFill>
          <a:blip r:embed="rId3"/>
          <a:stretch/>
        </p:blipFill>
        <p:spPr>
          <a:xfrm>
            <a:off x="4788000" y="3500280"/>
            <a:ext cx="1800000" cy="10684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C:\Users\Admin\AppData\Local\Microsoft\Windows\Temporary Internet Files\Content.IE5\7V399T9K\MC900329656[1].wmf"/>
          <p:cNvPicPr/>
          <p:nvPr/>
        </p:nvPicPr>
        <p:blipFill>
          <a:blip r:embed="rId4"/>
          <a:stretch/>
        </p:blipFill>
        <p:spPr>
          <a:xfrm>
            <a:off x="3708360" y="4581360"/>
            <a:ext cx="1320840" cy="1791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C:\Users\Admin\AppData\Local\Microsoft\Windows\Temporary Internet Files\Content.IE5\2AT3ADVM\MC900329681[1].wmf"/>
          <p:cNvPicPr/>
          <p:nvPr/>
        </p:nvPicPr>
        <p:blipFill>
          <a:blip r:embed="rId5"/>
          <a:stretch/>
        </p:blipFill>
        <p:spPr>
          <a:xfrm>
            <a:off x="1619280" y="5013360"/>
            <a:ext cx="1812960" cy="1539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C:\Users\Admin\AppData\Local\Microsoft\Windows\Temporary Internet Files\Content.IE5\7V399T9K\MC900330423[1].wmf"/>
          <p:cNvPicPr/>
          <p:nvPr/>
        </p:nvPicPr>
        <p:blipFill>
          <a:blip r:embed="rId6"/>
          <a:stretch/>
        </p:blipFill>
        <p:spPr>
          <a:xfrm>
            <a:off x="7667640" y="5062680"/>
            <a:ext cx="1158840" cy="17953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C:\Users\Admin\AppData\Local\Microsoft\Windows\Temporary Internet Files\Content.IE5\UTJF7CS0\MC900334546[1].wmf"/>
          <p:cNvPicPr/>
          <p:nvPr/>
        </p:nvPicPr>
        <p:blipFill>
          <a:blip r:embed="rId7"/>
          <a:stretch/>
        </p:blipFill>
        <p:spPr>
          <a:xfrm>
            <a:off x="684360" y="3645000"/>
            <a:ext cx="71892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DÚ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orské gorily jsou v důsledku lidské činnosti ohroženy vyhubením. Které životní projevy goril jsou příčinou, že jsou velmi zranitelné při aktivitách lidí žijících v jejich sousedství? Navrhni plán opatření, který by zachránil gorily v jejich původním prostředí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Pro splnění úkolů využij intern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3E10-976A-4692-9D2D-9E8F3ACE9ECF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" descr="C:\Users\Admin\AppData\Local\Microsoft\Windows\Temporary Internet Files\Content.IE5\F3ID01WC\MC900282200[1].wmf"/>
          <p:cNvPicPr/>
          <p:nvPr/>
        </p:nvPicPr>
        <p:blipFill>
          <a:blip r:embed="rId1"/>
          <a:stretch/>
        </p:blipFill>
        <p:spPr>
          <a:xfrm>
            <a:off x="7308720" y="836640"/>
            <a:ext cx="1252800" cy="1398600"/>
          </a:xfrm>
          <a:prstGeom prst="rect">
            <a:avLst/>
          </a:prstGeom>
          <a:ln w="0">
            <a:noFill/>
          </a:ln>
        </p:spPr>
      </p:pic>
      <p:sp>
        <p:nvSpPr>
          <p:cNvPr id="276" name="TextovéPole 7"/>
          <p:cNvSpPr/>
          <p:nvPr/>
        </p:nvSpPr>
        <p:spPr>
          <a:xfrm>
            <a:off x="2987640" y="486900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ZDROJ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249280"/>
            <a:ext cx="822960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BERGER, Josef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České Budějovice: Kopp, 1998, 197 s. ISBN 80-723-2013-0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ŠLÉGL, Jiří, František KISLINGER a Jana LANÍKOVÁ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 a ochrana životního prostřed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: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ro gymnázia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Vyd. 1. Praha: Fortuna, 2002, 157 s. ISBN 80-716-8828-2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Zástupný symbol pro číslo snímku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37A6-6454-463A-B433-63C0B668FAF3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5T15:36:48Z</dcterms:created>
  <dc:creator>Admin</dc:creator>
  <dc:description/>
  <dc:language>en-US</dc:language>
  <cp:lastModifiedBy>Magda</cp:lastModifiedBy>
  <dcterms:modified xsi:type="dcterms:W3CDTF">2013-07-23T14:28:34Z</dcterms:modified>
  <cp:revision>21</cp:revision>
  <dc:subject/>
  <dc:title>Snímek 1</dc:title>
</cp:coreProperties>
</file>