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CFE-F41A-4351-8DC0-24831A6E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646-A115-4289-BA77-07912DF2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ECB-AE3A-4FEF-BF70-DB2A524A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C4B-56FB-4456-92A6-8269F6C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B5CD-0943-4740-8F28-7BE3CB38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1CB-EC40-47C8-BC70-249FC0BF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5C8B-F1AD-44C3-9324-A4D603E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2962-4E39-480A-8CB7-406876E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D1FB-8294-40B6-B552-C999491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EF53-B493-471E-812B-AB8B5DB8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725A-15E9-4127-BA4E-6CE12E6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22F-764B-4738-A929-7349680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5A80-A0FC-447C-A87C-0D1DBE3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52EB-537C-4453-AE0E-0F430BA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57D-09F0-4F30-8EC9-52372AC1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D20-9E92-42F3-8B0A-A85953EB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9CF2-D642-49F6-AACE-8FDF638D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2E590-8BB0-4A96-A73C-D385B0A8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E158C-7345-4739-B79A-567EEBD1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8AB6E-697C-415F-B403-8DFCECA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B1908-AC92-4538-BA9B-3FC528D0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6DDC8-0477-4284-86CC-B8FEEA8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A78-3151-4122-9893-3436733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32D17-2D49-44F7-93F1-55254B12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01D04-E108-46DE-B6FB-28AD6617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64203-15D2-4D8E-B803-58602B3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58E8F-57B0-4CFF-8CF6-D0E5297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0F246-BF82-4172-8041-3AD2B181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6D684-1483-4AB1-A49A-412D03EE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0D465-C320-4FB0-801B-C4BEAB03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C5350-1534-403A-ACC6-F752A1FC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15520-E31A-4AC7-81BC-C648267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88B1-B741-4326-A608-8BD33D4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9F6-3311-4941-B223-D0745F5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6A35-02A7-4476-BD48-EA4E9501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171D-452E-4A1A-B4BE-F930407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ED78-914C-4ADF-8E4C-7816794A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1470-8343-4EEC-9C1F-D347FA3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6779-80D8-47ED-A927-C576F09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A3EC-A57F-4CFE-ABED-CB01153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7D22-9F54-45AA-BE65-69F20AE0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265A-8222-4EE3-A9AA-14ACBD1B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367D-D599-4971-AAF7-B3F6C5A7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B17-7B94-4AF3-BB63-274ECF82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10F-89E8-427E-9BF3-9609D1AB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025-5082-4F27-98F7-C3B2EA17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8A6-F869-4FDE-8AEA-8E9B39B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E62-F427-4DA7-A6A0-CE7349B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7FD1-C124-413F-B118-6612248AECDF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697A-84D5-4F3A-9055-9F9EAFF8F15C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4BDD-BF87-4ED7-9024-1A34CD6641DC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0A9-5159-437E-9BDC-E0393904152C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6B3-3EDB-4FDC-AB53-28DFD3B0AC87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648-6A42-4090-A3E2-D3CF6C2A09B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8518-D619-493F-8C91-0E6BC3274BB3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501-4958-4D34-BA8A-3CE9A843A9B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emografie.info/?cz_detail_clanku=&amp;artclID=779&amp;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zech-press.cz/index.php?option=com_content&amp;view=article&amp;id=2084%3Ahladomor-vrny-prvodce-lidstva&amp;Itemid=4" TargetMode="External"/><Relationship Id="rId2" Type="http://schemas.openxmlformats.org/officeDocument/2006/relationships/image" Target="../media/image5.wmf"/><Relationship Id="rId3" Type="http://schemas.openxmlformats.org/officeDocument/2006/relationships/hyperlink" Target="http://zpravy.idnes.cz/hladomor-v-somalsku-zabil-ctvrt-milionu-lidi-fn3-/zahranicni.aspx?c=A130502_142611_zahranicni_brm" TargetMode="External"/><Relationship Id="rId4" Type="http://schemas.openxmlformats.org/officeDocument/2006/relationships/image" Target="../media/image5.wmf"/><Relationship Id="rId5" Type="http://schemas.openxmlformats.org/officeDocument/2006/relationships/hyperlink" Target="http://prehravac.rozhlas.cz/audio/2796935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imeo.com/15834690" TargetMode="External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3OQukee4JE" TargetMode="External"/><Relationship Id="rId2" Type="http://schemas.openxmlformats.org/officeDocument/2006/relationships/image" Target="../media/image4.wmf"/><Relationship Id="rId3" Type="http://schemas.openxmlformats.org/officeDocument/2006/relationships/hyperlink" Target="http://www.youtube.com/watch?v=1EF6EKiT0DI" TargetMode="External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 8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2F1-D27C-4FD6-B755-EAE6F0AD095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AČEROVÁ, Iva. Je nás 7 miliard. [online]. [cit. 2013-06-05]. DOI: http://www.demografie.info/?cz_detail_clanku=&amp;ar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ÁMEK, Hynek. Hladomor - věrný průvodce lidstva. [online]. [cit. 2013-06-05]. Dostupné z: http://www.czech-press.cz/index.php?option=com_content&amp;view=article&amp;id=2084%3Ahladomor-vrny-prvodce-lidstva&amp;Itemid=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5]. Dostupné z: http://zpravy.idnes.cz/hladomor-v-somalsku-zabil-ctvrt-milionu-lidi-fn3-/zahranicni.aspx?c=A130502_142611_zahranicni_b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B3D-1191-45D7-84C9-20CB8E13B83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ANTROPOEKOLOGIE = ČLOVĚK A PROSTŘEDÍ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Dáme-li se vést přírodou, nemůžeme v ničem pochybit.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          </a:t>
            </a:r>
            <a:r>
              <a:rPr b="0" lang="cs-CZ" sz="2400" spc="-1" strike="noStrike">
                <a:solidFill>
                  <a:srgbClr val="04617b"/>
                </a:solidFill>
                <a:latin typeface="Verdana"/>
              </a:rPr>
              <a:t>(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Marcus Tullius Cic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může sloužit pro samostudium v počítačové učebně ve škole či doma. Umožňuje žákům pracovat samostatně s využitím internetu a odporné literatury, na tento materiál navazují pracovní list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popíše jak člověk ovlivňuje životní prostředí od začátku své existence po současnost a jaké je srovnání těchto forem ovlivňování z hlediska udržitelnosti, pojmenuje globální ekologické problémy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studiem článků a poslechem pořadů, ve kterých odborníci vysvětlují a vyhledáváním pojmů a vztahů pomocí internetu. Materiál lze využít s pomocí PC, nutné je připojení na internet s audio výstupe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Najdi na internetu.       Odpověz n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700360" y="530064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292720" y="5300640"/>
            <a:ext cx="358920" cy="812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250920" y="6093000"/>
            <a:ext cx="579240" cy="599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6332400"/>
            <a:ext cx="432000" cy="525600"/>
          </a:xfrm>
          <a:prstGeom prst="rect">
            <a:avLst/>
          </a:prstGeom>
          <a:ln w="0">
            <a:noFill/>
          </a:ln>
        </p:spPr>
      </p:pic>
      <p:sp>
        <p:nvSpPr>
          <p:cNvPr id="227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A97B-F400-4C9B-9FB5-13C73F824D7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Admin\AppData\Local\Microsoft\Windows\Temporary Internet Files\Content.IE5\F3ID01WC\MC900282178[1].wmf"/>
          <p:cNvPicPr/>
          <p:nvPr/>
        </p:nvPicPr>
        <p:blipFill>
          <a:blip r:embed="rId6"/>
          <a:stretch/>
        </p:blipFill>
        <p:spPr>
          <a:xfrm>
            <a:off x="6300720" y="6281640"/>
            <a:ext cx="500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HISTORICKÝ VÝVOJ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ý je růst lidské popula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Jaká je populační prognóza?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Ve kterém století došlo k dramatickému růstu počtu obyvatel?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lik se narodí dětí na Zemi během jedné minuty?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lik lidí zemře na Zemi během jedné minuty?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Co se dá vyčíst z těchto údajů?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Na kterém kontinentě jsou země s největším nárůstem počtu obyvatel?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897-7896-4B1B-B71E-2785E328E75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C:\Users\Admin\AppData\Local\Microsoft\Windows\Temporary Internet Files\Content.IE5\UTJF7CS0\MC900298305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765000"/>
            <a:ext cx="792000" cy="96372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5"/>
          <p:cNvSpPr/>
          <p:nvPr/>
        </p:nvSpPr>
        <p:spPr>
          <a:xfrm>
            <a:off x="7093080" y="83664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článku na této stránce vypracuj odpově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C:\Users\Admin\AppData\Local\Microsoft\Windows\Temporary Internet Files\Content.IE5\F3ID01WC\MC900282178[1].wmf"/>
          <p:cNvPicPr/>
          <p:nvPr/>
        </p:nvPicPr>
        <p:blipFill>
          <a:blip r:embed="rId3"/>
          <a:stretch/>
        </p:blipFill>
        <p:spPr>
          <a:xfrm>
            <a:off x="7308720" y="5013360"/>
            <a:ext cx="10083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GLOBÁLNÍ PROBLÉMY LIDSTV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pulační exploze a hladom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urovinová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nergetická k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kologické katastro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Havárie tankerů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Havárie ropných vrtů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Lesní požár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Velké havárie chemických provozů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Nerozumná těžba  imis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ácení tropických pralesů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28E-0479-4C8F-A382-789C5AC267A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308720" y="1700280"/>
            <a:ext cx="792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PULAČNÍ EXPLOZE A HLADOMOR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Jaký je vztah hladomoru a populační exploze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Jaký je vztah hladomoru a kanibalismu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Jaký je vztah hladomoru a nerovnoměrné rozdělení obyvatel na Zemi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Které Země dnes aktuálně trpí hladomorem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Jak se dá tato situace řešit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Která část populace je v největším nebezpečí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CD5-1F38-460B-B27D-253BF2537C3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C:\Users\Admin\AppData\Local\Microsoft\Windows\Temporary Internet Files\Content.IE5\UTJF7CS0\MC900298305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157720"/>
            <a:ext cx="1150920" cy="1401840"/>
          </a:xfrm>
          <a:prstGeom prst="rect">
            <a:avLst/>
          </a:prstGeom>
          <a:ln w="0">
            <a:noFill/>
          </a:ln>
        </p:spPr>
      </p:pic>
      <p:sp>
        <p:nvSpPr>
          <p:cNvPr id="243" name="TextovéPole 5"/>
          <p:cNvSpPr/>
          <p:nvPr/>
        </p:nvSpPr>
        <p:spPr>
          <a:xfrm>
            <a:off x="1979640" y="51577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ěchto internetových stránkách se nacházejí články.  První je z časopisu Koktejl z roku 1998. Je tento článek (byť je 15 let starý) aktuální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čti si oba a odpověz na otáz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C:\Users\Admin\AppData\Local\Microsoft\Windows\Temporary Internet Files\Content.IE5\UTJF7CS0\MC900298305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67640" y="5013360"/>
            <a:ext cx="1152360" cy="140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C:\Users\Admin\AppData\Local\Microsoft\Windows\Temporary Internet Files\Content.IE5\2AT3ADVM\MC900291016[1].wm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51640" y="765000"/>
            <a:ext cx="1008000" cy="104328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8"/>
          <p:cNvSpPr/>
          <p:nvPr/>
        </p:nvSpPr>
        <p:spPr>
          <a:xfrm>
            <a:off x="5292720" y="119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slechni si pořad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C:\Users\Admin\AppData\Local\Microsoft\Windows\Temporary Internet Files\Content.IE5\F3ID01WC\MC900282178[1].wmf"/>
          <p:cNvPicPr/>
          <p:nvPr/>
        </p:nvPicPr>
        <p:blipFill>
          <a:blip r:embed="rId7"/>
          <a:stretch/>
        </p:blipFill>
        <p:spPr>
          <a:xfrm>
            <a:off x="250920" y="2421000"/>
            <a:ext cx="865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UROVINOVÁ  A ENERGETICKÁ KRIZ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133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ezpečné vyčerpání zdroj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neobnovitelné zdroj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5BB-2B8C-4907-8DBB-ED75F0EF9EE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C:\Users\Admin\AppData\Local\Microsoft\Windows\Temporary Internet Files\Content.IE5\2AT3ADVM\MC900291016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4149720"/>
            <a:ext cx="1079640" cy="1117440"/>
          </a:xfrm>
          <a:prstGeom prst="rect">
            <a:avLst/>
          </a:prstGeom>
          <a:ln w="0">
            <a:noFill/>
          </a:ln>
        </p:spPr>
      </p:pic>
      <p:sp>
        <p:nvSpPr>
          <p:cNvPr id="252" name="TextovéPole 5"/>
          <p:cNvSpPr/>
          <p:nvPr/>
        </p:nvSpPr>
        <p:spPr>
          <a:xfrm>
            <a:off x="4572000" y="4508640"/>
            <a:ext cx="24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 se na video Příběh vě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 ty na to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C:\Users\Admin\AppData\Local\Microsoft\Windows\Temporary Internet Files\Content.IE5\F3ID01WC\MC900282178[1].wmf"/>
          <p:cNvPicPr/>
          <p:nvPr/>
        </p:nvPicPr>
        <p:blipFill>
          <a:blip r:embed="rId3"/>
          <a:stretch/>
        </p:blipFill>
        <p:spPr>
          <a:xfrm>
            <a:off x="1403280" y="3933720"/>
            <a:ext cx="12240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EKOLOGICKÉ KATASTROF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2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DD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ý význam má pro člověk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ůže se nyní užíva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dioxí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č byla postavena továr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vě Asi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60560" indent="-1123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35B9-5081-4148-938A-72ED3089C3A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C:\Users\Admin\AppData\Local\Microsoft\Windows\Temporary Internet Files\Content.IE5\2AT3ADVM\MC900291016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2421000"/>
            <a:ext cx="1079640" cy="111924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5"/>
          <p:cNvSpPr/>
          <p:nvPr/>
        </p:nvSpPr>
        <p:spPr>
          <a:xfrm>
            <a:off x="254880" y="2565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C:\Users\Admin\AppData\Local\Microsoft\Windows\Temporary Internet Files\Content.IE5\2AT3ADVM\MC900291016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5084640"/>
            <a:ext cx="1079280" cy="1117800"/>
          </a:xfrm>
          <a:prstGeom prst="rect">
            <a:avLst/>
          </a:prstGeom>
          <a:ln w="0">
            <a:noFill/>
          </a:ln>
        </p:spPr>
      </p:pic>
      <p:sp>
        <p:nvSpPr>
          <p:cNvPr id="260" name="TextovéPole 7"/>
          <p:cNvSpPr/>
          <p:nvPr/>
        </p:nvSpPr>
        <p:spPr>
          <a:xfrm>
            <a:off x="182520" y="4653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C:\Users\Admin\AppData\Local\Microsoft\Windows\Temporary Internet Files\Content.IE5\F3ID01WC\MC900282178[1].wmf"/>
          <p:cNvPicPr/>
          <p:nvPr/>
        </p:nvPicPr>
        <p:blipFill>
          <a:blip r:embed="rId5"/>
          <a:stretch/>
        </p:blipFill>
        <p:spPr>
          <a:xfrm>
            <a:off x="4932360" y="3645000"/>
            <a:ext cx="8636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258560" y="2204640"/>
            <a:ext cx="73659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teré pralesy jsou v největším nebezpečí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ěstování které rostliny je dnes nejvíce diskutován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e všude je využíván palmový olej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můžeme pomoci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2019-5197-4DEA-B527-F4B0EED4CE6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C:\Users\Admin\AppData\Local\Microsoft\Windows\Temporary Internet Files\Content.IE5\2AT3ADVM\MC900291016[1].wmf"/>
          <p:cNvPicPr/>
          <p:nvPr/>
        </p:nvPicPr>
        <p:blipFill>
          <a:blip r:embed="rId1"/>
          <a:stretch/>
        </p:blipFill>
        <p:spPr>
          <a:xfrm>
            <a:off x="7524720" y="836640"/>
            <a:ext cx="1079640" cy="1119240"/>
          </a:xfrm>
          <a:prstGeom prst="rect">
            <a:avLst/>
          </a:prstGeom>
          <a:ln w="0">
            <a:noFill/>
          </a:ln>
        </p:spPr>
      </p:pic>
      <p:sp>
        <p:nvSpPr>
          <p:cNvPr id="265" name="TextovéPole 5"/>
          <p:cNvSpPr/>
          <p:nvPr/>
        </p:nvSpPr>
        <p:spPr>
          <a:xfrm>
            <a:off x="543240" y="3213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5651640" y="4869000"/>
            <a:ext cx="1224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10-24T10:21:06Z</dcterms:modified>
  <cp:revision>33</cp:revision>
  <dc:subject/>
  <dc:title>Snímek 1</dc:title>
</cp:coreProperties>
</file>