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6A2D-C30B-48F5-B0D1-F677F7D4D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D5E-1368-424A-9A94-8A5B3714D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E794-AA38-4D3D-809C-E4B8A234A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3FA-6F9B-404B-AC18-B0EEEF86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FD4-964A-439B-B0F0-81EFF272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508-172B-49CE-93BB-B4D735F6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13E-8D33-4DA6-B4C3-09551A8A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F07-1D20-4E46-A331-E191F3BF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3283-E5CA-4A3A-85DB-BE4B9028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AF1-5F7F-4E76-A17D-33DFAB7A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024-988B-47AE-9069-D817305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0D4C-FF54-42D1-947A-283C2F0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AC7-B18D-49FC-AE9C-C4DE8D4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0BC-9B95-4794-9AA0-B1AD2BF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81F-7717-4D1A-862D-996B4AA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FFF-A08C-4F9B-948B-0F95288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F85-990F-4587-A48C-A63755C7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4A93-2C7B-40CF-A210-84FCB76E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27AE-9691-459D-AC38-C6389B01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CB9-7BBC-404C-B227-6F5BC3F7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45824-8138-4A61-B5A5-3F4DAFEE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75F62-E405-4E8F-A0B5-9D2DBA87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22A2D-3E23-42B5-AD54-E7F7D076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EEBBD-95D7-4E86-A3EF-242C278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DD1E1-D0BE-4E34-8440-07C5D257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150-733D-4C6E-ABA9-1F5C47B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D118D-E317-49A1-81F2-8EBFD2C9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D1F42-7105-4547-A9EC-9BEE89F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5C3EB-297D-44C1-BC5A-54D3288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0A0A5-7583-4850-ADE0-5624949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F4717-476E-4186-B3EC-D6F98978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6EC89-EDD1-4A61-BD4C-C4D4D2CB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439E8-27BB-48D5-8B2E-682C433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AF06-33D5-4C8F-A3F7-599919F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5BBC-4901-48A0-9770-6B650CD7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ED77-90A6-47A3-AD2A-93A00A69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184-DBDF-49A5-9F9D-88DA9B6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E8D3-0D64-4B03-8518-FED73D0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79D7-070D-4D40-B31B-73E05BC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2340-4C67-41C9-A6BE-B00A29AF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C679-9AD8-45E4-A1D5-DE15B53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E0D9-5BA4-4918-B047-020BE39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1D97-C756-4D77-87FA-BC2E264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856A-D66A-42AC-8276-2FC0529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34F6-872F-4140-9381-420240CE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AEA7E-A5FB-4D68-84FA-A85D562C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DB8-91EE-4196-8C9E-E4CB3A5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C66-3959-4EDA-8471-3D9E763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98F-9248-4A68-BDBA-D6A781E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1FE-2644-4C97-ABF4-94E609A2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BFC-237F-429E-9CB8-49EA429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9877-6C85-4844-A8EE-67185E66BFA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9D1-ED13-4F02-BBC8-794C6902943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2EFE-3EF6-4120-B52A-06588B4C4A7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FA8-3BBB-48F2-A1FE-4334126129E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51F-058A-421B-95CA-621090B8041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4D3-BC01-40C0-9DAC-60010DE27DA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BEDE-8082-4E07-8C73-E9C5644E79CC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DBB-704A-4761-A61A-EACF7263611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ekokom.cz/cz/ostatni/vysledky-systemu/vyrocni-shrnuti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9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6B5-6B57-4A45-A8FC-3A0192078B2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ODPADY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Pokud žiješ v souladu s přírodou, nikdy nebudeš chudý. Pokud žiješ podle mínění lidí, nikdy nebudeš bohatý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          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Sene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seznamuje žáky s odpady. Umožňuje žákům pracovat samostatně s využitím internetu díle motivuje žáky ke správnému ekologickému chování. Na materiál navazuje pracovní li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charakterizuje odpad jako problém TUR a seznámí se s organizací zpětného odběru a recyklací jako nástrojem GEP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daná témata a dále vyhledáváním pojmů a vztahů pomocí internetu. Materiál lze využít s pomocí PC, nutné je připojení na internet s audio výstup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  Najdi na internetu.          Odpověz 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916360" y="5013360"/>
            <a:ext cx="561960" cy="79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6227640" y="4869000"/>
            <a:ext cx="35892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0" y="544500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64000" y="5589720"/>
            <a:ext cx="431640" cy="525240"/>
          </a:xfrm>
          <a:prstGeom prst="rect">
            <a:avLst/>
          </a:prstGeom>
          <a:ln w="0">
            <a:noFill/>
          </a:ln>
        </p:spPr>
      </p:pic>
      <p:sp>
        <p:nvSpPr>
          <p:cNvPr id="234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FA62-F792-4511-8C45-1D60CEDF028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516720" y="5732640"/>
            <a:ext cx="5000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C75-4B23-4481-97FF-4614BCD14EC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Zástupný symbol pro obsah 7" descr=""/>
          <p:cNvPicPr/>
          <p:nvPr/>
        </p:nvPicPr>
        <p:blipFill>
          <a:blip r:embed="rId1"/>
          <a:stretch/>
        </p:blipFill>
        <p:spPr>
          <a:xfrm>
            <a:off x="1816200" y="1195560"/>
            <a:ext cx="6280200" cy="4321080"/>
          </a:xfrm>
          <a:prstGeom prst="rect">
            <a:avLst/>
          </a:prstGeom>
          <a:ln w="0">
            <a:noFill/>
          </a:ln>
        </p:spPr>
      </p:pic>
      <p:pic>
        <p:nvPicPr>
          <p:cNvPr id="238" name="Zástupný symbol pro obsah 7" descr=""/>
          <p:cNvPicPr/>
          <p:nvPr/>
        </p:nvPicPr>
        <p:blipFill>
          <a:blip r:embed="rId2"/>
          <a:stretch/>
        </p:blipFill>
        <p:spPr>
          <a:xfrm>
            <a:off x="1096920" y="1225440"/>
            <a:ext cx="7236000" cy="5510160"/>
          </a:xfrm>
          <a:prstGeom prst="rect">
            <a:avLst/>
          </a:prstGeom>
          <a:ln w="0">
            <a:noFill/>
          </a:ln>
        </p:spPr>
      </p:pic>
      <p:pic>
        <p:nvPicPr>
          <p:cNvPr id="239" name="Diagram 10" descr=""/>
          <p:cNvPicPr/>
          <p:nvPr/>
        </p:nvPicPr>
        <p:blipFill>
          <a:blip r:embed="rId3"/>
          <a:stretch/>
        </p:blipFill>
        <p:spPr>
          <a:xfrm>
            <a:off x="1182600" y="549360"/>
            <a:ext cx="6870960" cy="6095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Admin\AppData\Local\Microsoft\Windows\Temporary Internet Files\Content.IE5\UTJF7CS0\MC900334546[1].wmf"/>
          <p:cNvPicPr/>
          <p:nvPr/>
        </p:nvPicPr>
        <p:blipFill>
          <a:blip r:embed="rId4"/>
          <a:stretch/>
        </p:blipFill>
        <p:spPr>
          <a:xfrm>
            <a:off x="395280" y="1773360"/>
            <a:ext cx="647640" cy="1468440"/>
          </a:xfrm>
          <a:prstGeom prst="rect">
            <a:avLst/>
          </a:prstGeom>
          <a:ln w="0">
            <a:noFill/>
          </a:ln>
        </p:spPr>
      </p:pic>
      <p:sp>
        <p:nvSpPr>
          <p:cNvPr id="241" name="TextovéPole 6"/>
          <p:cNvSpPr/>
          <p:nvPr/>
        </p:nvSpPr>
        <p:spPr>
          <a:xfrm>
            <a:off x="776160" y="62064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lení odpa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Verdana"/>
              </a:rPr>
              <a:t>Zařaď podle předchozího dělení, kam patří jednotlivé odpady.</a:t>
            </a:r>
            <a:endParaRPr b="0" lang="en-US" sz="32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rtonový obal od mlé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lev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vazy z nemocn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bytky hnoji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leněné obaly od potrav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ré papuč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F8C2-831F-414A-9E04-39FAA22DDFD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7020000" y="2349360"/>
            <a:ext cx="8650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Verdana"/>
              </a:rPr>
              <a:t>Zařaď podle předchozího dělení, kam patří jednotlivé odpady.</a:t>
            </a:r>
            <a:endParaRPr b="0" lang="en-US" sz="32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48428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rtonový obal od mlé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Recyklovatelný, pevný, ostatní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lev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evný, ostatní, velkoobjemový, recyklovatelný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vazy z nemocn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evný, nebezpečný, infekční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bytky hnoji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evný(kapalný), nebezpečný, chemický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leněné obaly od potrav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evný, recyklovatelný, ostatní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ré papuč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85240" indent="-209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evný, ostatní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0280" indent="-2451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9869-21F6-40D6-AAC3-98997D00717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7308720" y="1413000"/>
            <a:ext cx="935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Odpad a společnos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lik odpadů vytřídí každý obyvatel ČR za ro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čnou část odpadů tvoří obaly, jaký typ obalu se nejvíce podílí na tvorbě odpadů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á je dosažená míra recyklace u nápojových kartonů, navrhněte opatření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EKO-KOM, co je to zelený bod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0F9-0BB1-4090-AE6D-F12C007B108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6948360" y="620640"/>
            <a:ext cx="792360" cy="912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C:\Users\Admin\AppData\Local\Microsoft\Windows\Temporary Internet Files\Content.IE5\UTJF7CS0\MC900298305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2060640"/>
            <a:ext cx="792000" cy="963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C:\Users\Admin\AppData\Local\Microsoft\Windows\Temporary Internet Files\Content.IE5\2AT3ADVM\MC900291016[1].wmf"/>
          <p:cNvPicPr/>
          <p:nvPr/>
        </p:nvPicPr>
        <p:blipFill>
          <a:blip r:embed="rId4"/>
          <a:stretch/>
        </p:blipFill>
        <p:spPr>
          <a:xfrm>
            <a:off x="2340000" y="5373720"/>
            <a:ext cx="10429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TextovéPole 7"/>
          <p:cNvSpPr/>
          <p:nvPr/>
        </p:nvSpPr>
        <p:spPr>
          <a:xfrm>
            <a:off x="3581280" y="580536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terý zákon se týká obal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C:\Users\Admin\AppData\Local\Microsoft\Windows\Temporary Internet Files\Content.IE5\UTJF7CS0\MC900298305[1].wmf"/>
          <p:cNvPicPr/>
          <p:nvPr/>
        </p:nvPicPr>
        <p:blipFill>
          <a:blip r:embed="rId5"/>
          <a:stretch/>
        </p:blipFill>
        <p:spPr>
          <a:xfrm>
            <a:off x="8101080" y="4869000"/>
            <a:ext cx="79200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am s ním?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A676-3A1D-4208-B33B-05EB519EFAF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C:\Users\Admin\AppData\Local\Microsoft\Windows\Temporary Internet Files\Content.IE5\2AT3ADVM\MC900291016[1].wmf"/>
          <p:cNvPicPr/>
          <p:nvPr/>
        </p:nvPicPr>
        <p:blipFill>
          <a:blip r:embed="rId1"/>
          <a:stretch/>
        </p:blipFill>
        <p:spPr>
          <a:xfrm>
            <a:off x="1116000" y="1413000"/>
            <a:ext cx="1044720" cy="1079280"/>
          </a:xfrm>
          <a:prstGeom prst="rect">
            <a:avLst/>
          </a:prstGeom>
          <a:ln w="0">
            <a:noFill/>
          </a:ln>
        </p:spPr>
      </p:pic>
      <p:sp>
        <p:nvSpPr>
          <p:cNvPr id="261" name="TextovéPole 5"/>
          <p:cNvSpPr/>
          <p:nvPr/>
        </p:nvSpPr>
        <p:spPr>
          <a:xfrm>
            <a:off x="2195640" y="1484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te se na dokument, který upozorňuje na příšernou situaci, která se týká spotřeby plastů (obalů). Navrhněte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C:\Users\Admin\AppData\Local\Microsoft\Windows\Temporary Internet Files\Content.IE5\2AT3ADVM\MC900291016[1].wmf"/>
          <p:cNvPicPr/>
          <p:nvPr/>
        </p:nvPicPr>
        <p:blipFill>
          <a:blip r:embed="rId2"/>
          <a:stretch/>
        </p:blipFill>
        <p:spPr>
          <a:xfrm>
            <a:off x="1116000" y="2565360"/>
            <a:ext cx="1044720" cy="1079640"/>
          </a:xfrm>
          <a:prstGeom prst="rect">
            <a:avLst/>
          </a:prstGeom>
          <a:ln w="0">
            <a:noFill/>
          </a:ln>
        </p:spPr>
      </p:pic>
      <p:sp>
        <p:nvSpPr>
          <p:cNvPr id="263" name="TextovéPole 8"/>
          <p:cNvSpPr/>
          <p:nvPr/>
        </p:nvSpPr>
        <p:spPr>
          <a:xfrm>
            <a:off x="2275920" y="3068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lov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1116000" y="3860640"/>
            <a:ext cx="1044720" cy="108108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10"/>
          <p:cNvSpPr/>
          <p:nvPr/>
        </p:nvSpPr>
        <p:spPr>
          <a:xfrm>
            <a:off x="2275200" y="4365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á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C:\Users\Admin\AppData\Local\Microsoft\Windows\Temporary Internet Files\Content.IE5\2AT3ADVM\MC900291016[1].wmf"/>
          <p:cNvPicPr/>
          <p:nvPr/>
        </p:nvPicPr>
        <p:blipFill>
          <a:blip r:embed="rId4"/>
          <a:stretch/>
        </p:blipFill>
        <p:spPr>
          <a:xfrm>
            <a:off x="1116000" y="5084640"/>
            <a:ext cx="1044720" cy="108108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2"/>
          <p:cNvSpPr/>
          <p:nvPr/>
        </p:nvSpPr>
        <p:spPr>
          <a:xfrm>
            <a:off x="2274480" y="5589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m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:\Users\Admin\AppData\Local\Microsoft\Windows\Temporary Internet Files\Content.IE5\UTJF7CS0\MC900334546[1].wmf"/>
          <p:cNvPicPr/>
          <p:nvPr/>
        </p:nvPicPr>
        <p:blipFill>
          <a:blip r:embed="rId5"/>
          <a:stretch/>
        </p:blipFill>
        <p:spPr>
          <a:xfrm>
            <a:off x="6732720" y="1052640"/>
            <a:ext cx="576000" cy="1304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Users\Admin\AppData\Local\Microsoft\Windows\Temporary Internet Files\Content.IE5\Q8L7FNA7\MC900299133[1].wmf"/>
          <p:cNvPicPr/>
          <p:nvPr/>
        </p:nvPicPr>
        <p:blipFill>
          <a:blip r:embed="rId6"/>
          <a:stretch/>
        </p:blipFill>
        <p:spPr>
          <a:xfrm>
            <a:off x="6804000" y="3429000"/>
            <a:ext cx="86364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942D-1079-4766-A0A6-BC95DB2CEEE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9-20T08:37:51Z</dcterms:modified>
  <cp:revision>44</cp:revision>
  <dc:subject/>
  <dc:title>Snímek 1</dc:title>
</cp:coreProperties>
</file>