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7496-78BE-4ED3-9829-6E3915883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5C90-A44B-43AD-A360-FF2E2D349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FF1-2993-4BEB-9989-98B0617D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32C-D951-4DAA-A8F3-821B117D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FF9-919E-4AAE-B920-F4AFC002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6D12-C972-4A8C-845D-3E295C9F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21DC-B0CD-4F46-AED0-00D355C4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DF28-830B-41E7-94A7-77035714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7C8E-2198-4A2F-B952-2526237E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7805-4140-40A4-A190-DA131D47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DDBA-889F-48DB-AF15-238A256A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F6C1-1BB0-44F6-8B0A-00C9B293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B3B3-1B92-4513-A6CD-34E159DA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71A-6E8D-4DD4-A884-62E79AD2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4B6C-0112-4C6D-AF30-DD14F582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81FB-CDB3-4177-916A-3A3DDB98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C5FE-D9E4-4623-9DEE-2D24992F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F81A-3FEB-411A-9A99-3A6D7F97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C55E-8699-4055-8A57-E26FF849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A46BD-40CC-4199-BC94-6CCF16B9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E2632-D852-4CCD-B3CB-E761FC6E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F315A-BD64-44B5-A94A-5F1280E7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730D9-F635-4DB8-BB36-2F53690E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31513-7999-4997-92A3-886D060C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4F47-B3EC-4764-B057-388EE1F7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9293B6-0373-4F97-B49D-F6BA82AC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9AD42-3A60-402D-9B4A-073E0F73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B2BD5-AA92-4C23-90AC-E51DDC1C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5A093-3FC3-469A-A069-9D777693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4D0E3-9F72-4469-9740-0BC2709C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A6D57-671B-4631-8573-5CCBEE2F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CF1C1-6702-462B-9B2D-37C7125E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3AC06-F3EC-49EA-AB8B-03D287E0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B4D57-A297-45D4-88BD-0A3BDCEA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2C42F-CA11-45FA-AB53-C6224687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E65-0A39-4DD9-B0D8-0401EF13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3C838-EED4-43B1-8986-CAD51C86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E63DA-49CC-4A1C-AC3E-C0FBE0D2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C22FA-2724-41CE-951C-E91685E3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40428-403C-4BFB-827C-98073A8C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9541C-9CF2-44FD-8D3A-F2B3CADB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F10D9-E33C-4874-9C8C-429A56F5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526B7-5786-4203-BC25-5BE8AC14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6C9D3-378E-4723-9762-6F8A60FD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7DD9D-56A0-4B46-B1FC-AE679B50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B80F-BB16-495C-878A-84FB9688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9DD-41C8-4868-9EA9-4854CA9C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B8C-965E-48FC-A37A-D51682B8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B7E5-B27F-46F9-B36F-B9145C3E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3C6-20E8-4A16-95F3-39866ADE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1121-9FF9-41A4-9975-D4681A2B9307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2694-8E8E-4D29-9E94-CC0812301485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élní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aoblený obdélní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aoblený obdélní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7463-31DE-4C27-B550-8376E2DA3257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E7E1-6422-4619-BC8F-7ABF891EC776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202A-D877-4A7B-8B36-70CADF7012D5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6DB9-601E-418A-AB0D-D9AE6EB8074A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D0C3-67C2-48DC-8E8C-7053A480AB41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6DD6-3B83-4B63-89DF-7A2D4676B222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hyperlink" Target="http://cs.wikipedia.org/wiki/Justus_von_Liebig" TargetMode="External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.wikipedia.org/wiki/Majestas_Carolina" TargetMode="External"/><Relationship Id="rId2" Type="http://schemas.openxmlformats.org/officeDocument/2006/relationships/image" Target="../media/image5.wmf"/><Relationship Id="rId3" Type="http://schemas.openxmlformats.org/officeDocument/2006/relationships/hyperlink" Target="http://cs.wikipedia.org/wiki/&#381;of&#237;nsk&#253;_prales" TargetMode="External"/><Relationship Id="rId4" Type="http://schemas.openxmlformats.org/officeDocument/2006/relationships/image" Target="../media/image5.wmf"/><Relationship Id="rId5" Type="http://schemas.openxmlformats.org/officeDocument/2006/relationships/hyperlink" Target="http://www.youtube.com/watch?v=t6xf2V_kEUI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youtube.com/watch?v=dwBfsrjdUcE&amp;list=PLp6cjpX2SOFEanmaohGQna1KKPUV7TM3p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C:\Users\Admin\Documents\JANA\DUMY\logo dumy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468360" y="1700280"/>
          <a:ext cx="8442360" cy="5151240"/>
        </p:xfrm>
        <a:graphic>
          <a:graphicData uri="http://schemas.openxmlformats.org/drawingml/2006/table">
            <a:tbl>
              <a:tblPr/>
              <a:tblGrid>
                <a:gridCol w="4390920"/>
                <a:gridCol w="4051440"/>
              </a:tblGrid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ymnázium Fr.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lověk a přír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logie pro 4. ročník SŠ a odpovídající ročník víceletých gymnázi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k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r. Jana Pastuch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.9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713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íme se pro život v 21. století 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ZNAČENÍ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BI.PS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5" name="Zástupný symbol pro číslo snímku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8439-AD51-4A72-85E9-739109D590DD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Biosférické rezervac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AF55-ADCC-4390-AC7F-F7D3D9E0CBCA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Soubor:Biosphere Reserves.svg"/>
          <p:cNvPicPr/>
          <p:nvPr/>
        </p:nvPicPr>
        <p:blipFill>
          <a:blip r:embed="rId1"/>
          <a:stretch/>
        </p:blipFill>
        <p:spPr>
          <a:xfrm>
            <a:off x="684360" y="2924280"/>
            <a:ext cx="7619760" cy="3362400"/>
          </a:xfrm>
          <a:prstGeom prst="rect">
            <a:avLst/>
          </a:prstGeom>
          <a:ln w="0">
            <a:noFill/>
          </a:ln>
        </p:spPr>
      </p:pic>
      <p:sp>
        <p:nvSpPr>
          <p:cNvPr id="272" name="TextovéPole 5"/>
          <p:cNvSpPr/>
          <p:nvPr/>
        </p:nvSpPr>
        <p:spPr>
          <a:xfrm>
            <a:off x="395280" y="119700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iosférická rezerva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 je velkoplošné území vyhlášené v rámci mezinárodního programu UNESCO Člověk a biosféra. Světová síť biosférických rezervací je rozprostřena tak, aby zahrnovala všechny základní biomy Země. Tato území představují reprezentativní ukázky kulturních i přírodních krajin, ve kterých zároveň hraje důležitou roli člověk a jeho ak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ovéPole 6"/>
          <p:cNvSpPr/>
          <p:nvPr/>
        </p:nvSpPr>
        <p:spPr>
          <a:xfrm>
            <a:off x="8463240" y="4221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ovéPole 7"/>
          <p:cNvSpPr/>
          <p:nvPr/>
        </p:nvSpPr>
        <p:spPr>
          <a:xfrm>
            <a:off x="1838520" y="6488280"/>
            <a:ext cx="24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Obrázek udává počty rezervací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Biosférické rezervace v ČR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lik je v nyní vyhlášení v ČR B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ypiš všechny BR na území Č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kus se zjistit, co vedlo UNESCO k jejich vyhlášení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 vypadá budoucnost B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3219-20E5-433C-A35E-E9F5A652D9D1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0" descr="C:\Users\Admin\AppData\Local\Microsoft\Windows\Temporary Internet Files\Content.IE5\UTJF7CS0\MC900298305[1].wmf"/>
          <p:cNvPicPr/>
          <p:nvPr/>
        </p:nvPicPr>
        <p:blipFill>
          <a:blip r:embed="rId1"/>
          <a:stretch/>
        </p:blipFill>
        <p:spPr>
          <a:xfrm>
            <a:off x="7164360" y="4221000"/>
            <a:ext cx="792360" cy="963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8028000" y="1197000"/>
            <a:ext cx="576360" cy="1305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C:\Users\Admin\AppData\Local\Microsoft\Windows\Temporary Internet Files\Content.IE5\F3ID01WC\MC900282178[1].wmf"/>
          <p:cNvPicPr/>
          <p:nvPr/>
        </p:nvPicPr>
        <p:blipFill>
          <a:blip r:embed="rId3"/>
          <a:stretch/>
        </p:blipFill>
        <p:spPr>
          <a:xfrm>
            <a:off x="4356000" y="5373720"/>
            <a:ext cx="79236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Natura 2000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268280"/>
            <a:ext cx="822960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e kterých státech je tento program vyhláš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ý je cíl této ochranářské iniciativ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terá území se v ČR řadí do této soustav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terá území v našem kraji spadají pod tuto ochranu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7DFF-09D7-484A-B9B6-6DF1E43D9A14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0" descr="C:\Users\Admin\AppData\Local\Microsoft\Windows\Temporary Internet Files\Content.IE5\UTJF7CS0\MC900298305[1].wmf"/>
          <p:cNvPicPr/>
          <p:nvPr/>
        </p:nvPicPr>
        <p:blipFill>
          <a:blip r:embed="rId1"/>
          <a:stretch/>
        </p:blipFill>
        <p:spPr>
          <a:xfrm>
            <a:off x="7885080" y="907920"/>
            <a:ext cx="790560" cy="965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8172360" y="3357720"/>
            <a:ext cx="576360" cy="1304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C:\Users\Admin\AppData\Local\Microsoft\Windows\Temporary Internet Files\Content.IE5\F3ID01WC\MC900282178[1].wmf"/>
          <p:cNvPicPr/>
          <p:nvPr/>
        </p:nvPicPr>
        <p:blipFill>
          <a:blip r:embed="rId3"/>
          <a:stretch/>
        </p:blipFill>
        <p:spPr>
          <a:xfrm>
            <a:off x="3924360" y="4797360"/>
            <a:ext cx="931680" cy="10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Chráněná území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pic>
        <p:nvPicPr>
          <p:cNvPr id="288" name="Zástupný symbol pro obsah 4" descr=""/>
          <p:cNvPicPr/>
          <p:nvPr/>
        </p:nvPicPr>
        <p:blipFill>
          <a:blip r:embed="rId1"/>
          <a:stretch/>
        </p:blipFill>
        <p:spPr>
          <a:xfrm>
            <a:off x="249120" y="1189080"/>
            <a:ext cx="8229600" cy="5729400"/>
          </a:xfrm>
          <a:prstGeom prst="rect">
            <a:avLst/>
          </a:prstGeom>
          <a:ln w="0">
            <a:noFill/>
          </a:ln>
        </p:spPr>
      </p:pic>
      <p:sp>
        <p:nvSpPr>
          <p:cNvPr id="289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579C-DE7C-4B5F-B30B-6C91D78D6F0D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C:\Users\Admin\AppData\Local\Microsoft\Windows\Temporary Internet Files\Content.IE5\Q8L7FNA7\MC900299133[1].wmf"/>
          <p:cNvPicPr/>
          <p:nvPr/>
        </p:nvPicPr>
        <p:blipFill>
          <a:blip r:embed="rId2"/>
          <a:stretch/>
        </p:blipFill>
        <p:spPr>
          <a:xfrm>
            <a:off x="1116000" y="4724280"/>
            <a:ext cx="863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CHKO a NP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92" name="Zástupný symbol pro číslo snímku 2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3E11-2141-4C1E-9A15-8B3BFEEC1301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ovéPole 4"/>
          <p:cNvSpPr/>
          <p:nvPr/>
        </p:nvSpPr>
        <p:spPr>
          <a:xfrm>
            <a:off x="8103600" y="5589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http://www.mzp.cz/www/dav.nsf/rocenka_06/img/b5_0101.gif"/>
          <p:cNvPicPr/>
          <p:nvPr/>
        </p:nvPicPr>
        <p:blipFill>
          <a:blip r:embed="rId1"/>
          <a:stretch/>
        </p:blipFill>
        <p:spPr>
          <a:xfrm>
            <a:off x="1332000" y="1700280"/>
            <a:ext cx="6762600" cy="42958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C:\Users\Admin\AppData\Local\Microsoft\Windows\Temporary Internet Files\Content.IE5\UTJF7CS0\MC900298305[1].wmf"/>
          <p:cNvPicPr/>
          <p:nvPr/>
        </p:nvPicPr>
        <p:blipFill>
          <a:blip r:embed="rId2"/>
          <a:stretch/>
        </p:blipFill>
        <p:spPr>
          <a:xfrm>
            <a:off x="5508720" y="476280"/>
            <a:ext cx="863640" cy="1052640"/>
          </a:xfrm>
          <a:prstGeom prst="rect">
            <a:avLst/>
          </a:prstGeom>
          <a:ln w="0">
            <a:noFill/>
          </a:ln>
        </p:spPr>
      </p:pic>
      <p:sp>
        <p:nvSpPr>
          <p:cNvPr id="296" name="Obdélník 9"/>
          <p:cNvSpPr/>
          <p:nvPr/>
        </p:nvSpPr>
        <p:spPr>
          <a:xfrm>
            <a:off x="6516720" y="54936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pamatuj si, kde se která území nacházejí, zahraj si tuto hr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Druhová ochrana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268280"/>
            <a:ext cx="822960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o ochraně přírody a krajiny č. 114/1992 Sb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yhláška o ochraně přírody a krajiny MŽP ČR č. 395/1992 Sb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EBC6-8C96-49FA-AF76-EC1951D2D9C5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Diagram 4" descr=""/>
          <p:cNvPicPr/>
          <p:nvPr/>
        </p:nvPicPr>
        <p:blipFill>
          <a:blip r:embed="rId1"/>
          <a:stretch/>
        </p:blipFill>
        <p:spPr>
          <a:xfrm>
            <a:off x="1609560" y="2419200"/>
            <a:ext cx="6120000" cy="4067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C:\Users\Admin\AppData\Local\Microsoft\Windows\Temporary Internet Files\Content.IE5\2AT3ADVM\MC900291016[1].wmf"/>
          <p:cNvPicPr/>
          <p:nvPr/>
        </p:nvPicPr>
        <p:blipFill>
          <a:blip r:embed="rId2"/>
          <a:stretch/>
        </p:blipFill>
        <p:spPr>
          <a:xfrm>
            <a:off x="468360" y="5661000"/>
            <a:ext cx="863640" cy="895320"/>
          </a:xfrm>
          <a:prstGeom prst="rect">
            <a:avLst/>
          </a:prstGeom>
          <a:ln w="0">
            <a:noFill/>
          </a:ln>
        </p:spPr>
      </p:pic>
      <p:sp>
        <p:nvSpPr>
          <p:cNvPr id="302" name="TextovéPole 6"/>
          <p:cNvSpPr/>
          <p:nvPr/>
        </p:nvSpPr>
        <p:spPr>
          <a:xfrm>
            <a:off x="1576800" y="6165720"/>
            <a:ext cx="526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ívej se na dokument o tetřeví slepici z Besky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DROJ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9528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ERGER, Josef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České Budějovice: Kopp, 1998, 197 s. ISBN 80-723-2013-0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ČERVINKA, Pavel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životní prostředí: učebnice pro střední odborné školy a učiliště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Praha: Nakladatelství České geografické společnosti, 2005, 118 s. ISBN 80-860-3463-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ŠLÉGL, Jiří, František KISLINGER a Jana LANÍKOVÁ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ochrana životního prostřed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: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ro gymnázi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Vyd. 1. Praha: Fortuna, 2002, 157 s. ISBN 80-716-8828-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Obrázek 1) i text: Biosférická rezervace. In: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Wikipedia: the free encyclopedi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 [online]. San Francisco (CA): Wikimedia Foundation, 2001- Dostupné z: http://cs.wikipedia.org/wiki/Biosf%C3%A9rick%C3%A1_rezerv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Obrázek 2) Dostupné z: http://www.mzp.cz/www/dav.nsf/rocenka_06/b5.htm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6616-9656-492B-9CDD-6FA7477F8414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OCHRANA PŘÍRODY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55280" y="458100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„ 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Věda zjistila, že nic nemůže zmizet beze stopy. Příroda nezná zničení, pouze změnu.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         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(Wernher von Brau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Anotac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560" y="980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Materiál seznamuje žáky s ochranou přírody na světě i v ČR. Připomíná mezinárodní dokumenty a organizace a zabývá se ústavními podklady ochrany u nás. Díky odkazům na internetu má žák možnost rozšířit si znalosti v této problematice. Některé dokumenty jsou v anglickém jazy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Převládající klíčové kompetence: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kompetence k učení, kompetence k řešení problémů, kompetence občanské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Vazba na ŠVP: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Školní vzdělávací program pro čtyřleté studium – čtvrtý ročník (případně odpovídající ročníky víceletého studia) – učební osnovy BIOLOGIE – Ekologie, seminář z biologie. Podle výstupů z RVP chápe systém ochrany přírody, orientuje se v základních dokumentech.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Formy výuky: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Uvědomění probíhá studiem článků a poslechem pořadů, ve kterých odborníci vysvětlují daná témata a dále vyhledáváním pojmů a vztahů pomocí internetu. Materiál lze využít s pomocí PC, nutné je připojení na internet s audio výstupem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Použití symbolů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:              Zapamatuj si !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Poznamenej si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Podívej se na video.             Najdi na internetu.                   Odpověz n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  <a:ea typeface="Verdana"/>
              </a:rPr>
              <a:t>otázku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2627280" y="4724280"/>
            <a:ext cx="561960" cy="792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5364000" y="4653000"/>
            <a:ext cx="358920" cy="812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Users\Admin\AppData\Local\Microsoft\Windows\Temporary Internet Files\Content.IE5\2AT3ADVM\MC900291016[1].wmf"/>
          <p:cNvPicPr/>
          <p:nvPr/>
        </p:nvPicPr>
        <p:blipFill>
          <a:blip r:embed="rId3"/>
          <a:stretch/>
        </p:blipFill>
        <p:spPr>
          <a:xfrm>
            <a:off x="250920" y="5300640"/>
            <a:ext cx="579240" cy="600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:\Users\Admin\AppData\Local\Microsoft\Windows\Temporary Internet Files\Content.IE5\UTJF7CS0\MC900298305[1].wm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5516640"/>
            <a:ext cx="431640" cy="525240"/>
          </a:xfrm>
          <a:prstGeom prst="rect">
            <a:avLst/>
          </a:prstGeom>
          <a:ln w="0">
            <a:noFill/>
          </a:ln>
        </p:spPr>
      </p:pic>
      <p:sp>
        <p:nvSpPr>
          <p:cNvPr id="234" name="Zástupný symbol pro číslo snímku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2B56-0552-4A40-9B7E-DE90456268A2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C:\Users\Admin\AppData\Local\Microsoft\Windows\Temporary Internet Files\Content.IE5\F3ID01WC\MC900282178[1].wmf"/>
          <p:cNvPicPr/>
          <p:nvPr/>
        </p:nvPicPr>
        <p:blipFill>
          <a:blip r:embed="rId6"/>
          <a:stretch/>
        </p:blipFill>
        <p:spPr>
          <a:xfrm>
            <a:off x="6516720" y="5373720"/>
            <a:ext cx="500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Histori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8360" y="1700280"/>
            <a:ext cx="822960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vní zmínka v 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Maiestas Carolina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– ochrana královských lesů co by královské honitby Karla IV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ÁTNÍ OCHRA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1. 3. 1872 –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ezident USA Grant vyhlásil první národní park </a:t>
            </a:r>
            <a:r>
              <a:rPr b="0" lang="cs-CZ" sz="2600" spc="-1" strike="noStrike">
                <a:solidFill>
                  <a:srgbClr val="0076a3"/>
                </a:solidFill>
                <a:latin typeface="Verdana"/>
              </a:rPr>
              <a:t>Yellowstonský park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V roce 1838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hlásil hrabě Buquoy na svém panství</a:t>
            </a: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 Žofínský prales a Hojná Voda v Novohradských horách 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38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C8BF-D814-43C6-BE40-D1844BB8EDB9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0" descr="C:\Users\Admin\AppData\Local\Microsoft\Windows\Temporary Internet Files\Content.IE5\UTJF7CS0\MC900298305[1]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1268280"/>
            <a:ext cx="792360" cy="963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C:\Users\Admin\AppData\Local\Microsoft\Windows\Temporary Internet Files\Content.IE5\UTJF7CS0\MC900298305[1].wm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5640" y="5732640"/>
            <a:ext cx="792000" cy="965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C:\Users\Admin\AppData\Local\Microsoft\Windows\Temporary Internet Files\Content.IE5\2AT3ADVM\MC900291016[1].wm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67640" y="3860640"/>
            <a:ext cx="865080" cy="895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Users\Admin\AppData\Local\Microsoft\Windows\Temporary Internet Files\Content.IE5\Q8L7FNA7\MC900299133[1].wmf"/>
          <p:cNvPicPr/>
          <p:nvPr/>
        </p:nvPicPr>
        <p:blipFill>
          <a:blip r:embed="rId7"/>
          <a:stretch/>
        </p:blipFill>
        <p:spPr>
          <a:xfrm>
            <a:off x="4643280" y="404640"/>
            <a:ext cx="93672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Druhy ochrany přírody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CBA1-A416-4BB9-8C4B-E3F07B1BAE06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052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RUHOV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Chrání jednotlivé druhy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Červená kniha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ZEM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Chrání celá území a územní celky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</p:txBody>
      </p:sp>
      <p:pic>
        <p:nvPicPr>
          <p:cNvPr id="246" name="Picture 4" descr="C:\Users\Admin\AppData\Local\Microsoft\Windows\Temporary Internet Files\Content.IE5\F3ID01WC\MC900425916[1].wmf"/>
          <p:cNvPicPr/>
          <p:nvPr/>
        </p:nvPicPr>
        <p:blipFill>
          <a:blip r:embed="rId1"/>
          <a:stretch/>
        </p:blipFill>
        <p:spPr>
          <a:xfrm>
            <a:off x="6443640" y="1197000"/>
            <a:ext cx="1797120" cy="1733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C:\Users\Admin\AppData\Local\Microsoft\Windows\Temporary Internet Files\Content.IE5\2AT3ADVM\MC900291016[1].w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365720"/>
            <a:ext cx="936720" cy="968400"/>
          </a:xfrm>
          <a:prstGeom prst="rect">
            <a:avLst/>
          </a:prstGeom>
          <a:ln w="0">
            <a:noFill/>
          </a:ln>
        </p:spPr>
      </p:pic>
      <p:sp>
        <p:nvSpPr>
          <p:cNvPr id="248" name="TextovéPole 12"/>
          <p:cNvSpPr/>
          <p:nvPr/>
        </p:nvSpPr>
        <p:spPr>
          <a:xfrm>
            <a:off x="1908000" y="4508640"/>
            <a:ext cx="54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příkladu Českého ráje si uvedeme důvody pro vyhlášení chráněného krajinného územ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4617b"/>
                </a:solidFill>
                <a:latin typeface="Verdana"/>
              </a:rPr>
              <a:t>Světové instituce zabývající se ochranou přírody</a:t>
            </a:r>
            <a:endParaRPr b="0" lang="en-US" sz="28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90756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ezinárodní unie pro ochranu přírody a přírodních zdrojů (IUC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4040" indent="-24120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dd9"/>
                </a:solidFill>
                <a:latin typeface="Verdana"/>
              </a:rPr>
              <a:t>Světová centrála vědecky podložené </a:t>
            </a:r>
            <a:r>
              <a:rPr b="0" lang="cs-CZ" sz="2400" spc="-1" strike="noStrike">
                <a:solidFill>
                  <a:srgbClr val="009dd9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9dd9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9dd9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9dd9"/>
                </a:solidFill>
                <a:latin typeface="Verdana"/>
              </a:rPr>
              <a:t>ochrany přírody</a:t>
            </a:r>
            <a:endParaRPr b="0" lang="en-US" sz="2400" spc="-1" strike="noStrike">
              <a:solidFill>
                <a:srgbClr val="009dd9"/>
              </a:solidFill>
              <a:latin typeface="Verdana"/>
            </a:endParaRPr>
          </a:p>
          <a:p>
            <a:pPr lvl="1" marL="644040" indent="-24120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dd9"/>
                </a:solidFill>
                <a:latin typeface="Verdana"/>
              </a:rPr>
              <a:t>Sdružuje přes 500 národních organizací ze 111 států</a:t>
            </a:r>
            <a:endParaRPr b="0" lang="en-US" sz="2400" spc="-1" strike="noStrike">
              <a:solidFill>
                <a:srgbClr val="009dd9"/>
              </a:solidFill>
              <a:latin typeface="Verdana"/>
            </a:endParaRPr>
          </a:p>
          <a:p>
            <a:pPr lvl="1" marL="644040" indent="-24120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dd9"/>
                </a:solidFill>
                <a:latin typeface="Verdana"/>
              </a:rPr>
              <a:t>Vydává </a:t>
            </a:r>
            <a:r>
              <a:rPr b="0" lang="cs-CZ" sz="2400" spc="-1" strike="noStrike">
                <a:solidFill>
                  <a:srgbClr val="ff0000"/>
                </a:solidFill>
                <a:latin typeface="Verdana"/>
              </a:rPr>
              <a:t>Červené knihy </a:t>
            </a:r>
            <a:r>
              <a:rPr b="0" lang="cs-CZ" sz="2400" spc="-1" strike="noStrike">
                <a:solidFill>
                  <a:srgbClr val="59aaf2"/>
                </a:solidFill>
                <a:latin typeface="Verdana"/>
              </a:rPr>
              <a:t>ohrožených živočichů a rostlin</a:t>
            </a:r>
            <a:endParaRPr b="0" lang="en-US" sz="2400" spc="-1" strike="noStrike">
              <a:solidFill>
                <a:srgbClr val="009dd9"/>
              </a:solidFill>
              <a:latin typeface="Verdan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větový fond pro ochranu přírody (WW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4040" indent="-24120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dd9"/>
                </a:solidFill>
                <a:latin typeface="Verdana"/>
              </a:rPr>
              <a:t>Financuje mezinárodních akcí</a:t>
            </a:r>
            <a:endParaRPr b="0" lang="en-US" sz="2400" spc="-1" strike="noStrike">
              <a:solidFill>
                <a:srgbClr val="009dd9"/>
              </a:solidFill>
              <a:latin typeface="Verdan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gram Spojených národů v oblasti životního prostředí (UNE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4040" indent="-24120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dd9"/>
                </a:solidFill>
                <a:latin typeface="Verdana"/>
              </a:rPr>
              <a:t>Vydává zprávy o stavu ŽP</a:t>
            </a:r>
            <a:endParaRPr b="0" lang="en-US" sz="2200" spc="-1" strike="noStrike">
              <a:solidFill>
                <a:srgbClr val="009dd9"/>
              </a:solidFill>
              <a:latin typeface="Verdan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rganizace Spojených národů pro výchovu, vědu a kulturu (UNESC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4040" indent="-24120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51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A7D2-1AB7-4B63-A9B2-7884700CA661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C:\Users\Admin\AppData\Local\Microsoft\Windows\Temporary Internet Files\Content.IE5\2AT3ADVM\MC900291016[1].wmf"/>
          <p:cNvPicPr/>
          <p:nvPr/>
        </p:nvPicPr>
        <p:blipFill>
          <a:blip r:embed="rId1"/>
          <a:stretch/>
        </p:blipFill>
        <p:spPr>
          <a:xfrm>
            <a:off x="7380360" y="1413000"/>
            <a:ext cx="863640" cy="895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8172360" y="3933720"/>
            <a:ext cx="720720" cy="1630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http://awsassets.wwf.ca/img/wwf_master_panda_logo_23087.jpg"/>
          <p:cNvPicPr/>
          <p:nvPr/>
        </p:nvPicPr>
        <p:blipFill>
          <a:blip r:embed="rId3"/>
          <a:stretch/>
        </p:blipFill>
        <p:spPr>
          <a:xfrm>
            <a:off x="1692360" y="620640"/>
            <a:ext cx="381636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ovéPole 7"/>
          <p:cNvSpPr/>
          <p:nvPr/>
        </p:nvSpPr>
        <p:spPr>
          <a:xfrm>
            <a:off x="5543640" y="3357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ívej se na dokument  Povídání o mokřad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C:\Users\Admin\AppData\Local\Microsoft\Windows\Temporary Internet Files\Content.IE5\2AT3ADVM\MC900291016[1].wmf"/>
          <p:cNvPicPr/>
          <p:nvPr/>
        </p:nvPicPr>
        <p:blipFill>
          <a:blip r:embed="rId1"/>
          <a:stretch/>
        </p:blipFill>
        <p:spPr>
          <a:xfrm>
            <a:off x="4643280" y="3357720"/>
            <a:ext cx="579600" cy="5997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Světové programy a úmluvy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79280" y="1125000"/>
            <a:ext cx="8964720" cy="544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větová strategie ochrany přírody (WC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větová charta na ochranu příro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lověk a biosféra (M&amp;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Program ekologického vzdělávání 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mluva o mokřadech mezinárodního významu – </a:t>
            </a:r>
            <a:r>
              <a:rPr b="0" lang="cs-CZ" sz="2800" spc="-1" strike="noStrike">
                <a:solidFill>
                  <a:srgbClr val="59aaf2"/>
                </a:solidFill>
                <a:latin typeface="Verdana"/>
              </a:rPr>
              <a:t>Ramsarská úmlu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mluva o mezinárodním obchodu ohroženými volně žijícími druhy fauny a flóry (CIT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genda 2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Úkoly pro státy pro 21. století 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Životní styl, boj s chudobou, boj s odlesňováním, ochrana zdraví, atmosféry, obhospodařovaných zdrojů...</a:t>
            </a:r>
            <a:endParaRPr b="0" lang="en-US" sz="2200" spc="-1" strike="noStrike">
              <a:solidFill>
                <a:srgbClr val="0f6fc6"/>
              </a:solidFill>
              <a:latin typeface="Verdana"/>
            </a:endParaRPr>
          </a:p>
        </p:txBody>
      </p:sp>
      <p:sp>
        <p:nvSpPr>
          <p:cNvPr id="259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4D03-02E9-4EE9-8ED9-BD7192A10D8E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8028000" y="1197000"/>
            <a:ext cx="576360" cy="1305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http://www.cites.org/I/40/CITES_40_logo.png"/>
          <p:cNvPicPr/>
          <p:nvPr/>
        </p:nvPicPr>
        <p:blipFill>
          <a:blip r:embed="rId3"/>
          <a:stretch/>
        </p:blipFill>
        <p:spPr>
          <a:xfrm>
            <a:off x="1187280" y="333360"/>
            <a:ext cx="61884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Nadpis 1" descr=""/>
          <p:cNvPicPr/>
          <p:nvPr/>
        </p:nvPicPr>
        <p:blipFill>
          <a:blip r:embed="rId1"/>
          <a:stretch/>
        </p:blipFill>
        <p:spPr>
          <a:xfrm>
            <a:off x="341280" y="817560"/>
            <a:ext cx="8040600" cy="1865160"/>
          </a:xfrm>
          <a:prstGeom prst="rect">
            <a:avLst/>
          </a:prstGeom>
          <a:ln w="0">
            <a:noFill/>
          </a:ln>
        </p:spPr>
      </p:pic>
      <p:sp>
        <p:nvSpPr>
          <p:cNvPr id="263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290A-8746-400F-968B-99D53D292DCC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Obdélník 4" descr=""/>
          <p:cNvPicPr/>
          <p:nvPr/>
        </p:nvPicPr>
        <p:blipFill>
          <a:blip r:embed="rId2"/>
          <a:stretch/>
        </p:blipFill>
        <p:spPr>
          <a:xfrm>
            <a:off x="895320" y="3309840"/>
            <a:ext cx="71089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Ústavní rámec ochrany 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092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Ústava Č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o životním prostředí č. 17/1992 Sb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o ochraně přírody a krajiny č. 114/1992 Sb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o posuzování vlivů na ŽP (EIA) č. 100/2001 Sb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ákon o ovzduší č. 201/2012 Sb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ákon o odpadech č. 185/2001 Sb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ákon o látkách, které poškozují  ozonovou vrstvu a o fluorovaných skleníkových plynech č. 73/2012 Sb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ákon o vodách č. 254/2001 Sb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ákon o lesích č. 289/1995 Sb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530E-153A-4638-BA0F-DC75CB113498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7236000" y="4581360"/>
            <a:ext cx="1152360" cy="16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5T15:36:48Z</dcterms:created>
  <dc:creator>Admin</dc:creator>
  <dc:description/>
  <dc:language>en-US</dc:language>
  <cp:lastModifiedBy>Konetzná Magda</cp:lastModifiedBy>
  <dcterms:modified xsi:type="dcterms:W3CDTF">2013-09-20T08:42:30Z</dcterms:modified>
  <cp:revision>47</cp:revision>
  <dc:subject/>
  <dc:title>Snímek 1</dc:title>
</cp:coreProperties>
</file>