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349-F158-4042-A791-3AEFEB1B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4A6-3CFA-45AE-B92D-564D4D28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22D-F82B-471D-9402-2B4BE6C4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98C-02E0-425B-9778-2692E9D6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104-C785-49CF-B846-0A64439C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8BC-9AD1-44D9-9D9E-AE92E7EA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7A8-D0CB-4F1D-B8DB-E9C23991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CBF-F908-4955-9039-D3DD99C2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446-48F3-4AB2-8385-736C12EA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EF6-23EA-4C88-87AA-1F855E64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9B4-DA98-41BB-BBE2-8A10B2A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4B5-4DC1-4C46-96B9-74F8FD7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D25A-330E-4C8E-BA6F-ED9BCD0A74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youtube.com/watch?v=4hoYdtus5WU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hoYdtus5WU" TargetMode="External"/><Relationship Id="rId2" Type="http://schemas.openxmlformats.org/officeDocument/2006/relationships/hyperlink" Target="http://cs.wikipedia.org/wiki/Soubor:Watercycleczechhigh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574640"/>
          <a:ext cx="9144000" cy="5283360"/>
        </p:xfrm>
        <a:graphic>
          <a:graphicData uri="http://schemas.openxmlformats.org/drawingml/2006/table">
            <a:tbl>
              <a:tblPr/>
              <a:tblGrid>
                <a:gridCol w="2925720"/>
                <a:gridCol w="6218280"/>
              </a:tblGrid>
              <a:tr h="66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ÁZEV ŠKOLY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0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ZDĚLÁVACÍ OBO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e - 9. ročník Z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0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ÉM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drosfé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Andrea Nadažy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0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UM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8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 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0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Bi.ND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3" name="Picture 2" descr="C:\Users\ICT_SS\Downloads\logo šablony.jpg"/>
          <p:cNvPicPr/>
          <p:nvPr/>
        </p:nvPicPr>
        <p:blipFill>
          <a:blip r:embed="rId1"/>
          <a:stretch/>
        </p:blipFill>
        <p:spPr>
          <a:xfrm>
            <a:off x="428760" y="260280"/>
            <a:ext cx="8286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větový oce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Atlantský oce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Indický oce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Jižní oce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Severní ledový oce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Tichý oce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C:\Users\Eliška\AppData\Local\Microsoft\Windows\Temporary Internet Files\Content.IE5\GK06E8IM\MC900408466[1].wmf"/>
          <p:cNvPicPr/>
          <p:nvPr/>
        </p:nvPicPr>
        <p:blipFill>
          <a:blip r:embed="rId1"/>
          <a:stretch/>
        </p:blipFill>
        <p:spPr>
          <a:xfrm>
            <a:off x="3913200" y="2133720"/>
            <a:ext cx="5248440" cy="3240000"/>
          </a:xfrm>
          <a:prstGeom prst="rect">
            <a:avLst/>
          </a:prstGeom>
          <a:ln w="0">
            <a:noFill/>
          </a:ln>
        </p:spPr>
      </p:pic>
      <p:cxnSp>
        <p:nvCxnSpPr>
          <p:cNvPr id="76" name="Přímá spojnice se šipkou 7"/>
          <p:cNvCxnSpPr/>
          <p:nvPr/>
        </p:nvCxnSpPr>
        <p:spPr>
          <a:xfrm flipV="1">
            <a:off x="3492360" y="3933000"/>
            <a:ext cx="1224720" cy="169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Přímá spojnice se šipkou 10"/>
          <p:cNvCxnSpPr/>
          <p:nvPr/>
        </p:nvCxnSpPr>
        <p:spPr>
          <a:xfrm>
            <a:off x="2484360" y="2060640"/>
            <a:ext cx="345672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Přímá spojnice se šipkou 12"/>
          <p:cNvCxnSpPr/>
          <p:nvPr/>
        </p:nvCxnSpPr>
        <p:spPr>
          <a:xfrm>
            <a:off x="3850920" y="3141720"/>
            <a:ext cx="3601080" cy="108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Přímá spojnice se šipkou 14"/>
          <p:cNvCxnSpPr/>
          <p:nvPr/>
        </p:nvCxnSpPr>
        <p:spPr>
          <a:xfrm>
            <a:off x="3347640" y="3933720"/>
            <a:ext cx="3025080" cy="84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Přímá spojnice se šipkou 16"/>
          <p:cNvCxnSpPr/>
          <p:nvPr/>
        </p:nvCxnSpPr>
        <p:spPr>
          <a:xfrm flipV="1">
            <a:off x="2843280" y="2349000"/>
            <a:ext cx="3745440" cy="22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liv a odl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sou slapové jev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ím je způsoben příliv a odli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Eliška\AppData\Local\Microsoft\Windows\Temporary Internet Files\Content.IE5\UFW3R928\MP900289240[1].jpg"/>
          <p:cNvPicPr/>
          <p:nvPr/>
        </p:nvPicPr>
        <p:blipFill>
          <a:blip r:embed="rId1"/>
          <a:stretch/>
        </p:blipFill>
        <p:spPr>
          <a:xfrm>
            <a:off x="5018040" y="3933720"/>
            <a:ext cx="3657600" cy="234648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4"/>
          <p:cNvSpPr/>
          <p:nvPr/>
        </p:nvSpPr>
        <p:spPr>
          <a:xfrm>
            <a:off x="4649760" y="1700280"/>
            <a:ext cx="43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4hoYdtus5W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itná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Zjistěte jak se získává pitná voda, jak se ošetřuje a jak je dopravována do  domácností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Kde jsou problémy s nedostatkem pitné vod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Eliška\AppData\Local\Microsoft\Windows\Temporary Internet Files\Content.IE5\73TO380M\MP900448383[1].jpg"/>
          <p:cNvPicPr/>
          <p:nvPr/>
        </p:nvPicPr>
        <p:blipFill>
          <a:blip r:embed="rId1"/>
          <a:stretch/>
        </p:blipFill>
        <p:spPr>
          <a:xfrm>
            <a:off x="5159520" y="1600200"/>
            <a:ext cx="301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inerální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 je to minerál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 vzniká minerál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é má složení minerál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inerálka je voda, která vzniká prostupováním přes rozpustné horniny. Obsahuje více rozpuštěných látek než podzemní voda. Mívá vyšší teplotu a léčivé účin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Jaká minerálka je v 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Darkov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Klimkovicí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Františkových Lázní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Karlových Vare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Bílin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děbrade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Šarati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780000" y="1197000"/>
            <a:ext cx="5688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radioaktivní, slaná a jodov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slaná a jodov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železit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síranov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obsahuje CO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obsahuje CO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ořk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ajděte na internetu názvy některých minerálek, příp. pramen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628640"/>
          <a:ext cx="9144000" cy="537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cs-CZ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ENTKA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cs-CZ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HAČOV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cs-CZ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RÁŠOVK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cs-CZ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LOVY VA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ydrosféra je součá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hydrologi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hydrogeografi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oceánografi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hydrogeologi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é 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80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KVASNIČKOVÁ, Danuše. A KOLEKTIV. </a:t>
            </a:r>
            <a:r>
              <a:rPr b="0" i="1" lang="cs-CZ" sz="2900" spc="-1" strike="noStrike">
                <a:solidFill>
                  <a:srgbClr val="000000"/>
                </a:solidFill>
                <a:latin typeface="Calibri"/>
              </a:rPr>
              <a:t>Ekologický přírodopis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. Praha: Fortuna, 2002. ISBN 80-7168-670-0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4hoYdtus5WU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1) Slady. [cit. 2013-08-17] dostupné pod licencí public domain na www: 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Soubor:Watercycleczechhigh.jp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Další obrázky - použity z webu: Office.co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3"/>
          <p:cNvSpPr/>
          <p:nvPr/>
        </p:nvSpPr>
        <p:spPr>
          <a:xfrm>
            <a:off x="324000" y="260280"/>
            <a:ext cx="8135640" cy="59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ANOTA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Prezentace o hydrosféře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Žáci si osvojí nové pojmy. Pomocí internetu odpoví na otázky, popíší obrázek, zjistí informace o minerálních vodách a svá zjištění zapíší do tabulky pomocí textového editoru (např. MS Word) nebo do seši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kolní vzdělávací program pro osmileté gymnázium – část A – nižší gymnázium – učební osnovy BIOLOGIE – kvarta – Země a její vývo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ydrosfé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ydrosféra je vodní obal Země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Eliška\AppData\Local\Microsoft\Windows\Temporary Internet Files\Content.IE5\UFW3R928\MP900430858[1].jpg"/>
          <p:cNvPicPr/>
          <p:nvPr/>
        </p:nvPicPr>
        <p:blipFill>
          <a:blip r:embed="rId1"/>
          <a:stretch/>
        </p:blipFill>
        <p:spPr>
          <a:xfrm>
            <a:off x="2700360" y="2082960"/>
            <a:ext cx="60120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vody na Ze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Zástupný symbol pro obsah 10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oda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341000"/>
            <a:ext cx="885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atmosfé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rchová v potocích, řekách, mořích, oceánech i ledovcí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 povrchem – podzem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biosféře v těle každého organis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Eliška\AppData\Local\Microsoft\Windows\Temporary Internet Files\Content.IE5\73TO380M\MP900390125[1].jpg"/>
          <p:cNvPicPr/>
          <p:nvPr/>
        </p:nvPicPr>
        <p:blipFill>
          <a:blip r:embed="rId1"/>
          <a:stretch/>
        </p:blipFill>
        <p:spPr>
          <a:xfrm>
            <a:off x="5481720" y="425448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oda na Ze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rozpouštěd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děje v organismech (fotosyntéza, dýchání apod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rozvádění lá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životní prostřed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Eliška\AppData\Local\Microsoft\Windows\Temporary Internet Files\Content.IE5\7YRNIZ7V\MP900444788[1].jpg"/>
          <p:cNvPicPr/>
          <p:nvPr/>
        </p:nvPicPr>
        <p:blipFill>
          <a:blip r:embed="rId1"/>
          <a:stretch/>
        </p:blipFill>
        <p:spPr>
          <a:xfrm>
            <a:off x="4788000" y="1390680"/>
            <a:ext cx="4059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Zjistěte jaká je teplota vody v zimě pod ledem?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0000"/>
                </a:solidFill>
                <a:latin typeface="Calibri"/>
              </a:rPr>
              <a:t>4°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Jaký to má význam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0000"/>
                </a:solidFill>
                <a:latin typeface="Calibri"/>
              </a:rPr>
              <a:t>přežití organism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Eliška\AppData\Local\Microsoft\Windows\Temporary Internet Files\Content.IE5\GK06E8IM\MC900383550[1].wmf"/>
          <p:cNvPicPr/>
          <p:nvPr/>
        </p:nvPicPr>
        <p:blipFill>
          <a:blip r:embed="rId1"/>
          <a:stretch/>
        </p:blipFill>
        <p:spPr>
          <a:xfrm>
            <a:off x="1476360" y="404640"/>
            <a:ext cx="433440" cy="95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Eliška\AppData\Local\Microsoft\Windows\Temporary Internet Files\Content.IE5\GK06E8IM\MC900383550[1].wmf"/>
          <p:cNvPicPr/>
          <p:nvPr/>
        </p:nvPicPr>
        <p:blipFill>
          <a:blip r:embed="rId2"/>
          <a:stretch/>
        </p:blipFill>
        <p:spPr>
          <a:xfrm>
            <a:off x="2411280" y="404640"/>
            <a:ext cx="43524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Eliška\AppData\Local\Microsoft\Windows\Temporary Internet Files\Content.IE5\GK06E8IM\MC900383550[1].wmf"/>
          <p:cNvPicPr/>
          <p:nvPr/>
        </p:nvPicPr>
        <p:blipFill>
          <a:blip r:embed="rId3"/>
          <a:stretch/>
        </p:blipFill>
        <p:spPr>
          <a:xfrm>
            <a:off x="3203640" y="382680"/>
            <a:ext cx="434880" cy="95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Eliška\AppData\Local\Microsoft\Windows\Temporary Internet Files\Content.IE5\GK06E8IM\MC900383550[1].wmf"/>
          <p:cNvPicPr/>
          <p:nvPr/>
        </p:nvPicPr>
        <p:blipFill>
          <a:blip r:embed="rId4"/>
          <a:stretch/>
        </p:blipFill>
        <p:spPr>
          <a:xfrm>
            <a:off x="3978360" y="404640"/>
            <a:ext cx="433440" cy="95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Eliška\AppData\Local\Microsoft\Windows\Temporary Internet Files\Content.IE5\GK06E8IM\MC900383550[1].wmf"/>
          <p:cNvPicPr/>
          <p:nvPr/>
        </p:nvPicPr>
        <p:blipFill>
          <a:blip r:embed="rId5"/>
          <a:stretch/>
        </p:blipFill>
        <p:spPr>
          <a:xfrm>
            <a:off x="4770360" y="404640"/>
            <a:ext cx="433440" cy="955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Eliška\AppData\Local\Microsoft\Windows\Temporary Internet Files\Content.IE5\GK06E8IM\MC900383550[1].wmf"/>
          <p:cNvPicPr/>
          <p:nvPr/>
        </p:nvPicPr>
        <p:blipFill>
          <a:blip r:embed="rId6"/>
          <a:stretch/>
        </p:blipFill>
        <p:spPr>
          <a:xfrm>
            <a:off x="5508720" y="404640"/>
            <a:ext cx="43344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Users\Eliška\AppData\Local\Microsoft\Windows\Temporary Internet Files\Content.IE5\GK06E8IM\MC900383550[1].wmf"/>
          <p:cNvPicPr/>
          <p:nvPr/>
        </p:nvPicPr>
        <p:blipFill>
          <a:blip r:embed="rId7"/>
          <a:stretch/>
        </p:blipFill>
        <p:spPr>
          <a:xfrm>
            <a:off x="6253200" y="382680"/>
            <a:ext cx="434880" cy="9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Eliška\AppData\Local\Microsoft\Windows\Temporary Internet Files\Content.IE5\GK06E8IM\MC900383550[1].wmf"/>
          <p:cNvPicPr/>
          <p:nvPr/>
        </p:nvPicPr>
        <p:blipFill>
          <a:blip r:embed="rId8"/>
          <a:stretch/>
        </p:blipFill>
        <p:spPr>
          <a:xfrm>
            <a:off x="6948360" y="382680"/>
            <a:ext cx="4334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705880" cy="6058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640" y="5441760"/>
            <a:ext cx="5486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[1]                                      POPIŠTE OBRÁZ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ány a mo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Které oceány tvoří světový oceá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Umíš je ukázat na mapě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a internetu zjistěte zajímavosti o oceánech a moří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Eliška\AppData\Local\Microsoft\Windows\Temporary Internet Files\Content.IE5\UFW3R928\MM900046651[1].gif"/>
          <p:cNvPicPr/>
          <p:nvPr/>
        </p:nvPicPr>
        <p:blipFill>
          <a:blip r:embed="rId1"/>
          <a:stretch/>
        </p:blipFill>
        <p:spPr>
          <a:xfrm>
            <a:off x="5867280" y="4726080"/>
            <a:ext cx="2773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18:30:39Z</dcterms:created>
  <dc:creator>ICT_SS</dc:creator>
  <dc:description/>
  <dc:language>en-US</dc:language>
  <cp:lastModifiedBy>Magda</cp:lastModifiedBy>
  <dcterms:modified xsi:type="dcterms:W3CDTF">2013-08-20T06:56:16Z</dcterms:modified>
  <cp:revision>62</cp:revision>
  <dc:subject/>
  <dc:title>Prezentace aplikace PowerPoint</dc:title>
</cp:coreProperties>
</file>