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9D84-488B-4CE7-9225-9A6AA4829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6E40-07E8-419A-880A-C378AC1E9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9CF9-2165-4239-BE7E-D68E1CA1A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B446-E47A-41FA-A15E-F3A50202B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4A6F2-2559-490D-BF43-E72700A33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85267-4A73-468F-B434-2556DB3A8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6B2CA-5E6F-4A1A-A395-7C8B12891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34458-370D-4399-BD62-3402FE951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43D90-E846-4FFE-9B45-20C40BFD0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AD02C-7996-4D5A-84B0-4D49E3FAB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C27D0-BE9F-468B-B019-3E5053898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3A78-BE3D-4ECB-B3F1-A1C65BC5B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4B041-2171-4A71-A698-914ADB867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BAEA5-2284-4E07-9D2B-4A803E178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798DB-BC68-4270-8485-450D7612E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0075C-912A-4352-B739-824B3D9C4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605FB-E6D6-46EE-BE23-3986ABEC0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7F0BB-A113-41F9-8CC1-C1818BBDF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14C01-326E-4FE0-AFD4-83AE72FA9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41E5C-6FC9-4DC5-9DF1-C62E210C6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DF703-A08F-4EA3-9E2F-AEDB3C7A8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83984-B4ED-45E8-ADE1-490DE1899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0B1D-799D-4445-9690-4B982540E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D98C1-4A2D-4867-B36F-6BA0FCB0C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1C99D-2971-4A06-B9F1-63803A69C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91459-2CCC-4ECA-83AA-DE28EBB9B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30165-774B-453B-AFC4-329D8A647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DEE1B-ECD8-46DD-AD72-5C375BC49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89282-29BC-4942-88B0-AD0650833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88A1E-D933-4C9D-9EB8-648882F11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CAE4-765C-4734-9893-6C5198B26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884E-AE2A-43AA-934C-F93CDF929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3B71-B7C3-42F8-9D22-421452917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AB60-5ECC-4D0B-9247-7BC9A0AE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8A91-F76A-43A8-84E1-0BADB0E34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9377-ABEC-48EB-BDCC-46E49494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79797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liknutím lze upravit styl.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liknutím lze upravit styly předlohy textu.</a:t>
            </a: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ruhá úroveň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řetí úroveň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Čtvr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á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cs-CZ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cs-CZ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26E2028-C60F-40A9-9B67-17B7B40CFD6A}" type="slidenum">
              <a:rPr b="0" lang="cs-CZ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79797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cs-CZ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cs-CZ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CB13BE1-C4B4-401C-AAD3-F29BB9667F8A}" type="slidenum">
              <a:rPr b="0" lang="cs-CZ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79797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liknutím lze upravit styl.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liknutím lze upravit styly předlohy textu.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ruhá úroveň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Třetí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tvrtá úroveň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átá úroveň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liknutím lze upravit styly předlohy textu.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ruhá úroveň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Třetí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tvrtá úroveň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átá úroveň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cs-CZ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cs-CZ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04D5408-DBEA-4391-99FE-1ADCDE5833BA}" type="slidenum">
              <a:rPr b="0" lang="cs-CZ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www.vimevic.cz/vzdelani/mrakyspecial.htm" TargetMode="External"/><Relationship Id="rId3" Type="http://schemas.openxmlformats.org/officeDocument/2006/relationships/hyperlink" Target="http://www.vimevic.cz/vzdelani/mrakyspecial.htm" TargetMode="External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cs.wikipedia.org/wiki/Beaufortova_stupnice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dNhxcuKoGgU" TargetMode="External"/><Relationship Id="rId2" Type="http://schemas.openxmlformats.org/officeDocument/2006/relationships/hyperlink" Target="http://www.youtube.com/watch?v=dNhxcuKoGgU" TargetMode="External"/><Relationship Id="rId3" Type="http://schemas.openxmlformats.org/officeDocument/2006/relationships/hyperlink" Target="http://www.youtube.com/watch?v=xRaSnbZf8lQ" TargetMode="External"/><Relationship Id="rId4" Type="http://schemas.openxmlformats.org/officeDocument/2006/relationships/hyperlink" Target="http://www.youtube.com/watch?v=xRaSnbZf8lQ" TargetMode="External"/><Relationship Id="rId5" Type="http://schemas.openxmlformats.org/officeDocument/2006/relationships/hyperlink" Target="http://www.euromarina.cz/pocasi/meteorologie/tabteplotaatlak.htm" TargetMode="External"/><Relationship Id="rId6" Type="http://schemas.openxmlformats.org/officeDocument/2006/relationships/hyperlink" Target="http://www.euromarina.cz/pocasi/meteorologie/tabteplotaatlak.htm" TargetMode="External"/><Relationship Id="rId7" Type="http://schemas.openxmlformats.org/officeDocument/2006/relationships/hyperlink" Target="http://www.euromarina.cz/pocasi/meteorologie/tabteplotaatlak.htm" TargetMode="External"/><Relationship Id="rId8" Type="http://schemas.openxmlformats.org/officeDocument/2006/relationships/hyperlink" Target="http://www.vimevic.cz/vzdelani/mrakyspecial.htm" TargetMode="External"/><Relationship Id="rId9" Type="http://schemas.openxmlformats.org/officeDocument/2006/relationships/hyperlink" Target="http://www.vimevic.cz/vzdelani/mrakyspecial.htm" TargetMode="External"/><Relationship Id="rId10" Type="http://schemas.openxmlformats.org/officeDocument/2006/relationships/hyperlink" Target="http://www.vimevic.cz/vzdelani/mrakyspecial.htm" TargetMode="External"/><Relationship Id="rId11" Type="http://schemas.openxmlformats.org/officeDocument/2006/relationships/hyperlink" Target="http://www.vimevic.cz/vzdelani/mraky.htm" TargetMode="External"/><Relationship Id="rId12" Type="http://schemas.openxmlformats.org/officeDocument/2006/relationships/hyperlink" Target="http://www.vimevic.cz/vzdelani/mraky.htm" TargetMode="External"/><Relationship Id="rId13" Type="http://schemas.openxmlformats.org/officeDocument/2006/relationships/hyperlink" Target="http://cs.wikipedia.org/wiki/Beaufortova_stupnice" TargetMode="External"/><Relationship Id="rId14" Type="http://schemas.openxmlformats.org/officeDocument/2006/relationships/hyperlink" Target="http://tema.novinky.cz/vitr" TargetMode="External"/><Relationship Id="rId15" Type="http://schemas.openxmlformats.org/officeDocument/2006/relationships/hyperlink" Target="http://tema.novinky.cz/vitr" TargetMode="External"/><Relationship Id="rId16" Type="http://schemas.openxmlformats.org/officeDocument/2006/relationships/hyperlink" Target="http://cs.wikipedia.org/wiki/Soubor:Top_of_Atmosphere.jpg" TargetMode="External"/><Relationship Id="rId17" Type="http://schemas.openxmlformats.org/officeDocument/2006/relationships/hyperlink" Target="http://cs.wikipedia.org/wiki/Soubor:Atmosphere_layers-cs.svg" TargetMode="External"/><Relationship Id="rId18" Type="http://schemas.openxmlformats.org/officeDocument/2006/relationships/hyperlink" Target="http://cs.wikipedia.org/wiki/Soubor:Atmosphere_layers-cs.svg" TargetMode="External"/><Relationship Id="rId19" Type="http://schemas.openxmlformats.org/officeDocument/2006/relationships/hyperlink" Target="http://cs.wikipedia.org/wiki/Atmosf&#233;ra_Zem&#283;" TargetMode="External"/><Relationship Id="rId20" Type="http://schemas.openxmlformats.org/officeDocument/2006/relationships/hyperlink" Target="http://cs.wikipedia.org/wiki/Soubor:Noctilucent_clouds_over_saimaa.jpg" TargetMode="External"/><Relationship Id="rId21" Type="http://schemas.openxmlformats.org/officeDocument/2006/relationships/hyperlink" Target="http://cs.wikipedia.org/wiki/Soubor:Noctilucent_clouds_over_saimaa.jpg" TargetMode="External"/><Relationship Id="rId22" Type="http://schemas.openxmlformats.org/officeDocument/2006/relationships/hyperlink" Target="http://upload.wikimedia.org/wikipedia/commons/e/e8/Mesomerni_vzorec_O3.PNG" TargetMode="External"/><Relationship Id="rId23" Type="http://schemas.openxmlformats.org/officeDocument/2006/relationships/hyperlink" Target="http://upload.wikimedia.org/wikipedia/commons/e/e8/Mesomerni_vzorec_O3.PNG" TargetMode="External"/><Relationship Id="rId24" Type="http://schemas.openxmlformats.org/officeDocument/2006/relationships/hyperlink" Target="http://cs.wikipedia.org/wiki/Soubor:Cloud_types_en.svg" TargetMode="External"/><Relationship Id="rId25" Type="http://schemas.openxmlformats.org/officeDocument/2006/relationships/hyperlink" Target="http://upload.wikimedia.org/wikipedia/commons/e/ec/Schema_sklenikovy_efekt.gif" TargetMode="External"/><Relationship Id="rId26" Type="http://schemas.openxmlformats.org/officeDocument/2006/relationships/hyperlink" Target="http://cs.wikipedia.org/wiki/Soubor:Pchery_CZ_wind_farm_E_tower_017.jpg" TargetMode="External"/><Relationship Id="rId27" Type="http://schemas.openxmlformats.org/officeDocument/2006/relationships/hyperlink" Target="http://cs.wikipedia.org/wiki/Soubor:Water_Pumping_Windmill.jpg" TargetMode="External"/><Relationship Id="rId28" Type="http://schemas.openxmlformats.org/officeDocument/2006/relationships/hyperlink" Target="http://cs.wikipedia.org/wiki/Soubor:Water_Pumping_Windmill.jpg" TargetMode="External"/><Relationship Id="rId2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xRaSnbZf8lQ" TargetMode="External"/><Relationship Id="rId2" Type="http://schemas.openxmlformats.org/officeDocument/2006/relationships/hyperlink" Target="http://www.youtube.com/watch?v=dNhxcuKoGgU" TargetMode="External"/><Relationship Id="rId3" Type="http://schemas.openxmlformats.org/officeDocument/2006/relationships/slideLayout" Target="../slideLayouts/slideLayout2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Zástupný symbol pro obsah 5"/>
          <p:cNvGraphicFramePr/>
          <p:nvPr/>
        </p:nvGraphicFramePr>
        <p:xfrm>
          <a:off x="0" y="1575000"/>
          <a:ext cx="9143640" cy="5282640"/>
        </p:xfrm>
        <a:graphic>
          <a:graphicData uri="http://schemas.openxmlformats.org/drawingml/2006/table">
            <a:tbl>
              <a:tblPr/>
              <a:tblGrid>
                <a:gridCol w="2926440"/>
                <a:gridCol w="6217200"/>
              </a:tblGrid>
              <a:tr h="6602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cs-CZ" sz="16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NÁZEV ŠKOLY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cs-CZ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Gymnázium Františka Živného, Bohumín, Jana Palacha 794, příspěvková organiz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6602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cs-CZ" sz="16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VZDĚLÁVACÍ OBLAST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cs-CZ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Člověk a příro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6602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cs-CZ" sz="16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VZDĚLÁVACÍ OBOR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cs-CZ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Biologie - 9. ročník ZŠ a odpovídající ročník víceletých gymnázi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6602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cs-CZ" sz="16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TÉMA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cs-CZ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Atmosfé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6602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cs-CZ" sz="16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AUTOR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cs-CZ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Mgr. Andrea Nadažyov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6602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cs-CZ" sz="16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DATUM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cs-CZ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7. 6. 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6602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cs-CZ" sz="16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NÁZEV A ČÍSLO PROJEKTU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cs-CZ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Učíme se pro život v 21. stolet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cs-CZ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CZ.1.07/1.5.00/34.06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6602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cs-CZ" sz="16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OZNAČENÍ VÝUKOVÉHO MATERIÁLU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cs-CZ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VY_32_INOVACE_Bi.ND.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</a:tbl>
          </a:graphicData>
        </a:graphic>
      </p:graphicFrame>
      <p:pic>
        <p:nvPicPr>
          <p:cNvPr id="126" name="Picture 2" descr="C:\Users\ICT_SS\Downloads\logo šablony.jpg"/>
          <p:cNvPicPr/>
          <p:nvPr/>
        </p:nvPicPr>
        <p:blipFill>
          <a:blip r:embed="rId1"/>
          <a:stretch/>
        </p:blipFill>
        <p:spPr>
          <a:xfrm>
            <a:off x="428760" y="260640"/>
            <a:ext cx="8286480" cy="131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Tabulka závislosti teploty na nadmořské výšce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8" name="Zástupný symbol pro obsah 8"/>
          <p:cNvGraphicFramePr/>
          <p:nvPr/>
        </p:nvGraphicFramePr>
        <p:xfrm>
          <a:off x="251640" y="1556640"/>
          <a:ext cx="8722800" cy="5126760"/>
        </p:xfrm>
        <a:graphic>
          <a:graphicData uri="http://schemas.openxmlformats.org/drawingml/2006/table">
            <a:tbl>
              <a:tblPr/>
              <a:tblGrid>
                <a:gridCol w="1468440"/>
                <a:gridCol w="1468440"/>
                <a:gridCol w="1468440"/>
                <a:gridCol w="1468440"/>
                <a:gridCol w="1468440"/>
                <a:gridCol w="1380240"/>
              </a:tblGrid>
              <a:tr h="64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cs-CZ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výška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cs-CZ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°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cs-CZ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výška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cs-CZ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°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cs-CZ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výška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cs-CZ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°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64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cs-CZ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cs-CZ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cs-CZ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cs-CZ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- 1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cs-CZ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6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cs-CZ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- 24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64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cs-CZ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cs-CZ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4,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cs-CZ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cs-CZ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- 4,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cs-CZ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6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cs-CZ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- 27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64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cs-CZ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cs-CZ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3,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cs-CZ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cs-CZ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- 7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cs-CZ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7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cs-CZ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- 30,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64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cs-CZ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cs-CZ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1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cs-CZ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cs-CZ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- 11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cs-CZ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8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cs-CZ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- 37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64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cs-CZ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cs-CZ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8,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cs-CZ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cs-CZ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- 14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cs-CZ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9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cs-CZ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- 43,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64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cs-CZ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cs-CZ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cs-CZ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cs-CZ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- 17,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cs-CZ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cs-CZ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- 5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64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cs-CZ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cs-CZ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cs-CZ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cs-CZ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- 20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cs-CZ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cs-CZ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- 56,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8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ložení atmosféry při povrchu Země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[3]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cs-CZ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1" name="Tabulka 3"/>
          <p:cNvGraphicFramePr/>
          <p:nvPr/>
        </p:nvGraphicFramePr>
        <p:xfrm>
          <a:off x="1115640" y="1845000"/>
          <a:ext cx="6552360" cy="4588920"/>
        </p:xfrm>
        <a:graphic>
          <a:graphicData uri="http://schemas.openxmlformats.org/drawingml/2006/table">
            <a:tbl>
              <a:tblPr/>
              <a:tblGrid>
                <a:gridCol w="3359160"/>
                <a:gridCol w="3193200"/>
              </a:tblGrid>
              <a:tr h="465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cs-CZ" sz="1800" spc="-1" strike="noStrike">
                          <a:solidFill>
                            <a:schemeClr val="dk1"/>
                          </a:solidFill>
                          <a:latin typeface="Arial Black"/>
                        </a:rPr>
                        <a:t>ply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4a7ebb"/>
                      </a:solidFill>
                    </a:lnL>
                    <a:lnR w="9360">
                      <a:solidFill>
                        <a:srgbClr val="4a7ebb"/>
                      </a:solidFill>
                    </a:lnR>
                    <a:lnT w="9360">
                      <a:solidFill>
                        <a:srgbClr val="4a7ebb"/>
                      </a:solidFill>
                    </a:lnT>
                    <a:lnB w="9360">
                      <a:solidFill>
                        <a:srgbClr val="4a7ebb"/>
                      </a:solidFill>
                    </a:lnB>
                    <a:solidFill>
                      <a:srgbClr val="bfd4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cs-CZ" sz="1800" spc="-1" strike="noStrike">
                          <a:solidFill>
                            <a:schemeClr val="dk1"/>
                          </a:solidFill>
                          <a:latin typeface="Arial Black"/>
                        </a:rPr>
                        <a:t>objemový podí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4a7ebb"/>
                      </a:solidFill>
                    </a:lnL>
                    <a:lnR w="9360">
                      <a:solidFill>
                        <a:srgbClr val="4a7ebb"/>
                      </a:solidFill>
                    </a:lnR>
                    <a:lnT w="9360">
                      <a:solidFill>
                        <a:srgbClr val="4a7ebb"/>
                      </a:solidFill>
                    </a:lnT>
                    <a:lnB w="9360">
                      <a:solidFill>
                        <a:srgbClr val="4a7ebb"/>
                      </a:solidFill>
                    </a:lnB>
                    <a:solidFill>
                      <a:srgbClr val="bfd4fe"/>
                    </a:solidFill>
                  </a:tcPr>
                </a:tc>
              </a:tr>
              <a:tr h="398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cs-CZ" sz="1800" spc="-1" strike="noStrike">
                          <a:solidFill>
                            <a:schemeClr val="dk1"/>
                          </a:solidFill>
                          <a:latin typeface="Arial Black"/>
                        </a:rPr>
                        <a:t>dusí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4a7ebb"/>
                      </a:solidFill>
                    </a:lnL>
                    <a:lnR w="9360">
                      <a:solidFill>
                        <a:srgbClr val="4a7ebb"/>
                      </a:solidFill>
                    </a:lnR>
                    <a:lnT w="9360">
                      <a:solidFill>
                        <a:srgbClr val="4a7ebb"/>
                      </a:solidFill>
                    </a:lnT>
                    <a:lnB w="9360">
                      <a:solidFill>
                        <a:srgbClr val="4a7ebb"/>
                      </a:solidFill>
                    </a:lnB>
                    <a:solidFill>
                      <a:srgbClr val="bfd4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cs-CZ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78,084 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4a7ebb"/>
                      </a:solidFill>
                    </a:lnL>
                    <a:lnR w="9360">
                      <a:solidFill>
                        <a:srgbClr val="4a7ebb"/>
                      </a:solidFill>
                    </a:lnR>
                    <a:lnT w="9360">
                      <a:solidFill>
                        <a:srgbClr val="4a7ebb"/>
                      </a:solidFill>
                    </a:lnT>
                    <a:lnB w="9360">
                      <a:solidFill>
                        <a:srgbClr val="4a7ebb"/>
                      </a:solidFill>
                    </a:lnB>
                    <a:solidFill>
                      <a:srgbClr val="bfd4fe"/>
                    </a:solidFill>
                  </a:tcPr>
                </a:tc>
              </a:tr>
              <a:tr h="465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cs-CZ" sz="1800" spc="-1" strike="noStrike">
                          <a:solidFill>
                            <a:schemeClr val="dk1"/>
                          </a:solidFill>
                          <a:latin typeface="Arial Black"/>
                        </a:rPr>
                        <a:t>kyslí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4a7ebb"/>
                      </a:solidFill>
                    </a:lnL>
                    <a:lnR w="9360">
                      <a:solidFill>
                        <a:srgbClr val="4a7ebb"/>
                      </a:solidFill>
                    </a:lnR>
                    <a:lnT w="9360">
                      <a:solidFill>
                        <a:srgbClr val="4a7ebb"/>
                      </a:solidFill>
                    </a:lnT>
                    <a:lnB w="9360">
                      <a:solidFill>
                        <a:srgbClr val="4a7ebb"/>
                      </a:solidFill>
                    </a:lnB>
                    <a:solidFill>
                      <a:srgbClr val="bfd4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cs-CZ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0,946 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4a7ebb"/>
                      </a:solidFill>
                    </a:lnL>
                    <a:lnR w="9360">
                      <a:solidFill>
                        <a:srgbClr val="4a7ebb"/>
                      </a:solidFill>
                    </a:lnR>
                    <a:lnT w="9360">
                      <a:solidFill>
                        <a:srgbClr val="4a7ebb"/>
                      </a:solidFill>
                    </a:lnT>
                    <a:lnB w="9360">
                      <a:solidFill>
                        <a:srgbClr val="4a7ebb"/>
                      </a:solidFill>
                    </a:lnB>
                    <a:solidFill>
                      <a:srgbClr val="bfd4fe"/>
                    </a:solidFill>
                  </a:tcPr>
                </a:tc>
              </a:tr>
              <a:tr h="465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cs-CZ" sz="1800" spc="-1" strike="noStrike">
                          <a:solidFill>
                            <a:schemeClr val="dk1"/>
                          </a:solidFill>
                          <a:latin typeface="Arial Black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4a7ebb"/>
                      </a:solidFill>
                    </a:lnL>
                    <a:lnR w="9360">
                      <a:solidFill>
                        <a:srgbClr val="4a7ebb"/>
                      </a:solidFill>
                    </a:lnR>
                    <a:lnT w="9360">
                      <a:solidFill>
                        <a:srgbClr val="4a7ebb"/>
                      </a:solidFill>
                    </a:lnT>
                    <a:lnB w="9360">
                      <a:solidFill>
                        <a:srgbClr val="4a7ebb"/>
                      </a:solidFill>
                    </a:lnB>
                    <a:solidFill>
                      <a:srgbClr val="bfd4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cs-CZ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,934 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4a7ebb"/>
                      </a:solidFill>
                    </a:lnL>
                    <a:lnR w="9360">
                      <a:solidFill>
                        <a:srgbClr val="4a7ebb"/>
                      </a:solidFill>
                    </a:lnR>
                    <a:lnT w="9360">
                      <a:solidFill>
                        <a:srgbClr val="4a7ebb"/>
                      </a:solidFill>
                    </a:lnT>
                    <a:lnB w="9360">
                      <a:solidFill>
                        <a:srgbClr val="4a7ebb"/>
                      </a:solidFill>
                    </a:lnB>
                    <a:solidFill>
                      <a:srgbClr val="bfd4fe"/>
                    </a:solidFill>
                  </a:tcPr>
                </a:tc>
              </a:tr>
              <a:tr h="465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cs-CZ" sz="1800" spc="-1" strike="noStrike">
                          <a:solidFill>
                            <a:schemeClr val="dk1"/>
                          </a:solidFill>
                          <a:latin typeface="Arial Black"/>
                        </a:rPr>
                        <a:t>CO</a:t>
                      </a:r>
                      <a:r>
                        <a:rPr b="0" lang="cs-CZ" sz="1400" spc="-1" strike="noStrike">
                          <a:solidFill>
                            <a:schemeClr val="dk1"/>
                          </a:solidFill>
                          <a:latin typeface="Arial Black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4a7ebb"/>
                      </a:solidFill>
                    </a:lnL>
                    <a:lnR w="9360">
                      <a:solidFill>
                        <a:srgbClr val="4a7ebb"/>
                      </a:solidFill>
                    </a:lnR>
                    <a:lnT w="9360">
                      <a:solidFill>
                        <a:srgbClr val="4a7ebb"/>
                      </a:solidFill>
                    </a:lnT>
                    <a:lnB w="9360">
                      <a:solidFill>
                        <a:srgbClr val="4a7ebb"/>
                      </a:solidFill>
                    </a:lnB>
                    <a:solidFill>
                      <a:srgbClr val="bfd4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cs-CZ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,0385 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4a7ebb"/>
                      </a:solidFill>
                    </a:lnL>
                    <a:lnR w="9360">
                      <a:solidFill>
                        <a:srgbClr val="4a7ebb"/>
                      </a:solidFill>
                    </a:lnR>
                    <a:lnT w="9360">
                      <a:solidFill>
                        <a:srgbClr val="4a7ebb"/>
                      </a:solidFill>
                    </a:lnT>
                    <a:lnB w="9360">
                      <a:solidFill>
                        <a:srgbClr val="4a7ebb"/>
                      </a:solidFill>
                    </a:lnB>
                    <a:solidFill>
                      <a:srgbClr val="bfd4fe"/>
                    </a:solidFill>
                  </a:tcPr>
                </a:tc>
              </a:tr>
              <a:tr h="465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cs-CZ" sz="1800" spc="-1" strike="noStrike">
                          <a:solidFill>
                            <a:schemeClr val="dk1"/>
                          </a:solidFill>
                          <a:latin typeface="Arial Black"/>
                        </a:rPr>
                        <a:t>ne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4a7ebb"/>
                      </a:solidFill>
                    </a:lnL>
                    <a:lnR w="9360">
                      <a:solidFill>
                        <a:srgbClr val="4a7ebb"/>
                      </a:solidFill>
                    </a:lnR>
                    <a:lnT w="9360">
                      <a:solidFill>
                        <a:srgbClr val="4a7ebb"/>
                      </a:solidFill>
                    </a:lnT>
                    <a:lnB w="9360">
                      <a:solidFill>
                        <a:srgbClr val="4a7ebb"/>
                      </a:solidFill>
                    </a:lnB>
                    <a:solidFill>
                      <a:srgbClr val="bfd4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cs-CZ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,00182 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4a7ebb"/>
                      </a:solidFill>
                    </a:lnL>
                    <a:lnR w="9360">
                      <a:solidFill>
                        <a:srgbClr val="4a7ebb"/>
                      </a:solidFill>
                    </a:lnR>
                    <a:lnT w="9360">
                      <a:solidFill>
                        <a:srgbClr val="4a7ebb"/>
                      </a:solidFill>
                    </a:lnT>
                    <a:lnB w="9360">
                      <a:solidFill>
                        <a:srgbClr val="4a7ebb"/>
                      </a:solidFill>
                    </a:lnB>
                    <a:solidFill>
                      <a:srgbClr val="bfd4fe"/>
                    </a:solidFill>
                  </a:tcPr>
                </a:tc>
              </a:tr>
              <a:tr h="465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cs-CZ" sz="1800" spc="-1" strike="noStrike">
                          <a:solidFill>
                            <a:schemeClr val="dk1"/>
                          </a:solidFill>
                          <a:latin typeface="Arial Black"/>
                        </a:rPr>
                        <a:t>hel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4a7ebb"/>
                      </a:solidFill>
                    </a:lnL>
                    <a:lnR w="9360">
                      <a:solidFill>
                        <a:srgbClr val="4a7ebb"/>
                      </a:solidFill>
                    </a:lnR>
                    <a:lnT w="9360">
                      <a:solidFill>
                        <a:srgbClr val="4a7ebb"/>
                      </a:solidFill>
                    </a:lnT>
                    <a:lnB w="9360">
                      <a:solidFill>
                        <a:srgbClr val="4a7ebb"/>
                      </a:solidFill>
                    </a:lnB>
                    <a:solidFill>
                      <a:srgbClr val="bfd4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cs-CZ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,000524 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4a7ebb"/>
                      </a:solidFill>
                    </a:lnL>
                    <a:lnR w="9360">
                      <a:solidFill>
                        <a:srgbClr val="4a7ebb"/>
                      </a:solidFill>
                    </a:lnR>
                    <a:lnT w="9360">
                      <a:solidFill>
                        <a:srgbClr val="4a7ebb"/>
                      </a:solidFill>
                    </a:lnT>
                    <a:lnB w="9360">
                      <a:solidFill>
                        <a:srgbClr val="4a7ebb"/>
                      </a:solidFill>
                    </a:lnB>
                    <a:solidFill>
                      <a:srgbClr val="bfd4fe"/>
                    </a:solidFill>
                  </a:tcPr>
                </a:tc>
              </a:tr>
              <a:tr h="465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cs-CZ" sz="1800" spc="-1" strike="noStrike">
                          <a:solidFill>
                            <a:schemeClr val="dk1"/>
                          </a:solidFill>
                          <a:latin typeface="Arial Black"/>
                        </a:rPr>
                        <a:t>met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4a7ebb"/>
                      </a:solidFill>
                    </a:lnL>
                    <a:lnR w="9360">
                      <a:solidFill>
                        <a:srgbClr val="4a7ebb"/>
                      </a:solidFill>
                    </a:lnR>
                    <a:lnT w="9360">
                      <a:solidFill>
                        <a:srgbClr val="4a7ebb"/>
                      </a:solidFill>
                    </a:lnT>
                    <a:lnB w="9360">
                      <a:solidFill>
                        <a:srgbClr val="4a7ebb"/>
                      </a:solidFill>
                    </a:lnB>
                    <a:solidFill>
                      <a:srgbClr val="bfd4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cs-CZ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,00017 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4a7ebb"/>
                      </a:solidFill>
                    </a:lnL>
                    <a:lnR w="9360">
                      <a:solidFill>
                        <a:srgbClr val="4a7ebb"/>
                      </a:solidFill>
                    </a:lnR>
                    <a:lnT w="9360">
                      <a:solidFill>
                        <a:srgbClr val="4a7ebb"/>
                      </a:solidFill>
                    </a:lnT>
                    <a:lnB w="9360">
                      <a:solidFill>
                        <a:srgbClr val="4a7ebb"/>
                      </a:solidFill>
                    </a:lnB>
                    <a:solidFill>
                      <a:srgbClr val="bfd4fe"/>
                    </a:solidFill>
                  </a:tcPr>
                </a:tc>
              </a:tr>
              <a:tr h="465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cs-CZ" sz="1800" spc="-1" strike="noStrike">
                          <a:solidFill>
                            <a:schemeClr val="dk1"/>
                          </a:solidFill>
                          <a:latin typeface="Arial Black"/>
                        </a:rPr>
                        <a:t>kryp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4a7ebb"/>
                      </a:solidFill>
                    </a:lnL>
                    <a:lnR w="9360">
                      <a:solidFill>
                        <a:srgbClr val="4a7ebb"/>
                      </a:solidFill>
                    </a:lnR>
                    <a:lnT w="9360">
                      <a:solidFill>
                        <a:srgbClr val="4a7ebb"/>
                      </a:solidFill>
                    </a:lnT>
                    <a:lnB w="9360">
                      <a:solidFill>
                        <a:srgbClr val="4a7ebb"/>
                      </a:solidFill>
                    </a:lnB>
                    <a:solidFill>
                      <a:srgbClr val="bfd4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cs-CZ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,00014 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4a7ebb"/>
                      </a:solidFill>
                    </a:lnL>
                    <a:lnR w="9360">
                      <a:solidFill>
                        <a:srgbClr val="4a7ebb"/>
                      </a:solidFill>
                    </a:lnR>
                    <a:lnT w="9360">
                      <a:solidFill>
                        <a:srgbClr val="4a7ebb"/>
                      </a:solidFill>
                    </a:lnT>
                    <a:lnB w="9360">
                      <a:solidFill>
                        <a:srgbClr val="4a7ebb"/>
                      </a:solidFill>
                    </a:lnB>
                    <a:solidFill>
                      <a:srgbClr val="bfd4fe"/>
                    </a:solidFill>
                  </a:tcPr>
                </a:tc>
              </a:tr>
              <a:tr h="465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cs-CZ" sz="1800" spc="-1" strike="noStrike">
                          <a:solidFill>
                            <a:schemeClr val="dk1"/>
                          </a:solidFill>
                          <a:latin typeface="Arial Black"/>
                        </a:rPr>
                        <a:t>vodí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4a7ebb"/>
                      </a:solidFill>
                    </a:lnL>
                    <a:lnR w="9360">
                      <a:solidFill>
                        <a:srgbClr val="4a7ebb"/>
                      </a:solidFill>
                    </a:lnR>
                    <a:lnT w="9360">
                      <a:solidFill>
                        <a:srgbClr val="4a7ebb"/>
                      </a:solidFill>
                    </a:lnT>
                    <a:lnB w="9360">
                      <a:solidFill>
                        <a:srgbClr val="4a7ebb"/>
                      </a:solidFill>
                    </a:lnB>
                    <a:solidFill>
                      <a:srgbClr val="bfd4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cs-CZ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,000055 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4a7ebb"/>
                      </a:solidFill>
                    </a:lnL>
                    <a:lnR w="9360">
                      <a:solidFill>
                        <a:srgbClr val="4a7ebb"/>
                      </a:solidFill>
                    </a:lnR>
                    <a:lnT w="9360">
                      <a:solidFill>
                        <a:srgbClr val="4a7ebb"/>
                      </a:solidFill>
                    </a:lnT>
                    <a:lnB w="9360">
                      <a:solidFill>
                        <a:srgbClr val="4a7ebb"/>
                      </a:solidFill>
                    </a:lnB>
                    <a:solidFill>
                      <a:srgbClr val="bfd4f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7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2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Co znamenají pojmy v levém sloupci? Svá zjištění zapiš do tabulky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51640" y="1484640"/>
            <a:ext cx="4244040" cy="489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561"/>
              </a:spcBef>
              <a:buClr>
                <a:srgbClr val="17375e"/>
              </a:buClr>
              <a:buFont typeface="Arial"/>
              <a:buChar char="•"/>
            </a:pPr>
            <a:r>
              <a:rPr b="0" lang="cs-CZ" sz="2800" spc="-1" strike="noStrike">
                <a:solidFill>
                  <a:srgbClr val="17375e"/>
                </a:solidFill>
                <a:latin typeface="Calibri"/>
              </a:rPr>
              <a:t>Cirrus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Cirrocumulus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561"/>
              </a:spcBef>
              <a:buClr>
                <a:srgbClr val="17375e"/>
              </a:buClr>
              <a:buFont typeface="Arial"/>
              <a:buChar char="•"/>
            </a:pPr>
            <a:r>
              <a:rPr b="0" lang="cs-CZ" sz="2800" spc="-1" strike="noStrike">
                <a:solidFill>
                  <a:srgbClr val="17375e"/>
                </a:solidFill>
                <a:latin typeface="Calibri"/>
              </a:rPr>
              <a:t>Cirrostratus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Altocumulus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561"/>
              </a:spcBef>
              <a:buClr>
                <a:srgbClr val="17375e"/>
              </a:buClr>
              <a:buFont typeface="Arial"/>
              <a:buChar char="•"/>
            </a:pPr>
            <a:r>
              <a:rPr b="0" lang="cs-CZ" sz="2800" spc="-1" strike="noStrike">
                <a:solidFill>
                  <a:srgbClr val="17375e"/>
                </a:solidFill>
                <a:latin typeface="Calibri"/>
              </a:rPr>
              <a:t>Altostratus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tratocumulus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561"/>
              </a:spcBef>
              <a:buClr>
                <a:srgbClr val="17375e"/>
              </a:buClr>
              <a:buFont typeface="Arial"/>
              <a:buChar char="•"/>
            </a:pPr>
            <a:r>
              <a:rPr b="0" lang="cs-CZ" sz="2800" spc="-1" strike="noStrike">
                <a:solidFill>
                  <a:srgbClr val="17375e"/>
                </a:solidFill>
                <a:latin typeface="Calibri"/>
              </a:rPr>
              <a:t>Stratus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imbostratus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561"/>
              </a:spcBef>
              <a:buClr>
                <a:srgbClr val="17375e"/>
              </a:buClr>
              <a:buFont typeface="Arial"/>
              <a:buChar char="•"/>
            </a:pPr>
            <a:r>
              <a:rPr b="0" lang="cs-CZ" sz="2800" spc="-1" strike="noStrike">
                <a:solidFill>
                  <a:srgbClr val="17375e"/>
                </a:solidFill>
                <a:latin typeface="Calibri"/>
              </a:rPr>
              <a:t>Cumulus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Cumulonimbus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4" name="Zástupný symbol pro obsah 4"/>
          <p:cNvGraphicFramePr/>
          <p:nvPr/>
        </p:nvGraphicFramePr>
        <p:xfrm>
          <a:off x="3132000" y="836640"/>
          <a:ext cx="5153400" cy="5326920"/>
        </p:xfrm>
        <a:graphic>
          <a:graphicData uri="http://schemas.openxmlformats.org/drawingml/2006/table">
            <a:tbl>
              <a:tblPr/>
              <a:tblGrid>
                <a:gridCol w="1800000"/>
                <a:gridCol w="720000"/>
                <a:gridCol w="2633400"/>
              </a:tblGrid>
              <a:tr h="676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cs-CZ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český náz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25200">
                      <a:solidFill>
                        <a:srgbClr val="000000"/>
                      </a:solidFill>
                    </a:lnT>
                    <a:lnB w="25200">
                      <a:solidFill>
                        <a:srgbClr val="000000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cs-CZ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výš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25200">
                      <a:solidFill>
                        <a:srgbClr val="000000"/>
                      </a:solidFill>
                    </a:lnT>
                    <a:lnB w="25200">
                      <a:solidFill>
                        <a:srgbClr val="000000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cs-CZ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zajímavosti, vlast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25200">
                      <a:solidFill>
                        <a:srgbClr val="000000"/>
                      </a:solidFill>
                    </a:lnT>
                    <a:lnB w="25200">
                      <a:solidFill>
                        <a:srgbClr val="000000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70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cs-CZ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cs-CZ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cs-CZ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470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cs-CZ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l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cs-CZ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l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cs-CZ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lt1"/>
                    </a:solidFill>
                  </a:tcPr>
                </a:tc>
              </a:tr>
              <a:tr h="470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cs-CZ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cs-CZ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cs-CZ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470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cs-CZ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l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cs-CZ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l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cs-CZ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lt1"/>
                    </a:solidFill>
                  </a:tcPr>
                </a:tc>
              </a:tr>
              <a:tr h="470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cs-CZ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cs-CZ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cs-CZ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470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cs-CZ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l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cs-CZ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l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cs-CZ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lt1"/>
                    </a:solidFill>
                  </a:tcPr>
                </a:tc>
              </a:tr>
              <a:tr h="470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cs-CZ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cs-CZ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cs-CZ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470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cs-CZ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l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cs-CZ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l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cs-CZ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lt1"/>
                    </a:solidFill>
                  </a:tcPr>
                </a:tc>
              </a:tr>
              <a:tr h="470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cs-CZ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cs-CZ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cs-CZ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417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cs-CZ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5200">
                      <a:solidFill>
                        <a:srgbClr val="000000"/>
                      </a:solidFill>
                    </a:lnB>
                    <a:solidFill>
                      <a:schemeClr val="l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cs-CZ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5200">
                      <a:solidFill>
                        <a:srgbClr val="000000"/>
                      </a:solidFill>
                    </a:lnB>
                    <a:solidFill>
                      <a:schemeClr val="l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cs-CZ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5200">
                      <a:solidFill>
                        <a:srgbClr val="000000"/>
                      </a:solidFill>
                    </a:lnB>
                    <a:solidFill>
                      <a:schemeClr val="lt1"/>
                    </a:solidFill>
                  </a:tcPr>
                </a:tc>
              </a:tr>
            </a:tbl>
          </a:graphicData>
        </a:graphic>
      </p:graphicFrame>
      <p:pic>
        <p:nvPicPr>
          <p:cNvPr id="165" name="Picture 2" descr="C:\Users\Eva\AppData\Local\Microsoft\Windows\Temporary Internet Files\Content.IE5\SZ2RJO86\MC900298281[1].wmf"/>
          <p:cNvPicPr/>
          <p:nvPr/>
        </p:nvPicPr>
        <p:blipFill>
          <a:blip r:embed="rId1"/>
          <a:stretch/>
        </p:blipFill>
        <p:spPr>
          <a:xfrm>
            <a:off x="1391400" y="260640"/>
            <a:ext cx="492480" cy="86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60120" y="67680"/>
            <a:ext cx="9078480" cy="5583240"/>
          </a:xfrm>
          <a:prstGeom prst="rect">
            <a:avLst/>
          </a:prstGeom>
          <a:ln w="0">
            <a:noFill/>
          </a:ln>
        </p:spPr>
      </p:pic>
      <p:sp>
        <p:nvSpPr>
          <p:cNvPr id="167" name="Obdélník 1"/>
          <p:cNvSpPr/>
          <p:nvPr/>
        </p:nvSpPr>
        <p:spPr>
          <a:xfrm>
            <a:off x="683640" y="275760"/>
            <a:ext cx="4109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[6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bdélník 2"/>
          <p:cNvSpPr/>
          <p:nvPr/>
        </p:nvSpPr>
        <p:spPr>
          <a:xfrm>
            <a:off x="65160" y="3244320"/>
            <a:ext cx="533052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eciální mraky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bdélník 3"/>
          <p:cNvSpPr/>
          <p:nvPr/>
        </p:nvSpPr>
        <p:spPr>
          <a:xfrm>
            <a:off x="1835640" y="3105720"/>
            <a:ext cx="5832360" cy="33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vimevic.cz/vzdelani/mrakyspecial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7640" y="0"/>
            <a:ext cx="82188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19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[7]</a:t>
            </a:r>
            <a:br>
              <a:rPr sz="4400"/>
            </a:b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390240" y="764640"/>
            <a:ext cx="8457480" cy="55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8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o je vítr?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064520"/>
            <a:ext cx="4038120" cy="506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[8]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[9]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ítr je pohyb vzduchu v určité části atmosféry.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Anemometr – přístroj na měření větru.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Určujeme směr a rychlost. 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 flipH="1">
            <a:off x="972000" y="620640"/>
            <a:ext cx="2701080" cy="24969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" descr=""/>
          <p:cNvPicPr/>
          <p:nvPr/>
        </p:nvPicPr>
        <p:blipFill>
          <a:blip r:embed="rId2"/>
          <a:stretch/>
        </p:blipFill>
        <p:spPr>
          <a:xfrm>
            <a:off x="1356480" y="3285000"/>
            <a:ext cx="2316240" cy="34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[10]</a:t>
            </a:r>
            <a:br>
              <a:rPr sz="2200"/>
            </a:b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BEAUFORTOVA STUPNICE SÍLY VĚTRU:</a:t>
            </a:r>
            <a:br>
              <a:rPr sz="4400"/>
            </a:br>
            <a:r>
              <a:rPr b="0" lang="cs-CZ" sz="13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cs.wikipedia.org/wiki/Beaufortova_stupnice</a:t>
            </a:r>
            <a:endParaRPr b="0" lang="cs-CZ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52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BEZVĚTŘÍ - 0-0,2 m/s, pod 1 km/h, kouř stoupá svisle vzhůru  </a:t>
            </a: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ÁNEK - 0,3-1,5 m/s, 1-5 km/h, směr větru je poznatelný podle pohybu kouře, vítr však nepohybuje větrnou korouhví (směrovkou)  </a:t>
            </a: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LABÝ VÍTR - 1,6-3,3 m/s, 6-11 km/h, vítr je cítit ve tváři, listy stromů šelestí, větrná směrovka se začíná pohybovat  </a:t>
            </a: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ÍRNÝ VÍTR - 3,4-5,4 m/s, 12-19 km/h, listy stromů a větvičky jsou v trvalém pohybu, vítr napíná praporky a slabě čeří hladinu stojaté vody</a:t>
            </a: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STI ČERSTVÝ VÍTR - 5,5-7,9 m/s, 20-28 km/h, vítr zdvíhá prach a kousky papíru, pohybuje slabšími větvemi  </a:t>
            </a: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ČERSTVÝ VÍTR - 8,0-10,7 m/s, 29-38 km/h, listnaté keře se začínají hýbat, na stojatých vodách se tvoří menší vlny se zpěněnými hřebeny  </a:t>
            </a: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Obdélník 1"/>
          <p:cNvSpPr/>
          <p:nvPr/>
        </p:nvSpPr>
        <p:spPr>
          <a:xfrm>
            <a:off x="107640" y="404640"/>
            <a:ext cx="8856720" cy="64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ILNÝ VÍTR - 10,8-13,8 m/s, 39-49 km/h, vítr pohybuje silnějšími větvemi, telegrafní dráty sviští, používání deštníků se stává nesnadné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RUDKÝ VÍTR - 13,9-17,1 m/s, 50-61 km/h, vítr pohybuje celými stromy, chůze proti větru je obtížná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BOUŘLIVÝ VÍTR - 17,2-20,7 m/s, 62-74 km/h, vítr ulamuje větve, chůze proti větru je téměř nemožná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ICHŘICE - 20,8-24,4 m/s, 75-88 km/h, vítr působí menší škody na stavbách (strhává komíny, tašky ze střech)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ILNÁ VICHŘICE - 24,5-28,4 m/s, 89-102 km/h, vyskytuje se na pevnině zřídka, vyvrací stromy, působí větší škody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MOHUTNÁ VICHŘICE - 28,5-32,6 m/s, 103-117 km/h, vyskytuje se velmi zřídka, působí velké škody na domech, lesích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ORKÁN - nad 32,7 m/s, nad 118 km/h, ničivé účink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2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užité zdroje: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240" cy="57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331920" indent="-331920">
              <a:lnSpc>
                <a:spcPct val="100000"/>
              </a:lnSpc>
              <a:spcBef>
                <a:spcPts val="58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KVASNIČKOVÁ, Danuše. A KOLEKTIV. </a:t>
            </a:r>
            <a:r>
              <a:rPr b="0" i="1" lang="cs-CZ" sz="2900" spc="-1" strike="noStrike">
                <a:solidFill>
                  <a:srgbClr val="000000"/>
                </a:solidFill>
                <a:latin typeface="Calibri"/>
              </a:rPr>
              <a:t>Ekologický přírodopis</a:t>
            </a: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. Praha: Fortuna, 2002. ISBN 80-7168-670-0.</a:t>
            </a:r>
            <a:endParaRPr b="0" lang="cs-CZ" sz="29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58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9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cs-CZ" sz="29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youtube.com/watch?v=dNhxcuKoGgU</a:t>
            </a:r>
            <a:endParaRPr b="0" lang="cs-CZ" sz="29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58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</a:t>
            </a:r>
            <a:r>
              <a:rPr b="0" lang="cs-CZ" sz="2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youtube.com/watch?v=xRaSnbZf8lQ</a:t>
            </a:r>
            <a:endParaRPr b="0" lang="cs-CZ" sz="29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58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</a:t>
            </a:r>
            <a:r>
              <a:rPr b="0" lang="cs-CZ" sz="2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://</a:t>
            </a:r>
            <a:r>
              <a:rPr b="0" lang="cs-CZ" sz="2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euromarina.cz/pocasi/meteorologie/tabteplotaatlak.htm</a:t>
            </a:r>
            <a:endParaRPr b="0" lang="cs-CZ" sz="29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58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</a:t>
            </a:r>
            <a:r>
              <a:rPr b="0" lang="cs-CZ" sz="2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://</a:t>
            </a:r>
            <a:r>
              <a:rPr b="0" lang="cs-CZ" sz="2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vimevic.cz/vzdelani/mrakyspecial.htm</a:t>
            </a:r>
            <a:endParaRPr b="0" lang="cs-CZ" sz="29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58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http://</a:t>
            </a:r>
            <a:r>
              <a:rPr b="0" lang="cs-CZ" sz="2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vimevic.cz/vzdelani/mraky.htm</a:t>
            </a:r>
            <a:endParaRPr b="0" lang="cs-CZ" sz="29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58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http://cs.wikipedia.org/wiki/Beaufortova_stupnice</a:t>
            </a:r>
            <a:endParaRPr b="0" lang="cs-CZ" sz="29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58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10)</a:t>
            </a:r>
            <a:r>
              <a:rPr b="0" lang="cs-CZ" sz="2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 http</a:t>
            </a:r>
            <a:r>
              <a:rPr b="0" lang="cs-CZ" sz="2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://tema.novinky.cz/vitr</a:t>
            </a:r>
            <a:endParaRPr b="0" lang="cs-CZ" sz="29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58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1) NASA Earth Observatory. [cit. 2013-06-17] dostupné pod licencí public domain na www: </a:t>
            </a:r>
            <a:r>
              <a:rPr b="0" lang="cs-CZ" sz="2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http://cs.wikipedia.org/wiki/Soubor:Top_of_Atmosphere.jpg</a:t>
            </a:r>
            <a:endParaRPr b="0" lang="cs-CZ" sz="29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58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2) Koroner. [cit. 2013-06-17] </a:t>
            </a:r>
            <a:r>
              <a:rPr b="0" lang="cs-CZ" sz="2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http</a:t>
            </a:r>
            <a:r>
              <a:rPr b="0" lang="cs-CZ" sz="2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://cs.wikipedia.org/wiki/Soubor:Atmosphere_layers-cs.svg</a:t>
            </a:r>
            <a:endParaRPr b="0" lang="cs-CZ" sz="29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58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3) </a:t>
            </a:r>
            <a:r>
              <a:rPr b="0" lang="cs-CZ" sz="29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http://cs.wikipedia.org/wiki/Atmosf%C3%A9ra_Zem%C4%9B</a:t>
            </a:r>
            <a:endParaRPr b="0" lang="cs-CZ" sz="29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58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5) Mika Yrjölä. [cit. 2013-06-17] dostupné pod licencí Creative Commons na www: </a:t>
            </a:r>
            <a:r>
              <a:rPr b="0" lang="cs-CZ" sz="29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http://</a:t>
            </a:r>
            <a:r>
              <a:rPr b="0" lang="cs-CZ" sz="29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cs.wikipedia.org/wiki/Soubor:Noctilucent_clouds_over_saimaa.jpg</a:t>
            </a:r>
            <a:endParaRPr b="0" lang="cs-CZ" sz="29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58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4) Magnus Manske. [cit. 2013-06-17] </a:t>
            </a:r>
            <a:r>
              <a:rPr b="0" lang="cs-CZ" sz="29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http://</a:t>
            </a:r>
            <a:r>
              <a:rPr b="0" lang="cs-CZ" sz="29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upload.wikimedia.org/wikipedia/commons/e/e8/Mesomerni_vzorec_O3.PNG</a:t>
            </a:r>
            <a:endParaRPr b="0" lang="cs-CZ" sz="29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58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6) Spone. [cit. 2013-06-17] dostupné pod licencí Creative Commons na www: </a:t>
            </a:r>
            <a:r>
              <a:rPr b="0" lang="cs-CZ" sz="29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http://cs.wikipedia.org/wiki/Soubor:Cloud_types_en.svg</a:t>
            </a:r>
            <a:endParaRPr b="0" lang="cs-CZ" sz="29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58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7) Magnus Manske. [cit. 2013-06-17] dostupné pod licencí Creative Commons na www:  </a:t>
            </a:r>
            <a:r>
              <a:rPr b="0" lang="cs-CZ" sz="2900" spc="-1" strike="noStrike" u="sng">
                <a:solidFill>
                  <a:srgbClr val="0000ff"/>
                </a:solidFill>
                <a:uFillTx/>
                <a:latin typeface="Calibri"/>
                <a:hlinkClick r:id="rId25"/>
              </a:rPr>
              <a:t>http://upload.wikimedia.org/wikipedia/commons/e/ec/Schema_sklenikovy_efekt.gif</a:t>
            </a:r>
            <a:endParaRPr b="0" lang="cs-CZ" sz="29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58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8)</a:t>
            </a:r>
            <a:r>
              <a:rPr b="1" lang="cs-CZ" sz="2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Miaow Miaow</a:t>
            </a:r>
            <a:r>
              <a:rPr b="1" lang="cs-CZ" sz="29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[cit. 2013-06-17]  </a:t>
            </a:r>
            <a:r>
              <a:rPr b="0" lang="cs-CZ" sz="2900" spc="-1" strike="noStrike" u="sng">
                <a:solidFill>
                  <a:srgbClr val="0000ff"/>
                </a:solidFill>
                <a:uFillTx/>
                <a:latin typeface="Calibri"/>
                <a:hlinkClick r:id="rId26"/>
              </a:rPr>
              <a:t>http://cs.wikipedia.org/wiki/Soubor:Pchery_CZ_wind_farm_E_tower_017.jpg</a:t>
            </a:r>
            <a:endParaRPr b="0" lang="cs-CZ" sz="29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58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9) BenFranske. [cit. 2013-06-17] dostupné pod licencí Creative Commons na www: </a:t>
            </a:r>
            <a:r>
              <a:rPr b="0" lang="cs-CZ" sz="2900" spc="-1" strike="noStrike" u="sng">
                <a:solidFill>
                  <a:srgbClr val="0000ff"/>
                </a:solidFill>
                <a:uFillTx/>
                <a:latin typeface="Calibri"/>
                <a:hlinkClick r:id="rId27"/>
              </a:rPr>
              <a:t>http://</a:t>
            </a:r>
            <a:r>
              <a:rPr b="0" lang="cs-CZ" sz="2900" spc="-1" strike="noStrike" u="sng">
                <a:solidFill>
                  <a:srgbClr val="0000ff"/>
                </a:solidFill>
                <a:uFillTx/>
                <a:latin typeface="Calibri"/>
                <a:hlinkClick r:id="rId28"/>
              </a:rPr>
              <a:t>cs.wikipedia.org/wiki/Soubor:Water_Pumping_Windmill.jpg</a:t>
            </a:r>
            <a:endParaRPr b="0" lang="cs-CZ" sz="29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58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Další obrázek - použitý z webu: Office.com</a:t>
            </a:r>
            <a:endParaRPr b="0" lang="cs-CZ" sz="2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</a:pPr>
            <a:endParaRPr b="0" lang="cs-CZ" sz="2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Obdélník 3"/>
          <p:cNvSpPr/>
          <p:nvPr/>
        </p:nvSpPr>
        <p:spPr>
          <a:xfrm>
            <a:off x="323640" y="260640"/>
            <a:ext cx="8136720" cy="59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Calibri"/>
              </a:rPr>
              <a:t>ANOTA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Calibri"/>
              </a:rPr>
              <a:t>Prezentace o atmosféře slouží učiteli především k vysvětlení nového učiv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Calibri"/>
              </a:rPr>
              <a:t>Žáci si osvojí nové pojmy. Rozdělí atmosféru na základní vrstvy. Pomocí internetu zjistí informace o mracích a svá zjištění zapíší do tabulky pomocí textového editoru (např. MS Word) nebo do sešit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Calibri"/>
              </a:rPr>
              <a:t>Žáci mohou být do hodiny zapojeni přípravou referátu či hledáním na internetu. Mohou pracovat samostatně v počítačové učebně či ve skupinách ve třídě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  <a:ea typeface="Calibri"/>
              </a:rPr>
              <a:t>Formy výuky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Calibri"/>
              </a:rPr>
              <a:t>:  hromadná nebo skupinová výu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  <a:ea typeface="Calibri"/>
              </a:rPr>
              <a:t>Převládající klíčové kompetence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Calibri"/>
              </a:rPr>
              <a:t>: kompetence k učení, kompetence k řešení problémů, kompetence komunikativní, kompetence sociální a personální, kompetence občansk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  <a:ea typeface="Calibri"/>
              </a:rPr>
              <a:t>Vazba na ŠVP: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Calibri"/>
              </a:rPr>
              <a:t>Školní vzdělávací program pro osmileté gymnázium – část A – nižší gymnázium – učební osnovy BIOLOGIE – kvarta – Země a její vývo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8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tmosféra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0640"/>
            <a:ext cx="8229240" cy="478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tmosféra je plynný obal Země. </a:t>
            </a: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[1]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2087280" y="2174040"/>
            <a:ext cx="7056360" cy="468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48000" y="274680"/>
            <a:ext cx="53384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Dělení atmosféry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[2]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2915640" y="1600200"/>
            <a:ext cx="4392000" cy="514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12006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EXOSFÉRA</a:t>
            </a: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  <a:p>
            <a:pPr marL="12006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  <a:p>
            <a:pPr marL="12006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ERMOSFÉRA</a:t>
            </a: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  <a:p>
            <a:pPr marL="12006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  <a:p>
            <a:pPr marL="12006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  <a:p>
            <a:pPr marL="12006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  <a:p>
            <a:pPr marL="12006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EZOSFÉRA</a:t>
            </a: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  <a:p>
            <a:pPr marL="12006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  <a:p>
            <a:pPr marL="12006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TRATOSFÉRA</a:t>
            </a: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  <a:p>
            <a:pPr marL="12006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  <a:p>
            <a:pPr marL="12006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ROPOSFÉRA</a:t>
            </a: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1004040" y="0"/>
            <a:ext cx="1169640" cy="6881400"/>
          </a:xfrm>
          <a:prstGeom prst="rect">
            <a:avLst/>
          </a:prstGeom>
          <a:ln w="0">
            <a:noFill/>
          </a:ln>
        </p:spPr>
      </p:pic>
      <p:cxnSp>
        <p:nvCxnSpPr>
          <p:cNvPr id="135" name="Přímá spojnice se šipkou 5"/>
          <p:cNvCxnSpPr/>
          <p:nvPr/>
        </p:nvCxnSpPr>
        <p:spPr>
          <a:xfrm>
            <a:off x="2339640" y="764640"/>
            <a:ext cx="1872360" cy="93636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136" name="Přímá spojnice se šipkou 12"/>
          <p:cNvCxnSpPr/>
          <p:nvPr/>
        </p:nvCxnSpPr>
        <p:spPr>
          <a:xfrm>
            <a:off x="2339640" y="2708640"/>
            <a:ext cx="1844640" cy="36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137" name="Přímá spojnice se šipkou 18"/>
          <p:cNvCxnSpPr/>
          <p:nvPr/>
        </p:nvCxnSpPr>
        <p:spPr>
          <a:xfrm flipV="1">
            <a:off x="2325960" y="4599720"/>
            <a:ext cx="1886040" cy="34164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138" name="Přímá spojnice se šipkou 22"/>
          <p:cNvCxnSpPr/>
          <p:nvPr/>
        </p:nvCxnSpPr>
        <p:spPr>
          <a:xfrm flipV="1">
            <a:off x="2339640" y="5445000"/>
            <a:ext cx="1844640" cy="18900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139" name="Přímá spojnice se šipkou 26"/>
          <p:cNvCxnSpPr/>
          <p:nvPr/>
        </p:nvCxnSpPr>
        <p:spPr>
          <a:xfrm flipV="1">
            <a:off x="2469960" y="6381000"/>
            <a:ext cx="1886040" cy="14436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EXOSFÉRA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horní hranice:         20000 – 35000 km nad zemským povrchem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podní hranice:          600 – 1000 km nad zemským povrchem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lynule přechází do meziplanetárního prostoru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alá hustota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odík, helium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TERMOSFÉRA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horní hranice:              500 – 700 km nad zemským povrchem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podní hranice: 80 km nad zemským povrchem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umělé družice, raketoplány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MEZOSFÉRA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horní hranice:               80 – 85 km nad zemským povrchem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podní hranice: 50 km nad zemským povrchem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vítící noční obloha“   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39"/>
              </a:spcBef>
              <a:buNone/>
            </a:pPr>
            <a:endParaRPr b="0" lang="cs-CZ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[5]</a:t>
            </a:r>
            <a:endParaRPr b="0" lang="cs-CZ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5508000" y="2205000"/>
            <a:ext cx="3401640" cy="453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TRATOSFÉRA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horní hranice: 50 km nad hladinou moře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podní hranice: 11 km nad hladinou moře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zón O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[4]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ultrafialové záření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zonová vrstva:            25 – 35 km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tratopauza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6012000" y="2133000"/>
            <a:ext cx="1960200" cy="196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TROPOSFÉRA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horní hranice:                 9 - 11 – 18 km nad zemským povrchem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podní hranice: zemský povrch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tropopauza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časí 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cs-CZ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youtube.com/watch?v=xRaSnbZf8lQ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youtube.com/watch?v=dNhxcuKoGgU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Motiv systému Office">
  <a:themeElements>
    <a:clrScheme name="Kancelář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otiv systému Office">
  <a:themeElements>
    <a:clrScheme name="Kancelář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Motiv systému Office">
  <a:themeElements>
    <a:clrScheme name="Kancelář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</TotalTime>
  <Application>LibreOffice/7.4.7.2$Linux_X86_64 LibreOffice_project/40$Build-2</Application>
  <AppVersion>15.0000</AppVersion>
  <Words>1006</Words>
  <Paragraphs>26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9T18:30:39Z</dcterms:created>
  <dc:creator>ICT_SS</dc:creator>
  <dc:description/>
  <dc:language>en-US</dc:language>
  <cp:lastModifiedBy>Eva</cp:lastModifiedBy>
  <dcterms:modified xsi:type="dcterms:W3CDTF">2013-06-25T17:59:19Z</dcterms:modified>
  <cp:revision>41</cp:revision>
  <dc:subject/>
  <dc:title>Prezentace aplikac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Předvádění na obrazovce (4:3)</vt:lpwstr>
  </property>
  <property fmtid="{D5CDD505-2E9C-101B-9397-08002B2CF9AE}" pid="3" name="Slides">
    <vt:r8>18</vt:r8>
  </property>
</Properties>
</file>