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015B-DA96-43AA-A127-659261F9D5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4819-2971-41A6-A5A8-761D2A46C2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FFC-A409-4758-8D0F-916495A3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D5B-DA6C-4BDA-8131-DB8D82BD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EF6-11C1-407F-85E3-FF5A4027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C3B-04D8-4F55-927E-B923B57E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51A-4BBE-45E7-BAF3-4A70ECD0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554-BB7B-401E-A2C7-C051A1F7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1FF-097B-4428-812F-9D4A8501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432-8212-441C-8032-EBD5AF53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15F-171E-46CE-BF14-7B6325FB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D5B-DE6E-4E38-A7BF-A216A30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F83-34AF-4816-AD69-911C3EC5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55A-05A6-4222-84EA-ADBE0EE2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86C3-A752-4BD6-B864-B66774BAC200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hyperlink" Target="http://cs.wikipedia.org/wiki/Hlavn&#237;_str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vnice s absolutní hodnotou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24000" y="1341360"/>
          <a:ext cx="4464000" cy="144000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440000"/>
              </a:tblGrid>
              <a:tr h="479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 – jiný způsob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2124000" y="1413000"/>
                <a:ext cx="93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3635280" y="1413000"/>
                <a:ext cx="76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755640" y="1916280"/>
                <a:ext cx="63972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5"/>
              <p:cNvSpPr txBox="1"/>
              <p:nvPr/>
            </p:nvSpPr>
            <p:spPr>
              <a:xfrm>
                <a:off x="684360" y="2276640"/>
                <a:ext cx="712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2170080" y="2349360"/>
                <a:ext cx="836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7"/>
              <p:cNvSpPr txBox="1"/>
              <p:nvPr/>
            </p:nvSpPr>
            <p:spPr>
              <a:xfrm>
                <a:off x="3733920" y="2349360"/>
                <a:ext cx="639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TextovéPole 19"/>
          <p:cNvSpPr/>
          <p:nvPr/>
        </p:nvSpPr>
        <p:spPr>
          <a:xfrm>
            <a:off x="46836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8"/>
              <p:cNvSpPr txBox="1"/>
              <p:nvPr/>
            </p:nvSpPr>
            <p:spPr>
              <a:xfrm>
                <a:off x="900000" y="3141720"/>
                <a:ext cx="1422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0"/>
              <p:cNvSpPr txBox="1"/>
              <p:nvPr/>
            </p:nvSpPr>
            <p:spPr>
              <a:xfrm>
                <a:off x="996840" y="3611520"/>
                <a:ext cx="13734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6227640" y="1268280"/>
                <a:ext cx="16113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2"/>
              <p:cNvSpPr txBox="1"/>
              <p:nvPr/>
            </p:nvSpPr>
            <p:spPr>
              <a:xfrm>
                <a:off x="1619280" y="4508640"/>
                <a:ext cx="763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3"/>
              <p:cNvSpPr txBox="1"/>
              <p:nvPr/>
            </p:nvSpPr>
            <p:spPr>
              <a:xfrm>
                <a:off x="2484360" y="4653000"/>
                <a:ext cx="11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TextovéPole 26"/>
          <p:cNvSpPr/>
          <p:nvPr/>
        </p:nvSpPr>
        <p:spPr>
          <a:xfrm>
            <a:off x="428472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4"/>
              <p:cNvSpPr txBox="1"/>
              <p:nvPr/>
            </p:nvSpPr>
            <p:spPr>
              <a:xfrm>
                <a:off x="4859280" y="3573360"/>
                <a:ext cx="11700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5"/>
              <p:cNvSpPr txBox="1"/>
              <p:nvPr/>
            </p:nvSpPr>
            <p:spPr>
              <a:xfrm>
                <a:off x="4818240" y="3030480"/>
                <a:ext cx="1218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6"/>
              <p:cNvSpPr txBox="1"/>
              <p:nvPr/>
            </p:nvSpPr>
            <p:spPr>
              <a:xfrm>
                <a:off x="5292720" y="4508640"/>
                <a:ext cx="890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7"/>
              <p:cNvSpPr txBox="1"/>
              <p:nvPr/>
            </p:nvSpPr>
            <p:spPr>
              <a:xfrm>
                <a:off x="6300720" y="4653000"/>
                <a:ext cx="990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ovéPole 9"/>
          <p:cNvSpPr/>
          <p:nvPr/>
        </p:nvSpPr>
        <p:spPr>
          <a:xfrm>
            <a:off x="4788000" y="6021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6372360" y="5589720"/>
                <a:ext cx="20523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TextovéPole 22"/>
          <p:cNvSpPr/>
          <p:nvPr/>
        </p:nvSpPr>
        <p:spPr>
          <a:xfrm>
            <a:off x="183528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23"/>
          <p:cNvSpPr/>
          <p:nvPr/>
        </p:nvSpPr>
        <p:spPr>
          <a:xfrm>
            <a:off x="334800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682560" y="1773360"/>
                <a:ext cx="2268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6"/>
              <p:cNvSpPr txBox="1"/>
              <p:nvPr/>
            </p:nvSpPr>
            <p:spPr>
              <a:xfrm>
                <a:off x="1692360" y="3645000"/>
                <a:ext cx="1349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TextovéPole 15"/>
          <p:cNvSpPr/>
          <p:nvPr/>
        </p:nvSpPr>
        <p:spPr>
          <a:xfrm>
            <a:off x="971640" y="2708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4284720" y="3357720"/>
                <a:ext cx="7999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Šipka doprava 16"/>
          <p:cNvSpPr/>
          <p:nvPr/>
        </p:nvSpPr>
        <p:spPr>
          <a:xfrm>
            <a:off x="3492360" y="3716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8"/>
          <p:cNvSpPr/>
          <p:nvPr/>
        </p:nvSpPr>
        <p:spPr>
          <a:xfrm>
            <a:off x="971640" y="4292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zlomek     .  Tento nulový bod rozdělí množinu reálných čísel na dva interv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2560680" y="5084640"/>
                <a:ext cx="15350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4927680" y="5013360"/>
                <a:ext cx="1220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3348000" y="4149720"/>
                <a:ext cx="206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4000" y="1268280"/>
          <a:ext cx="4464000" cy="194472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44000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2268360" y="1268280"/>
                <a:ext cx="878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684360" y="2133720"/>
                <a:ext cx="761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611280" y="2637000"/>
                <a:ext cx="860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6"/>
              <p:cNvSpPr txBox="1"/>
              <p:nvPr/>
            </p:nvSpPr>
            <p:spPr>
              <a:xfrm>
                <a:off x="2122560" y="2708280"/>
                <a:ext cx="984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3646440" y="2708280"/>
                <a:ext cx="763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TextovéPole 19"/>
          <p:cNvSpPr/>
          <p:nvPr/>
        </p:nvSpPr>
        <p:spPr>
          <a:xfrm>
            <a:off x="324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755640" y="3284640"/>
                <a:ext cx="1574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611280" y="4292640"/>
                <a:ext cx="2085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1"/>
              <p:cNvSpPr txBox="1"/>
              <p:nvPr/>
            </p:nvSpPr>
            <p:spPr>
              <a:xfrm>
                <a:off x="1258920" y="4797360"/>
                <a:ext cx="763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2"/>
              <p:cNvSpPr txBox="1"/>
              <p:nvPr/>
            </p:nvSpPr>
            <p:spPr>
              <a:xfrm>
                <a:off x="2124000" y="4797360"/>
                <a:ext cx="137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TextovéPole 26"/>
          <p:cNvSpPr/>
          <p:nvPr/>
        </p:nvSpPr>
        <p:spPr>
          <a:xfrm>
            <a:off x="421164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4"/>
              <p:cNvSpPr txBox="1"/>
              <p:nvPr/>
            </p:nvSpPr>
            <p:spPr>
              <a:xfrm>
                <a:off x="4643280" y="3213000"/>
                <a:ext cx="1346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5"/>
              <p:cNvSpPr txBox="1"/>
              <p:nvPr/>
            </p:nvSpPr>
            <p:spPr>
              <a:xfrm>
                <a:off x="5219640" y="4941720"/>
                <a:ext cx="6606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6012000" y="4724280"/>
                <a:ext cx="1117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ovéPole 9"/>
          <p:cNvSpPr/>
          <p:nvPr/>
        </p:nvSpPr>
        <p:spPr>
          <a:xfrm>
            <a:off x="579600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7524720" y="6021360"/>
                <a:ext cx="941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0"/>
              <p:cNvSpPr txBox="1"/>
              <p:nvPr/>
            </p:nvSpPr>
            <p:spPr>
              <a:xfrm>
                <a:off x="3641760" y="1268280"/>
                <a:ext cx="722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867280" y="1484280"/>
                <a:ext cx="2268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3"/>
              <p:cNvSpPr txBox="1"/>
              <p:nvPr/>
            </p:nvSpPr>
            <p:spPr>
              <a:xfrm>
                <a:off x="4716360" y="4292640"/>
                <a:ext cx="1679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925560" y="1773360"/>
                <a:ext cx="2727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1760400" y="3141720"/>
                <a:ext cx="1211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TextovéPole 15"/>
          <p:cNvSpPr/>
          <p:nvPr/>
        </p:nvSpPr>
        <p:spPr>
          <a:xfrm>
            <a:off x="971640" y="2421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ů v absolutní hodnotě. Výrazy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356000" y="3141720"/>
                <a:ext cx="938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Šipka doprava 16"/>
          <p:cNvSpPr/>
          <p:nvPr/>
        </p:nvSpPr>
        <p:spPr>
          <a:xfrm>
            <a:off x="34923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18"/>
          <p:cNvSpPr/>
          <p:nvPr/>
        </p:nvSpPr>
        <p:spPr>
          <a:xfrm>
            <a:off x="971640" y="4292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é body jsou -15 a -9.  Tyto nulové body rozdělí množinu reálných čísel na tři interv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7"/>
              <p:cNvSpPr txBox="1"/>
              <p:nvPr/>
            </p:nvSpPr>
            <p:spPr>
              <a:xfrm>
                <a:off x="1751040" y="5373720"/>
                <a:ext cx="17733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8"/>
              <p:cNvSpPr txBox="1"/>
              <p:nvPr/>
            </p:nvSpPr>
            <p:spPr>
              <a:xfrm>
                <a:off x="6161040" y="5300640"/>
                <a:ext cx="13604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1766880" y="3789360"/>
                <a:ext cx="1349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Šipka doprava 13"/>
          <p:cNvSpPr/>
          <p:nvPr/>
        </p:nvSpPr>
        <p:spPr>
          <a:xfrm>
            <a:off x="3492360" y="3789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4262400" y="3716280"/>
                <a:ext cx="1103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3897360" y="5300640"/>
                <a:ext cx="17413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24000" y="1268280"/>
          <a:ext cx="4464000" cy="2089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089000"/>
                <a:gridCol w="1089000"/>
              </a:tblGrid>
              <a:tr h="43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1571760" y="1341360"/>
                <a:ext cx="10126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600120" y="1773360"/>
                <a:ext cx="638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30280" y="2492280"/>
                <a:ext cx="736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TextovéPole 19"/>
          <p:cNvSpPr/>
          <p:nvPr/>
        </p:nvSpPr>
        <p:spPr>
          <a:xfrm>
            <a:off x="5148360" y="119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5478480" y="1125360"/>
                <a:ext cx="1778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5369040" y="1519200"/>
                <a:ext cx="2568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5219640" y="3573360"/>
                <a:ext cx="21132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TextovéPole 26"/>
          <p:cNvSpPr/>
          <p:nvPr/>
        </p:nvSpPr>
        <p:spPr>
          <a:xfrm>
            <a:off x="507672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5"/>
              <p:cNvSpPr txBox="1"/>
              <p:nvPr/>
            </p:nvSpPr>
            <p:spPr>
              <a:xfrm>
                <a:off x="5699160" y="4903920"/>
                <a:ext cx="2133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TextovéPole 9"/>
          <p:cNvSpPr/>
          <p:nvPr/>
        </p:nvSpPr>
        <p:spPr>
          <a:xfrm>
            <a:off x="4716360" y="6237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6443640" y="6165720"/>
                <a:ext cx="2232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3"/>
              <p:cNvSpPr txBox="1"/>
              <p:nvPr/>
            </p:nvSpPr>
            <p:spPr>
              <a:xfrm>
                <a:off x="3846600" y="1341360"/>
                <a:ext cx="7430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5219640" y="3141720"/>
                <a:ext cx="2343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8"/>
              <p:cNvSpPr txBox="1"/>
              <p:nvPr/>
            </p:nvSpPr>
            <p:spPr>
              <a:xfrm>
                <a:off x="5648400" y="1989000"/>
                <a:ext cx="1019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7"/>
              <p:cNvSpPr txBox="1"/>
              <p:nvPr/>
            </p:nvSpPr>
            <p:spPr>
              <a:xfrm>
                <a:off x="6756480" y="1989000"/>
                <a:ext cx="1187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0"/>
              <p:cNvSpPr txBox="1"/>
              <p:nvPr/>
            </p:nvSpPr>
            <p:spPr>
              <a:xfrm>
                <a:off x="2657520" y="1341360"/>
                <a:ext cx="9572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1"/>
              <p:cNvSpPr txBox="1"/>
              <p:nvPr/>
            </p:nvSpPr>
            <p:spPr>
              <a:xfrm>
                <a:off x="550800" y="2133720"/>
                <a:ext cx="760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2"/>
              <p:cNvSpPr txBox="1"/>
              <p:nvPr/>
            </p:nvSpPr>
            <p:spPr>
              <a:xfrm>
                <a:off x="492120" y="2924280"/>
                <a:ext cx="833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1582560" y="2565360"/>
                <a:ext cx="8589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4"/>
              <p:cNvSpPr txBox="1"/>
              <p:nvPr/>
            </p:nvSpPr>
            <p:spPr>
              <a:xfrm>
                <a:off x="2700360" y="2565360"/>
                <a:ext cx="8589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5"/>
              <p:cNvSpPr txBox="1"/>
              <p:nvPr/>
            </p:nvSpPr>
            <p:spPr>
              <a:xfrm>
                <a:off x="3924360" y="2565360"/>
                <a:ext cx="638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6"/>
              <p:cNvSpPr txBox="1"/>
              <p:nvPr/>
            </p:nvSpPr>
            <p:spPr>
              <a:xfrm>
                <a:off x="2771640" y="2997360"/>
                <a:ext cx="76068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7"/>
              <p:cNvSpPr txBox="1"/>
              <p:nvPr/>
            </p:nvSpPr>
            <p:spPr>
              <a:xfrm>
                <a:off x="3862440" y="2997360"/>
                <a:ext cx="76212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8"/>
              <p:cNvSpPr txBox="1"/>
              <p:nvPr/>
            </p:nvSpPr>
            <p:spPr>
              <a:xfrm>
                <a:off x="1521000" y="2997360"/>
                <a:ext cx="9824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9"/>
              <p:cNvSpPr txBox="1"/>
              <p:nvPr/>
            </p:nvSpPr>
            <p:spPr>
              <a:xfrm>
                <a:off x="5435640" y="2637000"/>
                <a:ext cx="170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TextovéPole 26"/>
          <p:cNvSpPr/>
          <p:nvPr/>
        </p:nvSpPr>
        <p:spPr>
          <a:xfrm>
            <a:off x="5219640" y="44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1"/>
              <p:cNvSpPr txBox="1"/>
              <p:nvPr/>
            </p:nvSpPr>
            <p:spPr>
              <a:xfrm>
                <a:off x="5622840" y="4365720"/>
                <a:ext cx="14479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32"/>
              <p:cNvSpPr txBox="1"/>
              <p:nvPr/>
            </p:nvSpPr>
            <p:spPr>
              <a:xfrm>
                <a:off x="5580000" y="5445000"/>
                <a:ext cx="1015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3"/>
              <p:cNvSpPr txBox="1"/>
              <p:nvPr/>
            </p:nvSpPr>
            <p:spPr>
              <a:xfrm>
                <a:off x="6773760" y="5373720"/>
                <a:ext cx="12193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9"/>
              <p:cNvSpPr txBox="1"/>
              <p:nvPr/>
            </p:nvSpPr>
            <p:spPr>
              <a:xfrm>
                <a:off x="7380360" y="3716280"/>
                <a:ext cx="1498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826920" y="4437000"/>
                <a:ext cx="2727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ovéPole 13"/>
          <p:cNvSpPr/>
          <p:nvPr/>
        </p:nvSpPr>
        <p:spPr>
          <a:xfrm>
            <a:off x="324000" y="4071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ovéPole 13"/>
          <p:cNvSpPr/>
          <p:nvPr/>
        </p:nvSpPr>
        <p:spPr>
          <a:xfrm>
            <a:off x="357120" y="2286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Funkce absolutní hodnota, rovnice a nerovnice s absolutní hodnotou – Rovnice s absolutní hodnotou I – Příklady“, kde vyřešte Př.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26792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rovnic s absolutní hodnot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1289160" y="1989000"/>
                <a:ext cx="1019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TextovéPole 5"/>
          <p:cNvSpPr/>
          <p:nvPr/>
        </p:nvSpPr>
        <p:spPr>
          <a:xfrm>
            <a:off x="3132000" y="1916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rovno vzdálenosti obrazu čísl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číselné ose od počátku. Vzdálenost je rovna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6"/>
              <p:cNvSpPr txBox="1"/>
              <p:nvPr/>
            </p:nvSpPr>
            <p:spPr>
              <a:xfrm>
                <a:off x="2124000" y="4653000"/>
                <a:ext cx="1336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796000" y="4653000"/>
                <a:ext cx="11602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ovéPole 9"/>
          <p:cNvSpPr/>
          <p:nvPr/>
        </p:nvSpPr>
        <p:spPr>
          <a:xfrm>
            <a:off x="4788000" y="6021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6318360" y="5805360"/>
                <a:ext cx="2462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2" name="Obrázek 13" descr="číselná osa 02.png"/>
          <p:cNvPicPr/>
          <p:nvPr/>
        </p:nvPicPr>
        <p:blipFill>
          <a:blip r:embed="rId1"/>
          <a:stretch/>
        </p:blipFill>
        <p:spPr>
          <a:xfrm>
            <a:off x="1822320" y="2747880"/>
            <a:ext cx="54993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1042920" y="1989000"/>
                <a:ext cx="15130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ovéPole 5"/>
          <p:cNvSpPr/>
          <p:nvPr/>
        </p:nvSpPr>
        <p:spPr>
          <a:xfrm>
            <a:off x="3132000" y="1916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rovno vzdálenosti obrazu čísl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 obrazu čísla 3 na číselné ose. Vzdálenost je rovna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rázek 8" descr="číselná osa 01.png"/>
          <p:cNvPicPr/>
          <p:nvPr/>
        </p:nvPicPr>
        <p:blipFill>
          <a:blip r:embed="rId1"/>
          <a:stretch/>
        </p:blipFill>
        <p:spPr>
          <a:xfrm>
            <a:off x="1619280" y="3068640"/>
            <a:ext cx="5400720" cy="1338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" name="Object 16"/>
              <p:cNvSpPr txBox="1"/>
              <p:nvPr/>
            </p:nvSpPr>
            <p:spPr>
              <a:xfrm>
                <a:off x="2124000" y="4653000"/>
                <a:ext cx="1336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5219640" y="4653000"/>
                <a:ext cx="11257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ovéPole 9"/>
          <p:cNvSpPr/>
          <p:nvPr/>
        </p:nvSpPr>
        <p:spPr>
          <a:xfrm>
            <a:off x="4788000" y="6021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6338880" y="5805360"/>
                <a:ext cx="24192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1042920" y="1844640"/>
                <a:ext cx="1546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TextovéPole 5"/>
          <p:cNvSpPr/>
          <p:nvPr/>
        </p:nvSpPr>
        <p:spPr>
          <a:xfrm>
            <a:off x="3382920" y="2349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rovno vzdálenosti obrazu čísl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 obrazu čísla - 4 na číselné ose. Vzdálenost je rovna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6"/>
              <p:cNvSpPr txBox="1"/>
              <p:nvPr/>
            </p:nvSpPr>
            <p:spPr>
              <a:xfrm>
                <a:off x="1979640" y="4941720"/>
                <a:ext cx="1547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778360" y="4941720"/>
                <a:ext cx="1160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TextovéPole 9"/>
          <p:cNvSpPr/>
          <p:nvPr/>
        </p:nvSpPr>
        <p:spPr>
          <a:xfrm>
            <a:off x="4788000" y="6021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6211800" y="5805360"/>
                <a:ext cx="26751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797040" y="2421000"/>
                <a:ext cx="20397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" name="Obrázek 13" descr="číselná osa 03.png"/>
          <p:cNvPicPr/>
          <p:nvPr/>
        </p:nvPicPr>
        <p:blipFill>
          <a:blip r:embed="rId1"/>
          <a:stretch/>
        </p:blipFill>
        <p:spPr>
          <a:xfrm>
            <a:off x="1908000" y="3357720"/>
            <a:ext cx="54946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 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1305000" y="1844640"/>
                <a:ext cx="1020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3492360" y="1844640"/>
                <a:ext cx="9842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TextovéPole 9"/>
          <p:cNvSpPr/>
          <p:nvPr/>
        </p:nvSpPr>
        <p:spPr>
          <a:xfrm>
            <a:off x="4932360" y="2637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6615000" y="2421000"/>
                <a:ext cx="1613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095480" y="4076640"/>
                <a:ext cx="12175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ovéPole 13"/>
          <p:cNvSpPr/>
          <p:nvPr/>
        </p:nvSpPr>
        <p:spPr>
          <a:xfrm>
            <a:off x="395280" y="35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ovéPole 15"/>
          <p:cNvSpPr/>
          <p:nvPr/>
        </p:nvSpPr>
        <p:spPr>
          <a:xfrm>
            <a:off x="2987640" y="4005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solutní hodnota je vzdálenost obrazu čísl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 počátku. Vzdálenost nemůže být zápor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3851280" y="4724280"/>
                <a:ext cx="895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ovéPole 9"/>
          <p:cNvSpPr/>
          <p:nvPr/>
        </p:nvSpPr>
        <p:spPr>
          <a:xfrm>
            <a:off x="5003640" y="5661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6732720" y="5373720"/>
                <a:ext cx="16128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1011240" y="1592280"/>
                <a:ext cx="16113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6"/>
              <p:cNvSpPr txBox="1"/>
              <p:nvPr/>
            </p:nvSpPr>
            <p:spPr>
              <a:xfrm>
                <a:off x="3635280" y="4005360"/>
                <a:ext cx="11620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6875640" y="4149720"/>
                <a:ext cx="1371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ovéPole 9"/>
          <p:cNvSpPr/>
          <p:nvPr/>
        </p:nvSpPr>
        <p:spPr>
          <a:xfrm>
            <a:off x="4572000" y="602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6191280" y="5445000"/>
                <a:ext cx="2717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1" name="Obrázek 14" descr="číselná osa 04.png"/>
          <p:cNvPicPr/>
          <p:nvPr/>
        </p:nvPicPr>
        <p:blipFill>
          <a:blip r:embed="rId1"/>
          <a:stretch/>
        </p:blipFill>
        <p:spPr>
          <a:xfrm>
            <a:off x="3276720" y="1700280"/>
            <a:ext cx="53323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 – jiný způsob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011240" y="1592280"/>
                <a:ext cx="16113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6"/>
              <p:cNvSpPr txBox="1"/>
              <p:nvPr/>
            </p:nvSpPr>
            <p:spPr>
              <a:xfrm>
                <a:off x="1835280" y="3429000"/>
                <a:ext cx="1184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ovéPole 13"/>
          <p:cNvSpPr/>
          <p:nvPr/>
        </p:nvSpPr>
        <p:spPr>
          <a:xfrm>
            <a:off x="3203640" y="1773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vyřešíme ještě jiným způsobem, který budeme používat dále u složitějších příklad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5"/>
          <p:cNvSpPr/>
          <p:nvPr/>
        </p:nvSpPr>
        <p:spPr>
          <a:xfrm>
            <a:off x="971640" y="2708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eme nulové body výrazu v absolutní hodnotě.   Výraz v absolutní hodnotě položíme roven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4356000" y="3429000"/>
                <a:ext cx="744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Šipka doprava 16"/>
          <p:cNvSpPr/>
          <p:nvPr/>
        </p:nvSpPr>
        <p:spPr>
          <a:xfrm>
            <a:off x="3492360" y="3500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8"/>
          <p:cNvSpPr/>
          <p:nvPr/>
        </p:nvSpPr>
        <p:spPr>
          <a:xfrm>
            <a:off x="971640" y="4076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lový bod je číslo 3. Tento nulový bod rozdělí množinu reálných čísel na dva interv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2627280" y="4797360"/>
                <a:ext cx="1513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4788000" y="4724280"/>
                <a:ext cx="12780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40:40Z</dcterms:modified>
  <cp:revision>297</cp:revision>
  <dc:subject/>
  <dc:title>Snímek 1</dc:title>
</cp:coreProperties>
</file>