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CA6-DCFA-4D39-B2CE-7189780DD9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809-4BD2-40F2-AE0C-39C3A15A6A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1FF-AE70-49A6-99A9-CF546A23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738-5986-4B41-8D4C-0CD241C6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BD6-1CF6-40F9-8531-1E4930A2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7DC-0CDE-4D1E-A516-BC03BABD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1FD-5208-491C-9287-10FE91A0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C03-7A0A-4176-9F6A-F01D348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502-DB05-4098-87D0-407248FC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BEB-FB23-41A7-A97A-83DDC86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9A9-44C4-4F1C-806E-C5A4A1E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A23-B39F-42F9-98F5-74FCF1C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CC7-94E6-42F9-90BD-519DA18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F22-BF83-47D3-99E4-297CEC8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7D2-EB1D-4C7D-A59A-F5A7F23F4A15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vnice v podílovém tvaru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826920" y="1413000"/>
                <a:ext cx="27370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3851280" y="1413000"/>
                <a:ext cx="884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468360" y="2637000"/>
                <a:ext cx="32115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395280" y="3860640"/>
                <a:ext cx="41054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611280" y="5300640"/>
                <a:ext cx="3714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Přímá spojovací čára 23"/>
          <p:cNvSpPr/>
          <p:nvPr/>
        </p:nvSpPr>
        <p:spPr>
          <a:xfrm>
            <a:off x="5076720" y="1268280"/>
            <a:ext cx="0" cy="511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2"/>
              <p:cNvSpPr txBox="1"/>
              <p:nvPr/>
            </p:nvSpPr>
            <p:spPr>
              <a:xfrm>
                <a:off x="5832360" y="1341360"/>
                <a:ext cx="2346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ovéPole 15"/>
          <p:cNvSpPr/>
          <p:nvPr/>
        </p:nvSpPr>
        <p:spPr>
          <a:xfrm>
            <a:off x="5292720" y="2565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5292720" y="3789360"/>
                <a:ext cx="1347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Šipka doprava 30"/>
          <p:cNvSpPr/>
          <p:nvPr/>
        </p:nvSpPr>
        <p:spPr>
          <a:xfrm>
            <a:off x="694836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7640640" y="3557520"/>
                <a:ext cx="82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5"/>
              <p:cNvSpPr txBox="1"/>
              <p:nvPr/>
            </p:nvSpPr>
            <p:spPr>
              <a:xfrm>
                <a:off x="5435640" y="4581360"/>
                <a:ext cx="118260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5508720" y="537372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7667640" y="4581360"/>
                <a:ext cx="7412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8"/>
              <p:cNvSpPr txBox="1"/>
              <p:nvPr/>
            </p:nvSpPr>
            <p:spPr>
              <a:xfrm>
                <a:off x="7667640" y="5373720"/>
                <a:ext cx="93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Šipka doprava 32"/>
          <p:cNvSpPr/>
          <p:nvPr/>
        </p:nvSpPr>
        <p:spPr>
          <a:xfrm>
            <a:off x="6948360" y="465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Šipka doprava 34"/>
          <p:cNvSpPr/>
          <p:nvPr/>
        </p:nvSpPr>
        <p:spPr>
          <a:xfrm>
            <a:off x="6948360" y="5445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3"/>
          <p:cNvSpPr/>
          <p:nvPr/>
        </p:nvSpPr>
        <p:spPr>
          <a:xfrm>
            <a:off x="6588000" y="623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Přímá spojovací šipka 37"/>
          <p:cNvCxnSpPr/>
          <p:nvPr/>
        </p:nvCxnSpPr>
        <p:spPr>
          <a:xfrm flipV="1">
            <a:off x="8172000" y="60922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1989000"/>
          <a:ext cx="7740720" cy="3456000"/>
        </p:xfrm>
        <a:graphic>
          <a:graphicData uri="http://schemas.openxmlformats.org/drawingml/2006/table">
            <a:tbl>
              <a:tblPr/>
              <a:tblGrid>
                <a:gridCol w="1839960"/>
                <a:gridCol w="1425600"/>
                <a:gridCol w="1567080"/>
                <a:gridCol w="1579320"/>
                <a:gridCol w="132876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525680" y="2841480"/>
                <a:ext cx="1022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4"/>
              <p:cNvSpPr txBox="1"/>
              <p:nvPr/>
            </p:nvSpPr>
            <p:spPr>
              <a:xfrm>
                <a:off x="971640" y="4581360"/>
                <a:ext cx="16221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2908440" y="2174760"/>
                <a:ext cx="1028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659720" y="2197080"/>
                <a:ext cx="714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7"/>
              <p:cNvSpPr txBox="1"/>
              <p:nvPr/>
            </p:nvSpPr>
            <p:spPr>
              <a:xfrm>
                <a:off x="1611360" y="3351240"/>
                <a:ext cx="784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359240" y="2011320"/>
                <a:ext cx="1163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Elipsa 23"/>
          <p:cNvSpPr/>
          <p:nvPr/>
        </p:nvSpPr>
        <p:spPr>
          <a:xfrm>
            <a:off x="4716360" y="4724280"/>
            <a:ext cx="43200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8"/>
          <p:cNvSpPr/>
          <p:nvPr/>
        </p:nvSpPr>
        <p:spPr>
          <a:xfrm>
            <a:off x="468360" y="981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čty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6197760" y="2011320"/>
                <a:ext cx="798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38360" y="3956040"/>
                <a:ext cx="639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Elipsa 28"/>
          <p:cNvSpPr/>
          <p:nvPr/>
        </p:nvSpPr>
        <p:spPr>
          <a:xfrm>
            <a:off x="7740720" y="4724280"/>
            <a:ext cx="43164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. V tabulce hledáme intervaly, ve kterých je daný výraz KLADNÝ. Označeny jsou znaménkem PLUS. Řešením bude sjednocení dvou interva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3863880" y="4805280"/>
                <a:ext cx="33512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TextovéPole 9"/>
          <p:cNvSpPr/>
          <p:nvPr/>
        </p:nvSpPr>
        <p:spPr>
          <a:xfrm>
            <a:off x="154764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5019840" y="3284640"/>
                <a:ext cx="888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3178080" y="3284640"/>
                <a:ext cx="11192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ovéPole 13"/>
          <p:cNvSpPr/>
          <p:nvPr/>
        </p:nvSpPr>
        <p:spPr>
          <a:xfrm>
            <a:off x="250920" y="2421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¾, -3 a 3 v řešení zahrnuta nejsou, neboť v zadání je ostrá nerovnost. Navíc nesmíme zapomenout, že ve jmenovateli nesmí být nula. Proto navíc platí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54080" y="1557360"/>
                <a:ext cx="2068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15"/>
          <p:cNvSpPr/>
          <p:nvPr/>
        </p:nvSpPr>
        <p:spPr>
          <a:xfrm>
            <a:off x="3995640" y="119700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jmenovateli je záporné číslo: -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y daná nerovnost platila, musí výraz ve jmenovateli být záporný. Roven nule být nemůže, protože v zadání je ostrá nerov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5302080" y="4365720"/>
                <a:ext cx="197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Šipka doprava 21"/>
          <p:cNvSpPr/>
          <p:nvPr/>
        </p:nvSpPr>
        <p:spPr>
          <a:xfrm>
            <a:off x="3924360" y="4437000"/>
            <a:ext cx="863640" cy="360360"/>
          </a:xfrm>
          <a:prstGeom prst="rightArrow">
            <a:avLst>
              <a:gd name="adj1" fmla="val 50000"/>
              <a:gd name="adj2" fmla="val 5000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716040" y="5084640"/>
                <a:ext cx="3079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6"/>
              <p:cNvSpPr txBox="1"/>
              <p:nvPr/>
            </p:nvSpPr>
            <p:spPr>
              <a:xfrm>
                <a:off x="4535640" y="1268280"/>
                <a:ext cx="1698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7178760" y="907920"/>
                <a:ext cx="863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7"/>
              <p:cNvSpPr txBox="1"/>
              <p:nvPr/>
            </p:nvSpPr>
            <p:spPr>
              <a:xfrm>
                <a:off x="7151760" y="1620720"/>
                <a:ext cx="116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ovéPole 15"/>
          <p:cNvSpPr/>
          <p:nvPr/>
        </p:nvSpPr>
        <p:spPr>
          <a:xfrm>
            <a:off x="539640" y="112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íme následující nerov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123920" y="386064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ovéPole 9"/>
          <p:cNvSpPr/>
          <p:nvPr/>
        </p:nvSpPr>
        <p:spPr>
          <a:xfrm>
            <a:off x="395280" y="2781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římá spojovací čára 19"/>
          <p:cNvSpPr/>
          <p:nvPr/>
        </p:nvSpPr>
        <p:spPr>
          <a:xfrm>
            <a:off x="4211640" y="1125360"/>
            <a:ext cx="0" cy="525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9"/>
          <p:cNvSpPr/>
          <p:nvPr/>
        </p:nvSpPr>
        <p:spPr>
          <a:xfrm>
            <a:off x="6659640" y="285264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6364440" y="5445000"/>
                <a:ext cx="1841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116000" y="1773360"/>
                <a:ext cx="197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ovéPole 9"/>
          <p:cNvSpPr/>
          <p:nvPr/>
        </p:nvSpPr>
        <p:spPr>
          <a:xfrm>
            <a:off x="464328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7" descr="osy a parabola 03"/>
          <p:cNvPicPr/>
          <p:nvPr/>
        </p:nvPicPr>
        <p:blipFill>
          <a:blip r:embed="rId1"/>
          <a:stretch/>
        </p:blipFill>
        <p:spPr>
          <a:xfrm>
            <a:off x="4427640" y="2708280"/>
            <a:ext cx="2009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971640" y="1557360"/>
                <a:ext cx="22352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ovéPole 15"/>
          <p:cNvSpPr/>
          <p:nvPr/>
        </p:nvSpPr>
        <p:spPr>
          <a:xfrm>
            <a:off x="3995640" y="119700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 nebo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čitateli je výraz, který bude při dosazení jakéhokoliv reálného čísla kla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y daná nerovnost platila, musí výraz ve jmenovateli být záporný (roven nule být nemůž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e je právě ve jmenovatel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5219640" y="4365720"/>
                <a:ext cx="2144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Šipka doprava 21"/>
          <p:cNvSpPr/>
          <p:nvPr/>
        </p:nvSpPr>
        <p:spPr>
          <a:xfrm>
            <a:off x="3924360" y="4437000"/>
            <a:ext cx="863640" cy="360360"/>
          </a:xfrm>
          <a:prstGeom prst="rightArrow">
            <a:avLst>
              <a:gd name="adj1" fmla="val 50000"/>
              <a:gd name="adj2" fmla="val 5000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900000" y="1773360"/>
                <a:ext cx="2144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68360" y="5084640"/>
                <a:ext cx="3575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4643280" y="1268280"/>
                <a:ext cx="1482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2"/>
              <p:cNvSpPr txBox="1"/>
              <p:nvPr/>
            </p:nvSpPr>
            <p:spPr>
              <a:xfrm>
                <a:off x="7164360" y="907920"/>
                <a:ext cx="89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7"/>
              <p:cNvSpPr txBox="1"/>
              <p:nvPr/>
            </p:nvSpPr>
            <p:spPr>
              <a:xfrm>
                <a:off x="7093080" y="1413000"/>
                <a:ext cx="128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ovéPole 15"/>
          <p:cNvSpPr/>
          <p:nvPr/>
        </p:nvSpPr>
        <p:spPr>
          <a:xfrm>
            <a:off x="539640" y="112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íme následující nerov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1042920" y="3860640"/>
                <a:ext cx="2144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ovéPole 9"/>
          <p:cNvSpPr/>
          <p:nvPr/>
        </p:nvSpPr>
        <p:spPr>
          <a:xfrm>
            <a:off x="395280" y="2781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9"/>
          <p:cNvSpPr/>
          <p:nvPr/>
        </p:nvSpPr>
        <p:spPr>
          <a:xfrm>
            <a:off x="4211640" y="1125360"/>
            <a:ext cx="0" cy="532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20" descr="osy a parabola 01.png"/>
          <p:cNvPicPr/>
          <p:nvPr/>
        </p:nvPicPr>
        <p:blipFill>
          <a:blip r:embed="rId1"/>
          <a:stretch/>
        </p:blipFill>
        <p:spPr>
          <a:xfrm>
            <a:off x="4500720" y="2565360"/>
            <a:ext cx="2074680" cy="1981080"/>
          </a:xfrm>
          <a:prstGeom prst="rect">
            <a:avLst/>
          </a:prstGeom>
          <a:ln w="0">
            <a:noFill/>
          </a:ln>
        </p:spPr>
      </p:pic>
      <p:sp>
        <p:nvSpPr>
          <p:cNvPr id="211" name="TextovéPole 9"/>
          <p:cNvSpPr/>
          <p:nvPr/>
        </p:nvSpPr>
        <p:spPr>
          <a:xfrm>
            <a:off x="6659640" y="2565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372360" y="5157720"/>
                <a:ext cx="21351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TextovéPole 9"/>
          <p:cNvSpPr/>
          <p:nvPr/>
        </p:nvSpPr>
        <p:spPr>
          <a:xfrm>
            <a:off x="464328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1068480" y="1413000"/>
                <a:ext cx="2039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ovéPole 15"/>
          <p:cNvSpPr/>
          <p:nvPr/>
        </p:nvSpPr>
        <p:spPr>
          <a:xfrm>
            <a:off x="684360" y="32846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íme následující nerov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971640" y="3789360"/>
                <a:ext cx="19526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ovéPole 15"/>
          <p:cNvSpPr/>
          <p:nvPr/>
        </p:nvSpPr>
        <p:spPr>
          <a:xfrm>
            <a:off x="3995640" y="90792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jmenovateli je výraz, který je kla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y daná nerovnost platila, musí výraz v čitateli být zápor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611280" y="6021360"/>
                <a:ext cx="3108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TextovéPole 9"/>
          <p:cNvSpPr/>
          <p:nvPr/>
        </p:nvSpPr>
        <p:spPr>
          <a:xfrm>
            <a:off x="468360" y="4508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042920" y="5445000"/>
                <a:ext cx="19526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Přímá spojovací čára 20"/>
          <p:cNvSpPr/>
          <p:nvPr/>
        </p:nvSpPr>
        <p:spPr>
          <a:xfrm>
            <a:off x="4211640" y="306864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rázek 14" descr="osy a parabola 04.png"/>
          <p:cNvPicPr/>
          <p:nvPr/>
        </p:nvPicPr>
        <p:blipFill>
          <a:blip r:embed="rId1"/>
          <a:stretch/>
        </p:blipFill>
        <p:spPr>
          <a:xfrm>
            <a:off x="4356000" y="3068640"/>
            <a:ext cx="1930680" cy="165564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9"/>
          <p:cNvSpPr/>
          <p:nvPr/>
        </p:nvSpPr>
        <p:spPr>
          <a:xfrm>
            <a:off x="6443640" y="306864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Všechny body grafu jsou nad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ovéPole 9"/>
          <p:cNvSpPr/>
          <p:nvPr/>
        </p:nvSpPr>
        <p:spPr>
          <a:xfrm>
            <a:off x="4572000" y="4869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á kvadratická nerovnice nemá řešení. Nenalezli jsme žádné číslo, při jehož dosazení by byl výraz v čitateli zápor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6948360" y="6021360"/>
                <a:ext cx="124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TextovéPole 9"/>
          <p:cNvSpPr/>
          <p:nvPr/>
        </p:nvSpPr>
        <p:spPr>
          <a:xfrm>
            <a:off x="478800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116000" y="2060640"/>
                <a:ext cx="1928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ovéPole 15"/>
          <p:cNvSpPr/>
          <p:nvPr/>
        </p:nvSpPr>
        <p:spPr>
          <a:xfrm>
            <a:off x="3995640" y="162864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čitateli je kladné číslo: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je jmenovateli je také kladný, ať dosadíme jakékoliv reálné číslo (zřejmé na pohled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1"/>
              <p:cNvSpPr txBox="1"/>
              <p:nvPr/>
            </p:nvSpPr>
            <p:spPr>
              <a:xfrm>
                <a:off x="5580000" y="566100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ovéPole 9"/>
          <p:cNvSpPr/>
          <p:nvPr/>
        </p:nvSpPr>
        <p:spPr>
          <a:xfrm>
            <a:off x="3492360" y="5805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13"/>
          <p:cNvSpPr/>
          <p:nvPr/>
        </p:nvSpPr>
        <p:spPr>
          <a:xfrm>
            <a:off x="357120" y="228600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Lineární rovnice a nerovnice – Řešení nerovnic metodou dělení definičního oboru – Příklady“, kde vyřešte Př.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nerovnic v podílovém tva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Z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676440" y="1700280"/>
                <a:ext cx="14554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340000" y="1916280"/>
                <a:ext cx="501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5"/>
          <p:cNvSpPr/>
          <p:nvPr/>
        </p:nvSpPr>
        <p:spPr>
          <a:xfrm>
            <a:off x="3924360" y="1557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ici nejdříve upravíme tak, aby na pravé straně bylo číslo n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evé straně pak provedeme úpravy, aby se tam vyskytoval pouze zlo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5594400" y="5084640"/>
                <a:ext cx="1896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ovéPole 15"/>
          <p:cNvSpPr/>
          <p:nvPr/>
        </p:nvSpPr>
        <p:spPr>
          <a:xfrm>
            <a:off x="5003640" y="429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to nerovnici v podílovém tvaru budeme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611280" y="2708280"/>
                <a:ext cx="1706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468360" y="3789360"/>
                <a:ext cx="2584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611280" y="5013360"/>
                <a:ext cx="2259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755640" y="1413000"/>
                <a:ext cx="16765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"/>
              <p:cNvSpPr txBox="1"/>
              <p:nvPr/>
            </p:nvSpPr>
            <p:spPr>
              <a:xfrm>
                <a:off x="3276720" y="170028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ovéPole 15"/>
          <p:cNvSpPr/>
          <p:nvPr/>
        </p:nvSpPr>
        <p:spPr>
          <a:xfrm>
            <a:off x="3132000" y="9079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5651640" y="1413000"/>
                <a:ext cx="1047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Šipka doprava 16"/>
          <p:cNvSpPr/>
          <p:nvPr/>
        </p:nvSpPr>
        <p:spPr>
          <a:xfrm>
            <a:off x="4932360" y="177336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18"/>
          <p:cNvSpPr/>
          <p:nvPr/>
        </p:nvSpPr>
        <p:spPr>
          <a:xfrm>
            <a:off x="395280" y="2997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nulové body rozdělí množinu reálných čísel na t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50920" y="3716280"/>
          <a:ext cx="5545440" cy="2879640"/>
        </p:xfrm>
        <a:graphic>
          <a:graphicData uri="http://schemas.openxmlformats.org/drawingml/2006/table">
            <a:tbl>
              <a:tblPr/>
              <a:tblGrid>
                <a:gridCol w="1359000"/>
                <a:gridCol w="1378080"/>
                <a:gridCol w="1511280"/>
                <a:gridCol w="129708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308320" y="4581360"/>
                <a:ext cx="761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2308320" y="5732640"/>
                <a:ext cx="811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3564000" y="3789360"/>
                <a:ext cx="1158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6372360" y="3716280"/>
                <a:ext cx="1131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2349360" y="5157720"/>
                <a:ext cx="763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3276720" y="2421000"/>
                <a:ext cx="1320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Šipka doprava 20"/>
          <p:cNvSpPr/>
          <p:nvPr/>
        </p:nvSpPr>
        <p:spPr>
          <a:xfrm>
            <a:off x="5003640" y="2492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24360" y="2205000"/>
                <a:ext cx="1046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TextovéPole 13"/>
          <p:cNvSpPr/>
          <p:nvPr/>
        </p:nvSpPr>
        <p:spPr>
          <a:xfrm>
            <a:off x="7631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Přímá spojovací šipka 24"/>
          <p:cNvCxnSpPr>
            <a:stCxn id="80" idx="1"/>
          </p:cNvCxnSpPr>
          <p:nvPr/>
        </p:nvCxnSpPr>
        <p:spPr>
          <a:xfrm flipH="1" flipV="1">
            <a:off x="6911640" y="1915560"/>
            <a:ext cx="720000" cy="11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Přímá spojovací šipka 26"/>
          <p:cNvCxnSpPr/>
          <p:nvPr/>
        </p:nvCxnSpPr>
        <p:spPr>
          <a:xfrm flipH="1">
            <a:off x="7019280" y="2205000"/>
            <a:ext cx="64836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4932360" y="3716280"/>
                <a:ext cx="1233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Elipsa 23"/>
          <p:cNvSpPr/>
          <p:nvPr/>
        </p:nvSpPr>
        <p:spPr>
          <a:xfrm>
            <a:off x="5292720" y="5877000"/>
            <a:ext cx="43164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 nebo ROVEN nule. V tabulce hledáme intervaly, ve kterých je daný výraz ZÁPORNÝ. Označeny jsou znaménkem MÍN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3419640" y="3068640"/>
                <a:ext cx="1215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ovéPole 13"/>
          <p:cNvSpPr/>
          <p:nvPr/>
        </p:nvSpPr>
        <p:spPr>
          <a:xfrm>
            <a:off x="5508720" y="32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apomínejme na podmín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7524720" y="3213000"/>
                <a:ext cx="960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Obdélník 8"/>
          <p:cNvSpPr/>
          <p:nvPr/>
        </p:nvSpPr>
        <p:spPr>
          <a:xfrm>
            <a:off x="250920" y="270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bychom nerovnici řešili v množině reálných čísel, byl by výsledný interval následu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10"/>
          <p:cNvSpPr/>
          <p:nvPr/>
        </p:nvSpPr>
        <p:spPr>
          <a:xfrm>
            <a:off x="395280" y="4797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likož jsme měli nerovnici řešit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nožině celých čísel), bude řešením pouze číslo 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3708360" y="5589720"/>
                <a:ext cx="191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641520" y="1379520"/>
                <a:ext cx="1906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6"/>
              <p:cNvSpPr txBox="1"/>
              <p:nvPr/>
            </p:nvSpPr>
            <p:spPr>
              <a:xfrm>
                <a:off x="3492360" y="2205000"/>
                <a:ext cx="771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ovéPole 15"/>
          <p:cNvSpPr/>
          <p:nvPr/>
        </p:nvSpPr>
        <p:spPr>
          <a:xfrm>
            <a:off x="3203640" y="98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3330720" y="314172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Šipka doprava 20"/>
          <p:cNvSpPr/>
          <p:nvPr/>
        </p:nvSpPr>
        <p:spPr>
          <a:xfrm>
            <a:off x="500364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5778360" y="3157560"/>
                <a:ext cx="936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ovéPole 13"/>
          <p:cNvSpPr/>
          <p:nvPr/>
        </p:nvSpPr>
        <p:spPr>
          <a:xfrm>
            <a:off x="7631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Přímá spojovací šipka 24"/>
          <p:cNvCxnSpPr/>
          <p:nvPr/>
        </p:nvCxnSpPr>
        <p:spPr>
          <a:xfrm flipH="1">
            <a:off x="5363640" y="2060640"/>
            <a:ext cx="2123280" cy="31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Přímá spojovací šipka 26"/>
          <p:cNvCxnSpPr/>
          <p:nvPr/>
        </p:nvCxnSpPr>
        <p:spPr>
          <a:xfrm flipH="1">
            <a:off x="6948000" y="2205000"/>
            <a:ext cx="720000" cy="115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ovéPole 13"/>
          <p:cNvSpPr/>
          <p:nvPr/>
        </p:nvSpPr>
        <p:spPr>
          <a:xfrm>
            <a:off x="324000" y="98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539640" y="2852640"/>
                <a:ext cx="20052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Přímá spojovací čára 28"/>
          <p:cNvSpPr/>
          <p:nvPr/>
        </p:nvSpPr>
        <p:spPr>
          <a:xfrm>
            <a:off x="2916360" y="981000"/>
            <a:ext cx="0" cy="518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3348000" y="429264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5"/>
              <p:cNvSpPr txBox="1"/>
              <p:nvPr/>
            </p:nvSpPr>
            <p:spPr>
              <a:xfrm>
                <a:off x="5796000" y="4292640"/>
                <a:ext cx="936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Šipka doprava 29"/>
          <p:cNvSpPr/>
          <p:nvPr/>
        </p:nvSpPr>
        <p:spPr>
          <a:xfrm>
            <a:off x="5003640" y="4437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Přímá spojovací šipka 33"/>
          <p:cNvCxnSpPr/>
          <p:nvPr/>
        </p:nvCxnSpPr>
        <p:spPr>
          <a:xfrm flipH="1">
            <a:off x="6947640" y="2349000"/>
            <a:ext cx="1080360" cy="18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32000" y="1989000"/>
          <a:ext cx="7307280" cy="4032360"/>
        </p:xfrm>
        <a:graphic>
          <a:graphicData uri="http://schemas.openxmlformats.org/drawingml/2006/table">
            <a:tbl>
              <a:tblPr/>
              <a:tblGrid>
                <a:gridCol w="1407960"/>
                <a:gridCol w="1425600"/>
                <a:gridCol w="1565280"/>
                <a:gridCol w="1579680"/>
                <a:gridCol w="132876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876320" y="2889360"/>
                <a:ext cx="3193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4"/>
              <p:cNvSpPr txBox="1"/>
              <p:nvPr/>
            </p:nvSpPr>
            <p:spPr>
              <a:xfrm>
                <a:off x="1547640" y="5157720"/>
                <a:ext cx="1057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908440" y="2174760"/>
                <a:ext cx="1028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3"/>
              <p:cNvSpPr txBox="1"/>
              <p:nvPr/>
            </p:nvSpPr>
            <p:spPr>
              <a:xfrm>
                <a:off x="7648560" y="2197080"/>
                <a:ext cx="738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7"/>
              <p:cNvSpPr txBox="1"/>
              <p:nvPr/>
            </p:nvSpPr>
            <p:spPr>
              <a:xfrm>
                <a:off x="1596960" y="3351240"/>
                <a:ext cx="814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2"/>
              <p:cNvSpPr txBox="1"/>
              <p:nvPr/>
            </p:nvSpPr>
            <p:spPr>
              <a:xfrm>
                <a:off x="4427640" y="2205000"/>
                <a:ext cx="1027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Elipsa 23"/>
          <p:cNvSpPr/>
          <p:nvPr/>
        </p:nvSpPr>
        <p:spPr>
          <a:xfrm>
            <a:off x="3203640" y="5300640"/>
            <a:ext cx="43164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18"/>
          <p:cNvSpPr/>
          <p:nvPr/>
        </p:nvSpPr>
        <p:spPr>
          <a:xfrm>
            <a:off x="468360" y="981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čty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6186600" y="2205000"/>
                <a:ext cx="822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1835280" y="4005360"/>
                <a:ext cx="245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1778040" y="4508640"/>
                <a:ext cx="784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Elipsa 28"/>
          <p:cNvSpPr/>
          <p:nvPr/>
        </p:nvSpPr>
        <p:spPr>
          <a:xfrm>
            <a:off x="6300720" y="5300640"/>
            <a:ext cx="43200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ipsa 29"/>
          <p:cNvSpPr/>
          <p:nvPr/>
        </p:nvSpPr>
        <p:spPr>
          <a:xfrm>
            <a:off x="7740720" y="5300640"/>
            <a:ext cx="43164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 nebo ROVEN nule. V tabulce hledáme intervaly, ve kterých je daný výraz KLADNÝ. Označeny jsou znaménkem PLUS. Řešením bude sjednocení tří interva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3009960" y="5035680"/>
                <a:ext cx="505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ovéPole 9"/>
          <p:cNvSpPr/>
          <p:nvPr/>
        </p:nvSpPr>
        <p:spPr>
          <a:xfrm>
            <a:off x="111600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13"/>
          <p:cNvSpPr/>
          <p:nvPr/>
        </p:nvSpPr>
        <p:spPr>
          <a:xfrm>
            <a:off x="395280" y="263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0 a -5 v řešení zahrnuta nejsou, neboť ve jmenovateli nesmí být nula. Platí následující podmín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905360" y="3284640"/>
                <a:ext cx="11192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276720" y="3284640"/>
                <a:ext cx="920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Obdélník 8"/>
          <p:cNvSpPr/>
          <p:nvPr/>
        </p:nvSpPr>
        <p:spPr>
          <a:xfrm>
            <a:off x="539640" y="3933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řešení musíme zahrnout číslo -2, protože v zadání je neostrá nerov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7:32Z</dcterms:modified>
  <cp:revision>462</cp:revision>
  <dc:subject/>
  <dc:title>Snímek 1</dc:title>
</cp:coreProperties>
</file>