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AA2-F001-4DFD-AEE1-8C992FC5AE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B2D-CF4C-4EDC-B966-DBFEABD508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302-174C-4EAE-8DB8-86E628A8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F8-4684-4E06-A73A-C8B2F367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A23-3704-44A3-B102-24CF3B70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A16-AB3E-4C75-ACFE-258BE5D9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CD9-F289-4B5B-A569-70CF385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AEE-81B6-4C7E-8694-C9204CA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2F0-CBAB-4210-BF4B-E913565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CCE-2411-4EA6-97FD-35347F4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1A9-D276-4156-8621-618CA323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0EF-33C3-48C0-8A0E-1915381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5D4-6C74-4E4C-B16B-2A0AE68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6E2-FA93-4622-AA11-BC57E40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076-DC23-4604-8A69-A2B393BF692E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ice s fakto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10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7291440" y="5950080"/>
                <a:ext cx="1258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611280" y="1773360"/>
                <a:ext cx="305748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7020000" y="177336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5" name="Obrázek 19" descr="fajfka.png"/>
          <p:cNvPicPr/>
          <p:nvPr/>
        </p:nvPicPr>
        <p:blipFill>
          <a:blip r:embed="rId1"/>
          <a:stretch/>
        </p:blipFill>
        <p:spPr>
          <a:xfrm>
            <a:off x="8101080" y="386064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13"/>
          <p:cNvSpPr/>
          <p:nvPr/>
        </p:nvSpPr>
        <p:spPr>
          <a:xfrm>
            <a:off x="7812000" y="4292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7093080" y="2924280"/>
                <a:ext cx="979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1332000" y="5229360"/>
                <a:ext cx="14414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987640" y="5229360"/>
                <a:ext cx="574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4788000" y="4149720"/>
                <a:ext cx="1525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611280" y="2852640"/>
                <a:ext cx="4787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7308720" y="3573360"/>
                <a:ext cx="777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539640" y="4149720"/>
                <a:ext cx="41515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Přímá spojovací čára 20"/>
          <p:cNvSpPr/>
          <p:nvPr/>
        </p:nvSpPr>
        <p:spPr>
          <a:xfrm>
            <a:off x="6372360" y="1413000"/>
            <a:ext cx="0" cy="49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4"/>
              <p:cNvSpPr txBox="1"/>
              <p:nvPr/>
            </p:nvSpPr>
            <p:spPr>
              <a:xfrm>
                <a:off x="8317080" y="2852640"/>
                <a:ext cx="5173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ovéPole 9"/>
          <p:cNvSpPr/>
          <p:nvPr/>
        </p:nvSpPr>
        <p:spPr>
          <a:xfrm>
            <a:off x="7920000" y="191628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točíme strany rov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7275600" y="5950080"/>
                <a:ext cx="1292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1" name="Obrázek 19" descr="fajfka.png"/>
          <p:cNvPicPr/>
          <p:nvPr/>
        </p:nvPicPr>
        <p:blipFill>
          <a:blip r:embed="rId1"/>
          <a:stretch/>
        </p:blipFill>
        <p:spPr>
          <a:xfrm>
            <a:off x="7020000" y="386064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13"/>
          <p:cNvSpPr/>
          <p:nvPr/>
        </p:nvSpPr>
        <p:spPr>
          <a:xfrm>
            <a:off x="7740720" y="364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433520" y="5084640"/>
                <a:ext cx="30258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657680" y="5157720"/>
                <a:ext cx="604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1908000" y="5877000"/>
                <a:ext cx="20750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Přímá spojovací čára 21"/>
          <p:cNvSpPr/>
          <p:nvPr/>
        </p:nvSpPr>
        <p:spPr>
          <a:xfrm>
            <a:off x="5651640" y="1557360"/>
            <a:ext cx="0" cy="496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710320" y="1700280"/>
                <a:ext cx="32655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6227640" y="2421000"/>
                <a:ext cx="1892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983200" y="3645000"/>
                <a:ext cx="895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5867280" y="4437000"/>
                <a:ext cx="1125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Obrázek 20" descr="krizek.png"/>
          <p:cNvPicPr/>
          <p:nvPr/>
        </p:nvPicPr>
        <p:blipFill>
          <a:blip r:embed="rId2"/>
          <a:stretch/>
        </p:blipFill>
        <p:spPr>
          <a:xfrm>
            <a:off x="7093080" y="4724280"/>
            <a:ext cx="399960" cy="28908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13"/>
          <p:cNvSpPr/>
          <p:nvPr/>
        </p:nvSpPr>
        <p:spPr>
          <a:xfrm>
            <a:off x="766764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1476360" y="1773360"/>
                <a:ext cx="27399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236520" y="2852640"/>
                <a:ext cx="5364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539640" y="4005360"/>
                <a:ext cx="4527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2786040" y="4941720"/>
                <a:ext cx="3573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6443640" y="6021360"/>
                <a:ext cx="488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0"/>
              <p:cNvSpPr txBox="1"/>
              <p:nvPr/>
            </p:nvSpPr>
            <p:spPr>
              <a:xfrm>
                <a:off x="2843280" y="1700280"/>
                <a:ext cx="28843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2124000" y="2852640"/>
                <a:ext cx="46436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3059280" y="4005360"/>
                <a:ext cx="2912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6227640" y="4149720"/>
                <a:ext cx="1209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3132000" y="5805360"/>
                <a:ext cx="3170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7451640" y="595008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98" name="Obrázek 19" descr="fajfka.png"/>
          <p:cNvPicPr/>
          <p:nvPr/>
        </p:nvPicPr>
        <p:blipFill>
          <a:blip r:embed="rId1"/>
          <a:stretch/>
        </p:blipFill>
        <p:spPr>
          <a:xfrm>
            <a:off x="5003640" y="5013360"/>
            <a:ext cx="432000" cy="3096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3"/>
          <p:cNvSpPr/>
          <p:nvPr/>
        </p:nvSpPr>
        <p:spPr>
          <a:xfrm>
            <a:off x="5435640" y="479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39640" y="4149720"/>
                <a:ext cx="5173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2"/>
              <p:cNvSpPr txBox="1"/>
              <p:nvPr/>
            </p:nvSpPr>
            <p:spPr>
              <a:xfrm>
                <a:off x="826920" y="5157720"/>
                <a:ext cx="2027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3"/>
              <p:cNvSpPr txBox="1"/>
              <p:nvPr/>
            </p:nvSpPr>
            <p:spPr>
              <a:xfrm>
                <a:off x="3924360" y="4869000"/>
                <a:ext cx="895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4"/>
              <p:cNvSpPr txBox="1"/>
              <p:nvPr/>
            </p:nvSpPr>
            <p:spPr>
              <a:xfrm>
                <a:off x="3276720" y="5661000"/>
                <a:ext cx="17031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Obrázek 20" descr="krizek.png"/>
          <p:cNvPicPr/>
          <p:nvPr/>
        </p:nvPicPr>
        <p:blipFill>
          <a:blip r:embed="rId2"/>
          <a:stretch/>
        </p:blipFill>
        <p:spPr>
          <a:xfrm>
            <a:off x="5148360" y="6165720"/>
            <a:ext cx="399960" cy="28764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13"/>
          <p:cNvSpPr/>
          <p:nvPr/>
        </p:nvSpPr>
        <p:spPr>
          <a:xfrm>
            <a:off x="5508720" y="587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2195640" y="1700280"/>
                <a:ext cx="3573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2124000" y="2565360"/>
                <a:ext cx="3341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5724360" y="2637000"/>
                <a:ext cx="15274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7"/>
              <p:cNvSpPr txBox="1"/>
              <p:nvPr/>
            </p:nvSpPr>
            <p:spPr>
              <a:xfrm>
                <a:off x="2050920" y="3357720"/>
                <a:ext cx="25639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900000" y="1916280"/>
                <a:ext cx="35766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1547640" y="2637000"/>
                <a:ext cx="2133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1258920" y="3933720"/>
                <a:ext cx="2968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1835280" y="5373720"/>
                <a:ext cx="19605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Přímá spojovací čára 14"/>
          <p:cNvSpPr/>
          <p:nvPr/>
        </p:nvSpPr>
        <p:spPr>
          <a:xfrm>
            <a:off x="5003640" y="1484280"/>
            <a:ext cx="0" cy="511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2"/>
              <p:cNvSpPr txBox="1"/>
              <p:nvPr/>
            </p:nvSpPr>
            <p:spPr>
              <a:xfrm>
                <a:off x="5940360" y="1557360"/>
                <a:ext cx="1527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3"/>
              <p:cNvSpPr txBox="1"/>
              <p:nvPr/>
            </p:nvSpPr>
            <p:spPr>
              <a:xfrm>
                <a:off x="6170760" y="2449440"/>
                <a:ext cx="1209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7596360" y="2421000"/>
                <a:ext cx="633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5"/>
              <p:cNvSpPr txBox="1"/>
              <p:nvPr/>
            </p:nvSpPr>
            <p:spPr>
              <a:xfrm>
                <a:off x="6443640" y="328464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Obrázek 19" descr="fajfka.png"/>
          <p:cNvPicPr/>
          <p:nvPr/>
        </p:nvPicPr>
        <p:blipFill>
          <a:blip r:embed="rId1"/>
          <a:stretch/>
        </p:blipFill>
        <p:spPr>
          <a:xfrm>
            <a:off x="7524720" y="3573360"/>
            <a:ext cx="432000" cy="309600"/>
          </a:xfrm>
          <a:prstGeom prst="rect">
            <a:avLst/>
          </a:prstGeom>
          <a:ln w="0">
            <a:noFill/>
          </a:ln>
        </p:spPr>
      </p:pic>
      <p:sp>
        <p:nvSpPr>
          <p:cNvPr id="222" name="TextovéPole 13"/>
          <p:cNvSpPr/>
          <p:nvPr/>
        </p:nvSpPr>
        <p:spPr>
          <a:xfrm>
            <a:off x="7812000" y="314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7332840" y="5950080"/>
                <a:ext cx="1530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698400" y="1916280"/>
                <a:ext cx="3979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1461960" y="2637000"/>
                <a:ext cx="230688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057320" y="3933720"/>
                <a:ext cx="33717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763640" y="5373720"/>
                <a:ext cx="2104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Přímá spojovací čára 14"/>
          <p:cNvSpPr/>
          <p:nvPr/>
        </p:nvSpPr>
        <p:spPr>
          <a:xfrm>
            <a:off x="5219640" y="1484280"/>
            <a:ext cx="0" cy="511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854680" y="1557360"/>
                <a:ext cx="1700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7"/>
              <p:cNvSpPr txBox="1"/>
              <p:nvPr/>
            </p:nvSpPr>
            <p:spPr>
              <a:xfrm>
                <a:off x="5897520" y="2449440"/>
                <a:ext cx="1757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7596360" y="2421000"/>
                <a:ext cx="776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6443640" y="328464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6" name="Obrázek 19" descr="fajfka.png"/>
          <p:cNvPicPr/>
          <p:nvPr/>
        </p:nvPicPr>
        <p:blipFill>
          <a:blip r:embed="rId1"/>
          <a:stretch/>
        </p:blipFill>
        <p:spPr>
          <a:xfrm>
            <a:off x="7524720" y="3573360"/>
            <a:ext cx="432000" cy="30960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13"/>
          <p:cNvSpPr/>
          <p:nvPr/>
        </p:nvSpPr>
        <p:spPr>
          <a:xfrm>
            <a:off x="7812000" y="314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7348680" y="5950080"/>
                <a:ext cx="149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53960" y="1916280"/>
                <a:ext cx="44704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116000" y="2637000"/>
                <a:ext cx="29703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Přímá spojovací čára 14"/>
          <p:cNvSpPr/>
          <p:nvPr/>
        </p:nvSpPr>
        <p:spPr>
          <a:xfrm>
            <a:off x="5219640" y="1484280"/>
            <a:ext cx="0" cy="511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6012000" y="1557360"/>
                <a:ext cx="1441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6012000" y="2421000"/>
                <a:ext cx="1900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7596360" y="1628640"/>
                <a:ext cx="12078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767560" y="3962520"/>
                <a:ext cx="892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9" name="Obrázek 19" descr="fajfka.png"/>
          <p:cNvPicPr/>
          <p:nvPr/>
        </p:nvPicPr>
        <p:blipFill>
          <a:blip r:embed="rId1"/>
          <a:stretch/>
        </p:blipFill>
        <p:spPr>
          <a:xfrm>
            <a:off x="6732720" y="414972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250" name="TextovéPole 13"/>
          <p:cNvSpPr/>
          <p:nvPr/>
        </p:nvSpPr>
        <p:spPr>
          <a:xfrm>
            <a:off x="7524720" y="39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7450200" y="5950080"/>
                <a:ext cx="1292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1"/>
              <p:cNvSpPr txBox="1"/>
              <p:nvPr/>
            </p:nvSpPr>
            <p:spPr>
              <a:xfrm>
                <a:off x="684360" y="4005360"/>
                <a:ext cx="38066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2"/>
              <p:cNvSpPr txBox="1"/>
              <p:nvPr/>
            </p:nvSpPr>
            <p:spPr>
              <a:xfrm>
                <a:off x="1432080" y="5375160"/>
                <a:ext cx="2595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5796000" y="3213000"/>
                <a:ext cx="2332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5695920" y="4653000"/>
                <a:ext cx="1093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7" name="Obrázek 20" descr="krizek.png"/>
          <p:cNvPicPr/>
          <p:nvPr/>
        </p:nvPicPr>
        <p:blipFill>
          <a:blip r:embed="rId2"/>
          <a:stretch/>
        </p:blipFill>
        <p:spPr>
          <a:xfrm>
            <a:off x="6804000" y="4869000"/>
            <a:ext cx="399960" cy="28728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13"/>
          <p:cNvSpPr/>
          <p:nvPr/>
        </p:nvSpPr>
        <p:spPr>
          <a:xfrm>
            <a:off x="752472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ovéPole 13"/>
          <p:cNvSpPr/>
          <p:nvPr/>
        </p:nvSpPr>
        <p:spPr>
          <a:xfrm>
            <a:off x="324000" y="1341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kněte na následující odkaz a na straně 57 vyřešte Příklad 4, části a) a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3"/>
          <p:cNvSpPr/>
          <p:nvPr/>
        </p:nvSpPr>
        <p:spPr>
          <a:xfrm>
            <a:off x="1258920" y="2205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distancne.obaka-orlova.cz/PDF/MATIV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13"/>
          <p:cNvSpPr/>
          <p:nvPr/>
        </p:nvSpPr>
        <p:spPr>
          <a:xfrm>
            <a:off x="324000" y="2924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ále na straně 58 vyřešte v Úloze 2 část 2.3. Řešení naleznete na straně 7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13"/>
          <p:cNvSpPr/>
          <p:nvPr/>
        </p:nvSpPr>
        <p:spPr>
          <a:xfrm>
            <a:off x="32400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í www.google.cz zkuste vyhledat další rov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faktoriály a vyřešte 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: Otevřená encyklopedie: Faktoriál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[online]. c2012 [citováno 26. 09. 2012]. Dostupný z WWW: http://cs.wikipedia.org/w/index.php?title=Faktori%C3%A1l&amp;oldid=83699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ka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Informatika v ekonomice v distanční form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07 [cit. 2012-09-26]. Dostupné z: http://distancne.obaka-orlova.cz/mat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rovnic s faktoriá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95280" y="242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79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7273800" y="595008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1835280" y="2781360"/>
                <a:ext cx="27381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6300720" y="2349360"/>
                <a:ext cx="1614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8000" y="5229360"/>
                <a:ext cx="3113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Přímá spojovací čára 14"/>
          <p:cNvSpPr/>
          <p:nvPr/>
        </p:nvSpPr>
        <p:spPr>
          <a:xfrm>
            <a:off x="5508720" y="1341360"/>
            <a:ext cx="0" cy="504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6156360" y="3068640"/>
                <a:ext cx="776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Obrázek 19" descr="fajfka.png"/>
          <p:cNvPicPr/>
          <p:nvPr/>
        </p:nvPicPr>
        <p:blipFill>
          <a:blip r:embed="rId1"/>
          <a:stretch/>
        </p:blipFill>
        <p:spPr>
          <a:xfrm>
            <a:off x="7093080" y="306864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13"/>
          <p:cNvSpPr/>
          <p:nvPr/>
        </p:nvSpPr>
        <p:spPr>
          <a:xfrm>
            <a:off x="7740720" y="2924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6227640" y="1700280"/>
                <a:ext cx="1844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1547640" y="3933720"/>
                <a:ext cx="3632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ovéPole 15"/>
          <p:cNvSpPr/>
          <p:nvPr/>
        </p:nvSpPr>
        <p:spPr>
          <a:xfrm>
            <a:off x="395280" y="11970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zopakování definice faktoriálu použijte následující odkaz: http://cs.wikipedia.org/wiki/Faktori%C3%A1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9"/>
          <p:cNvSpPr/>
          <p:nvPr/>
        </p:nvSpPr>
        <p:spPr>
          <a:xfrm>
            <a:off x="579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7273800" y="595008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994040" y="1728720"/>
                <a:ext cx="2709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6084720" y="1268280"/>
                <a:ext cx="1614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417680" y="2881440"/>
                <a:ext cx="3862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332000" y="4005360"/>
                <a:ext cx="3948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Přímá spojovací čára 14"/>
          <p:cNvSpPr/>
          <p:nvPr/>
        </p:nvSpPr>
        <p:spPr>
          <a:xfrm>
            <a:off x="5651640" y="1341360"/>
            <a:ext cx="0" cy="504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997600" y="3429000"/>
                <a:ext cx="892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6012000" y="4149720"/>
                <a:ext cx="112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Obrázek 19" descr="fajfka.png"/>
          <p:cNvPicPr/>
          <p:nvPr/>
        </p:nvPicPr>
        <p:blipFill>
          <a:blip r:embed="rId1"/>
          <a:stretch/>
        </p:blipFill>
        <p:spPr>
          <a:xfrm>
            <a:off x="7020000" y="3573360"/>
            <a:ext cx="43164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0" descr="krizek.png"/>
          <p:cNvPicPr/>
          <p:nvPr/>
        </p:nvPicPr>
        <p:blipFill>
          <a:blip r:embed="rId2"/>
          <a:stretch/>
        </p:blipFill>
        <p:spPr>
          <a:xfrm>
            <a:off x="7164360" y="4437000"/>
            <a:ext cx="390600" cy="27792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13"/>
          <p:cNvSpPr/>
          <p:nvPr/>
        </p:nvSpPr>
        <p:spPr>
          <a:xfrm>
            <a:off x="7667640" y="3429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13"/>
          <p:cNvSpPr/>
          <p:nvPr/>
        </p:nvSpPr>
        <p:spPr>
          <a:xfrm>
            <a:off x="7667640" y="4221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1547640" y="5157720"/>
                <a:ext cx="3141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4859280" y="5877000"/>
                <a:ext cx="57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6027840" y="2133720"/>
                <a:ext cx="1873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3"/>
              <p:cNvSpPr txBox="1"/>
              <p:nvPr/>
            </p:nvSpPr>
            <p:spPr>
              <a:xfrm>
                <a:off x="1733400" y="5832360"/>
                <a:ext cx="2911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9"/>
          <p:cNvSpPr/>
          <p:nvPr/>
        </p:nvSpPr>
        <p:spPr>
          <a:xfrm>
            <a:off x="579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7291440" y="5950080"/>
                <a:ext cx="12571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340000" y="1700280"/>
                <a:ext cx="2017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3132000" y="6021360"/>
                <a:ext cx="951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8"/>
              <p:cNvSpPr txBox="1"/>
              <p:nvPr/>
            </p:nvSpPr>
            <p:spPr>
              <a:xfrm>
                <a:off x="1403280" y="2852640"/>
                <a:ext cx="38908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1908000" y="4005360"/>
                <a:ext cx="3314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2527200" y="5013360"/>
                <a:ext cx="2103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Přímá spojovací čára 14"/>
          <p:cNvSpPr/>
          <p:nvPr/>
        </p:nvSpPr>
        <p:spPr>
          <a:xfrm>
            <a:off x="5508720" y="1341360"/>
            <a:ext cx="0" cy="504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6084720" y="1413000"/>
                <a:ext cx="863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6084720" y="2421000"/>
                <a:ext cx="1122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Obrázek 19" descr="fajfka.png"/>
          <p:cNvPicPr/>
          <p:nvPr/>
        </p:nvPicPr>
        <p:blipFill>
          <a:blip r:embed="rId1"/>
          <a:stretch/>
        </p:blipFill>
        <p:spPr>
          <a:xfrm>
            <a:off x="7020000" y="1700280"/>
            <a:ext cx="431640" cy="309600"/>
          </a:xfrm>
          <a:prstGeom prst="rect">
            <a:avLst/>
          </a:prstGeom>
          <a:ln w="0">
            <a:noFill/>
          </a:ln>
        </p:spPr>
      </p:pic>
      <p:pic>
        <p:nvPicPr>
          <p:cNvPr id="100" name="Obrázek 20" descr="krizek.png"/>
          <p:cNvPicPr/>
          <p:nvPr/>
        </p:nvPicPr>
        <p:blipFill>
          <a:blip r:embed="rId2"/>
          <a:stretch/>
        </p:blipFill>
        <p:spPr>
          <a:xfrm>
            <a:off x="7093080" y="2852640"/>
            <a:ext cx="390240" cy="27792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3"/>
          <p:cNvSpPr/>
          <p:nvPr/>
        </p:nvSpPr>
        <p:spPr>
          <a:xfrm>
            <a:off x="752472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7451640" y="2349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2655720" y="5516640"/>
                <a:ext cx="1901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7273800" y="595008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1"/>
              <p:cNvSpPr txBox="1"/>
              <p:nvPr/>
            </p:nvSpPr>
            <p:spPr>
              <a:xfrm>
                <a:off x="3203640" y="1628640"/>
                <a:ext cx="29113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4211640" y="5013360"/>
                <a:ext cx="950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Obrázek 19" descr="fajfka.png"/>
          <p:cNvPicPr/>
          <p:nvPr/>
        </p:nvPicPr>
        <p:blipFill>
          <a:blip r:embed="rId1"/>
          <a:stretch/>
        </p:blipFill>
        <p:spPr>
          <a:xfrm>
            <a:off x="5219640" y="5805360"/>
            <a:ext cx="432000" cy="3096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13"/>
          <p:cNvSpPr/>
          <p:nvPr/>
        </p:nvSpPr>
        <p:spPr>
          <a:xfrm>
            <a:off x="5651640" y="566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4427640" y="5661000"/>
                <a:ext cx="806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484360" y="2924280"/>
                <a:ext cx="3919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708360" y="4149720"/>
                <a:ext cx="1700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5580000" y="4149720"/>
                <a:ext cx="57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7273800" y="5950080"/>
                <a:ext cx="1292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2814480" y="1873080"/>
                <a:ext cx="3691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4140360" y="4724280"/>
                <a:ext cx="1295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Obrázek 19" descr="fajfka.png"/>
          <p:cNvPicPr/>
          <p:nvPr/>
        </p:nvPicPr>
        <p:blipFill>
          <a:blip r:embed="rId1"/>
          <a:stretch/>
        </p:blipFill>
        <p:spPr>
          <a:xfrm>
            <a:off x="5292720" y="5732640"/>
            <a:ext cx="431640" cy="31104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3"/>
          <p:cNvSpPr/>
          <p:nvPr/>
        </p:nvSpPr>
        <p:spPr>
          <a:xfrm>
            <a:off x="5724360" y="551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643280" y="5373720"/>
                <a:ext cx="806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3780000" y="4076640"/>
                <a:ext cx="1671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651640" y="4724280"/>
                <a:ext cx="6332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1979640" y="2708280"/>
                <a:ext cx="4613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2382840" y="3414600"/>
                <a:ext cx="4095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6659640" y="3429000"/>
                <a:ext cx="1295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7308720" y="5950080"/>
                <a:ext cx="122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2340000" y="2133720"/>
                <a:ext cx="17874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Obrázek 19" descr="fajfka.png"/>
          <p:cNvPicPr/>
          <p:nvPr/>
        </p:nvPicPr>
        <p:blipFill>
          <a:blip r:embed="rId1"/>
          <a:stretch/>
        </p:blipFill>
        <p:spPr>
          <a:xfrm>
            <a:off x="6732720" y="3860640"/>
            <a:ext cx="431640" cy="30960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13"/>
          <p:cNvSpPr/>
          <p:nvPr/>
        </p:nvSpPr>
        <p:spPr>
          <a:xfrm>
            <a:off x="7451640" y="364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79640" y="3933720"/>
                <a:ext cx="20746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4356000" y="4005360"/>
                <a:ext cx="633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3068640"/>
                <a:ext cx="2799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4356000" y="3068640"/>
                <a:ext cx="604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x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979640" y="4941720"/>
                <a:ext cx="20746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Přímá spojovací čára 21"/>
          <p:cNvSpPr/>
          <p:nvPr/>
        </p:nvSpPr>
        <p:spPr>
          <a:xfrm>
            <a:off x="5148360" y="1557360"/>
            <a:ext cx="0" cy="496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5508720" y="1700280"/>
                <a:ext cx="3236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2"/>
              <p:cNvSpPr txBox="1"/>
              <p:nvPr/>
            </p:nvSpPr>
            <p:spPr>
              <a:xfrm>
                <a:off x="5635800" y="2421000"/>
                <a:ext cx="2130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3"/>
              <p:cNvSpPr txBox="1"/>
              <p:nvPr/>
            </p:nvSpPr>
            <p:spPr>
              <a:xfrm>
                <a:off x="5665680" y="3645000"/>
                <a:ext cx="836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4"/>
              <p:cNvSpPr txBox="1"/>
              <p:nvPr/>
            </p:nvSpPr>
            <p:spPr>
              <a:xfrm>
                <a:off x="5508720" y="4437000"/>
                <a:ext cx="1125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Obrázek 20" descr="krizek.png"/>
          <p:cNvPicPr/>
          <p:nvPr/>
        </p:nvPicPr>
        <p:blipFill>
          <a:blip r:embed="rId2"/>
          <a:stretch/>
        </p:blipFill>
        <p:spPr>
          <a:xfrm>
            <a:off x="6732720" y="4724280"/>
            <a:ext cx="388800" cy="279360"/>
          </a:xfrm>
          <a:prstGeom prst="rect">
            <a:avLst/>
          </a:prstGeom>
          <a:ln w="0">
            <a:noFill/>
          </a:ln>
        </p:spPr>
      </p:pic>
      <p:sp>
        <p:nvSpPr>
          <p:cNvPr id="148" name="TextovéPole 13"/>
          <p:cNvSpPr/>
          <p:nvPr/>
        </p:nvSpPr>
        <p:spPr>
          <a:xfrm>
            <a:off x="7380360" y="4437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e za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6:21:00Z</dcterms:modified>
  <cp:revision>378</cp:revision>
  <dc:subject/>
  <dc:title>Snímek 1</dc:title>
</cp:coreProperties>
</file>