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F7EA-7B85-4CC5-8ED9-A17716CFD1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0E2-C3F3-463B-B3D7-27147AFBBD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693-7EC5-4E51-8EAE-8541D67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0C3-B698-4516-8CA5-F0B17D5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6E8-63C5-40BD-8D15-D8756A2A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3A1-1CF2-43B8-ABF8-890C974E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3A1-17C8-4310-9361-C66D8792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926-1C7D-449D-AC72-85F122C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C47-28F8-4E6A-AA00-91B04D4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73D-2F98-476D-9677-FA797EA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F51-07BB-43AF-B30D-FE1BD740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38E-7382-404D-B633-4329C58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BD3-B518-4073-967F-FF4D76F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6B9-2E0F-4DE9-B920-60FFF78D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2B7-14CD-4646-B2C3-5B176FA7F87C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ice s absolutní hodnotou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89000" y="1773360"/>
                <a:ext cx="24004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6"/>
              <p:cNvSpPr txBox="1"/>
              <p:nvPr/>
            </p:nvSpPr>
            <p:spPr>
              <a:xfrm>
                <a:off x="1760400" y="314172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ovéPole 15"/>
          <p:cNvSpPr/>
          <p:nvPr/>
        </p:nvSpPr>
        <p:spPr>
          <a:xfrm>
            <a:off x="97164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absolutní hodnotě. Výrazy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4211640" y="3213000"/>
                <a:ext cx="938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Šipka doprava 16"/>
          <p:cNvSpPr/>
          <p:nvPr/>
        </p:nvSpPr>
        <p:spPr>
          <a:xfrm>
            <a:off x="34923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 jsou - 2 a 0.  Tyto nulové body rozdělí množinu reálných čísel na tři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819440" y="5373720"/>
                <a:ext cx="1636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6300720" y="5300640"/>
                <a:ext cx="1081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268360" y="3789360"/>
                <a:ext cx="768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4122720" y="5300640"/>
                <a:ext cx="12891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24000" y="1268280"/>
          <a:ext cx="4464000" cy="2089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096920"/>
                <a:gridCol w="1081080"/>
              </a:tblGrid>
              <a:tr h="43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2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1609560" y="1341360"/>
                <a:ext cx="935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8960" y="1773360"/>
                <a:ext cx="6620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30280" y="2492280"/>
                <a:ext cx="736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" name="TextovéPole 19"/>
          <p:cNvSpPr/>
          <p:nvPr/>
        </p:nvSpPr>
        <p:spPr>
          <a:xfrm>
            <a:off x="5148360" y="119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5541840" y="1125360"/>
                <a:ext cx="1650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5508720" y="1519200"/>
                <a:ext cx="2289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638680" y="3573360"/>
                <a:ext cx="712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ovéPole 26"/>
          <p:cNvSpPr/>
          <p:nvPr/>
        </p:nvSpPr>
        <p:spPr>
          <a:xfrm>
            <a:off x="521964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5"/>
              <p:cNvSpPr txBox="1"/>
              <p:nvPr/>
            </p:nvSpPr>
            <p:spPr>
              <a:xfrm>
                <a:off x="5724360" y="4581360"/>
                <a:ext cx="1676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ovéPole 9"/>
          <p:cNvSpPr/>
          <p:nvPr/>
        </p:nvSpPr>
        <p:spPr>
          <a:xfrm>
            <a:off x="5508720" y="623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7236000" y="6093000"/>
                <a:ext cx="1152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3"/>
              <p:cNvSpPr txBox="1"/>
              <p:nvPr/>
            </p:nvSpPr>
            <p:spPr>
              <a:xfrm>
                <a:off x="3924360" y="1341360"/>
                <a:ext cx="585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6"/>
              <p:cNvSpPr txBox="1"/>
              <p:nvPr/>
            </p:nvSpPr>
            <p:spPr>
              <a:xfrm>
                <a:off x="5580000" y="3141720"/>
                <a:ext cx="2062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8"/>
              <p:cNvSpPr txBox="1"/>
              <p:nvPr/>
            </p:nvSpPr>
            <p:spPr>
              <a:xfrm>
                <a:off x="5635800" y="1989000"/>
                <a:ext cx="104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7"/>
              <p:cNvSpPr txBox="1"/>
              <p:nvPr/>
            </p:nvSpPr>
            <p:spPr>
              <a:xfrm>
                <a:off x="7451640" y="1989000"/>
                <a:ext cx="403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2784600" y="1341360"/>
                <a:ext cx="703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1"/>
              <p:cNvSpPr txBox="1"/>
              <p:nvPr/>
            </p:nvSpPr>
            <p:spPr>
              <a:xfrm>
                <a:off x="806400" y="2170080"/>
                <a:ext cx="246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2"/>
              <p:cNvSpPr txBox="1"/>
              <p:nvPr/>
            </p:nvSpPr>
            <p:spPr>
              <a:xfrm>
                <a:off x="747720" y="2924280"/>
                <a:ext cx="31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1582560" y="2565360"/>
                <a:ext cx="858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4"/>
              <p:cNvSpPr txBox="1"/>
              <p:nvPr/>
            </p:nvSpPr>
            <p:spPr>
              <a:xfrm>
                <a:off x="2797200" y="2565360"/>
                <a:ext cx="663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5"/>
              <p:cNvSpPr txBox="1"/>
              <p:nvPr/>
            </p:nvSpPr>
            <p:spPr>
              <a:xfrm>
                <a:off x="3911760" y="2565360"/>
                <a:ext cx="663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6"/>
              <p:cNvSpPr txBox="1"/>
              <p:nvPr/>
            </p:nvSpPr>
            <p:spPr>
              <a:xfrm>
                <a:off x="2857680" y="3033720"/>
                <a:ext cx="466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7"/>
              <p:cNvSpPr txBox="1"/>
              <p:nvPr/>
            </p:nvSpPr>
            <p:spPr>
              <a:xfrm>
                <a:off x="4046400" y="3033720"/>
                <a:ext cx="246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8"/>
              <p:cNvSpPr txBox="1"/>
              <p:nvPr/>
            </p:nvSpPr>
            <p:spPr>
              <a:xfrm>
                <a:off x="1778040" y="3033720"/>
                <a:ext cx="466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ovéPole 26"/>
          <p:cNvSpPr/>
          <p:nvPr/>
        </p:nvSpPr>
        <p:spPr>
          <a:xfrm>
            <a:off x="521964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1"/>
              <p:cNvSpPr txBox="1"/>
              <p:nvPr/>
            </p:nvSpPr>
            <p:spPr>
              <a:xfrm>
                <a:off x="5664240" y="4076640"/>
                <a:ext cx="1219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1042920" y="4221000"/>
                <a:ext cx="2400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Šipka doprava 35"/>
          <p:cNvSpPr/>
          <p:nvPr/>
        </p:nvSpPr>
        <p:spPr>
          <a:xfrm>
            <a:off x="6875640" y="206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9"/>
              <p:cNvSpPr txBox="1"/>
              <p:nvPr/>
            </p:nvSpPr>
            <p:spPr>
              <a:xfrm>
                <a:off x="5651640" y="2637000"/>
                <a:ext cx="137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2"/>
              <p:cNvSpPr txBox="1"/>
              <p:nvPr/>
            </p:nvSpPr>
            <p:spPr>
              <a:xfrm>
                <a:off x="6588000" y="3573360"/>
                <a:ext cx="1051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8"/>
              <p:cNvSpPr txBox="1"/>
              <p:nvPr/>
            </p:nvSpPr>
            <p:spPr>
              <a:xfrm>
                <a:off x="5826240" y="5013360"/>
                <a:ext cx="841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Šipka doprava 39"/>
          <p:cNvSpPr/>
          <p:nvPr/>
        </p:nvSpPr>
        <p:spPr>
          <a:xfrm>
            <a:off x="6875640" y="508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7"/>
              <p:cNvSpPr txBox="1"/>
              <p:nvPr/>
            </p:nvSpPr>
            <p:spPr>
              <a:xfrm>
                <a:off x="7451640" y="5013360"/>
                <a:ext cx="360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826920" y="1773360"/>
                <a:ext cx="29260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6"/>
              <p:cNvSpPr txBox="1"/>
              <p:nvPr/>
            </p:nvSpPr>
            <p:spPr>
              <a:xfrm>
                <a:off x="1760400" y="314172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ovéPole 15"/>
          <p:cNvSpPr/>
          <p:nvPr/>
        </p:nvSpPr>
        <p:spPr>
          <a:xfrm>
            <a:off x="97164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4238640" y="3157560"/>
                <a:ext cx="744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Šipka doprava 16"/>
          <p:cNvSpPr/>
          <p:nvPr/>
        </p:nvSpPr>
        <p:spPr>
          <a:xfrm>
            <a:off x="34923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 jsou 3 a 5.  Tyto nulové body rozdělí množinu reálných čísel na tři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989000" y="5373720"/>
                <a:ext cx="1295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6318360" y="5300640"/>
                <a:ext cx="10461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849320" y="3789360"/>
                <a:ext cx="1182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Šipka doprava 13"/>
          <p:cNvSpPr/>
          <p:nvPr/>
        </p:nvSpPr>
        <p:spPr>
          <a:xfrm>
            <a:off x="349236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4370400" y="3716280"/>
                <a:ext cx="743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4295880" y="5300640"/>
                <a:ext cx="9414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6588000" y="2565360"/>
                <a:ext cx="21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79280" y="1268280"/>
          <a:ext cx="6553440" cy="208944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657440"/>
                <a:gridCol w="1584360"/>
              </a:tblGrid>
              <a:tr h="43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3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2268360" y="1341360"/>
                <a:ext cx="7398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600120" y="1773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250920" y="2565360"/>
                <a:ext cx="1522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TextovéPole 19"/>
          <p:cNvSpPr/>
          <p:nvPr/>
        </p:nvSpPr>
        <p:spPr>
          <a:xfrm>
            <a:off x="39528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870120" y="3429000"/>
                <a:ext cx="1422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539640" y="3933720"/>
                <a:ext cx="2035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ovéPole 26"/>
          <p:cNvSpPr/>
          <p:nvPr/>
        </p:nvSpPr>
        <p:spPr>
          <a:xfrm>
            <a:off x="305928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ovéPole 9"/>
          <p:cNvSpPr/>
          <p:nvPr/>
        </p:nvSpPr>
        <p:spPr>
          <a:xfrm>
            <a:off x="586728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380360" y="6165720"/>
                <a:ext cx="1190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5651640" y="1341360"/>
                <a:ext cx="564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8"/>
              <p:cNvSpPr txBox="1"/>
              <p:nvPr/>
            </p:nvSpPr>
            <p:spPr>
              <a:xfrm>
                <a:off x="684360" y="4365720"/>
                <a:ext cx="7268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1547640" y="4365720"/>
                <a:ext cx="91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5"/>
              <p:cNvSpPr txBox="1"/>
              <p:nvPr/>
            </p:nvSpPr>
            <p:spPr>
              <a:xfrm>
                <a:off x="3995640" y="1341360"/>
                <a:ext cx="527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6"/>
              <p:cNvSpPr txBox="1"/>
              <p:nvPr/>
            </p:nvSpPr>
            <p:spPr>
              <a:xfrm>
                <a:off x="611280" y="2133720"/>
                <a:ext cx="637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4"/>
              <p:cNvSpPr txBox="1"/>
              <p:nvPr/>
            </p:nvSpPr>
            <p:spPr>
              <a:xfrm>
                <a:off x="3462480" y="3429000"/>
                <a:ext cx="1143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ovéPole 26"/>
          <p:cNvSpPr/>
          <p:nvPr/>
        </p:nvSpPr>
        <p:spPr>
          <a:xfrm>
            <a:off x="572436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6"/>
              <p:cNvSpPr txBox="1"/>
              <p:nvPr/>
            </p:nvSpPr>
            <p:spPr>
              <a:xfrm>
                <a:off x="6168960" y="3429000"/>
                <a:ext cx="1219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9"/>
              <p:cNvSpPr txBox="1"/>
              <p:nvPr/>
            </p:nvSpPr>
            <p:spPr>
              <a:xfrm>
                <a:off x="214200" y="2924280"/>
                <a:ext cx="1478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6875640" y="1916280"/>
                <a:ext cx="2124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1"/>
              <p:cNvSpPr txBox="1"/>
              <p:nvPr/>
            </p:nvSpPr>
            <p:spPr>
              <a:xfrm>
                <a:off x="1835280" y="2997360"/>
                <a:ext cx="144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2"/>
              <p:cNvSpPr txBox="1"/>
              <p:nvPr/>
            </p:nvSpPr>
            <p:spPr>
              <a:xfrm>
                <a:off x="3564000" y="2997360"/>
                <a:ext cx="1506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63"/>
              <p:cNvSpPr txBox="1"/>
              <p:nvPr/>
            </p:nvSpPr>
            <p:spPr>
              <a:xfrm>
                <a:off x="5219640" y="2997360"/>
                <a:ext cx="144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4"/>
              <p:cNvSpPr txBox="1"/>
              <p:nvPr/>
            </p:nvSpPr>
            <p:spPr>
              <a:xfrm>
                <a:off x="3132000" y="5661000"/>
                <a:ext cx="814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65"/>
              <p:cNvSpPr txBox="1"/>
              <p:nvPr/>
            </p:nvSpPr>
            <p:spPr>
              <a:xfrm>
                <a:off x="1547640" y="4869000"/>
                <a:ext cx="916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66"/>
              <p:cNvSpPr txBox="1"/>
              <p:nvPr/>
            </p:nvSpPr>
            <p:spPr>
              <a:xfrm>
                <a:off x="2987640" y="3933720"/>
                <a:ext cx="2046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67"/>
              <p:cNvSpPr txBox="1"/>
              <p:nvPr/>
            </p:nvSpPr>
            <p:spPr>
              <a:xfrm>
                <a:off x="3198960" y="4376880"/>
                <a:ext cx="17668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8"/>
              <p:cNvSpPr txBox="1"/>
              <p:nvPr/>
            </p:nvSpPr>
            <p:spPr>
              <a:xfrm>
                <a:off x="3132000" y="4797360"/>
                <a:ext cx="1860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69"/>
              <p:cNvSpPr txBox="1"/>
              <p:nvPr/>
            </p:nvSpPr>
            <p:spPr>
              <a:xfrm>
                <a:off x="3143160" y="5229360"/>
                <a:ext cx="704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0"/>
              <p:cNvSpPr txBox="1"/>
              <p:nvPr/>
            </p:nvSpPr>
            <p:spPr>
              <a:xfrm>
                <a:off x="684360" y="4797360"/>
                <a:ext cx="814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71"/>
              <p:cNvSpPr txBox="1"/>
              <p:nvPr/>
            </p:nvSpPr>
            <p:spPr>
              <a:xfrm>
                <a:off x="4067280" y="5229360"/>
                <a:ext cx="8222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2"/>
              <p:cNvSpPr txBox="1"/>
              <p:nvPr/>
            </p:nvSpPr>
            <p:spPr>
              <a:xfrm>
                <a:off x="4067280" y="5732640"/>
                <a:ext cx="822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3"/>
              <p:cNvSpPr txBox="1"/>
              <p:nvPr/>
            </p:nvSpPr>
            <p:spPr>
              <a:xfrm>
                <a:off x="6178680" y="3860640"/>
                <a:ext cx="1858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4"/>
              <p:cNvSpPr txBox="1"/>
              <p:nvPr/>
            </p:nvSpPr>
            <p:spPr>
              <a:xfrm>
                <a:off x="6227640" y="4292640"/>
                <a:ext cx="727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75"/>
              <p:cNvSpPr txBox="1"/>
              <p:nvPr/>
            </p:nvSpPr>
            <p:spPr>
              <a:xfrm>
                <a:off x="7134120" y="4221000"/>
                <a:ext cx="99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76"/>
              <p:cNvSpPr txBox="1"/>
              <p:nvPr/>
            </p:nvSpPr>
            <p:spPr>
              <a:xfrm>
                <a:off x="6227640" y="4724280"/>
                <a:ext cx="814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77"/>
              <p:cNvSpPr txBox="1"/>
              <p:nvPr/>
            </p:nvSpPr>
            <p:spPr>
              <a:xfrm>
                <a:off x="7164360" y="4724280"/>
                <a:ext cx="99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⟨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ovéPole 13"/>
          <p:cNvSpPr/>
          <p:nvPr/>
        </p:nvSpPr>
        <p:spPr>
          <a:xfrm>
            <a:off x="42876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Funkce absolutní hodnota, rovnice a nerovnice s absolutní hodnotou – Rovnice s absolutní hodnotou II – Příklady“, kde vyřešte Př.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rovnic s absolutní hodnot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755640" y="1773360"/>
                <a:ext cx="24670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6"/>
              <p:cNvSpPr txBox="1"/>
              <p:nvPr/>
            </p:nvSpPr>
            <p:spPr>
              <a:xfrm>
                <a:off x="1692360" y="364500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5"/>
          <p:cNvSpPr/>
          <p:nvPr/>
        </p:nvSpPr>
        <p:spPr>
          <a:xfrm>
            <a:off x="971640" y="2708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272120" y="3357720"/>
                <a:ext cx="826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Šipka doprava 16"/>
          <p:cNvSpPr/>
          <p:nvPr/>
        </p:nvSpPr>
        <p:spPr>
          <a:xfrm>
            <a:off x="3492360" y="3716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.  Tento nulový bod rozdělí množinu reálných čísel na dva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560680" y="5084640"/>
                <a:ext cx="15350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927680" y="5013360"/>
                <a:ext cx="1220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3348000" y="4149720"/>
                <a:ext cx="20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00" y="126828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44000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268360" y="1268280"/>
                <a:ext cx="878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673200" y="2133720"/>
                <a:ext cx="785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11280" y="2637000"/>
                <a:ext cx="860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220840" y="2708280"/>
                <a:ext cx="787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535200" y="2708280"/>
                <a:ext cx="9860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ovéPole 19"/>
          <p:cNvSpPr/>
          <p:nvPr/>
        </p:nvSpPr>
        <p:spPr>
          <a:xfrm>
            <a:off x="324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743040" y="3284640"/>
                <a:ext cx="1600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9"/>
              <p:cNvSpPr txBox="1"/>
              <p:nvPr/>
            </p:nvSpPr>
            <p:spPr>
              <a:xfrm>
                <a:off x="738360" y="4330800"/>
                <a:ext cx="1831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1258920" y="5373720"/>
                <a:ext cx="763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268360" y="5373720"/>
                <a:ext cx="1371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TextovéPole 26"/>
          <p:cNvSpPr/>
          <p:nvPr/>
        </p:nvSpPr>
        <p:spPr>
          <a:xfrm>
            <a:off x="399564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4"/>
              <p:cNvSpPr txBox="1"/>
              <p:nvPr/>
            </p:nvSpPr>
            <p:spPr>
              <a:xfrm>
                <a:off x="4427640" y="3213000"/>
                <a:ext cx="13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5"/>
              <p:cNvSpPr txBox="1"/>
              <p:nvPr/>
            </p:nvSpPr>
            <p:spPr>
              <a:xfrm>
                <a:off x="5207040" y="494172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6"/>
              <p:cNvSpPr txBox="1"/>
              <p:nvPr/>
            </p:nvSpPr>
            <p:spPr>
              <a:xfrm>
                <a:off x="6732720" y="4653000"/>
                <a:ext cx="88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ovéPole 9"/>
          <p:cNvSpPr/>
          <p:nvPr/>
        </p:nvSpPr>
        <p:spPr>
          <a:xfrm>
            <a:off x="5651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7289640" y="5811840"/>
                <a:ext cx="1413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3641760" y="1268280"/>
                <a:ext cx="722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7"/>
              <p:cNvSpPr txBox="1"/>
              <p:nvPr/>
            </p:nvSpPr>
            <p:spPr>
              <a:xfrm>
                <a:off x="4538520" y="4292640"/>
                <a:ext cx="2036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5940360" y="1484280"/>
                <a:ext cx="2467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9"/>
              <p:cNvSpPr txBox="1"/>
              <p:nvPr/>
            </p:nvSpPr>
            <p:spPr>
              <a:xfrm>
                <a:off x="826920" y="4869000"/>
                <a:ext cx="152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Šipka doprava 24"/>
          <p:cNvSpPr/>
          <p:nvPr/>
        </p:nvSpPr>
        <p:spPr>
          <a:xfrm>
            <a:off x="6084720" y="5013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25"/>
          <p:cNvSpPr/>
          <p:nvPr/>
        </p:nvSpPr>
        <p:spPr>
          <a:xfrm>
            <a:off x="6659640" y="270828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nice má nekonečně mnoho řešení. Řešili jsme ji v daném intervalu. Celý tento interval bude řeš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Přímá spojovací šipka 27"/>
          <p:cNvCxnSpPr/>
          <p:nvPr/>
        </p:nvCxnSpPr>
        <p:spPr>
          <a:xfrm flipH="1">
            <a:off x="7308000" y="4076280"/>
            <a:ext cx="72360" cy="5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771480" y="1773360"/>
                <a:ext cx="2433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6"/>
              <p:cNvSpPr txBox="1"/>
              <p:nvPr/>
            </p:nvSpPr>
            <p:spPr>
              <a:xfrm>
                <a:off x="1692360" y="364500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ovéPole 15"/>
          <p:cNvSpPr/>
          <p:nvPr/>
        </p:nvSpPr>
        <p:spPr>
          <a:xfrm>
            <a:off x="971640" y="2708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4284720" y="3357720"/>
                <a:ext cx="799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Šipka doprava 16"/>
          <p:cNvSpPr/>
          <p:nvPr/>
        </p:nvSpPr>
        <p:spPr>
          <a:xfrm>
            <a:off x="3492360" y="3716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.  Tento nulový bod rozdělí množinu reálných čísel na dva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2560680" y="5084640"/>
                <a:ext cx="15350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4927680" y="5013360"/>
                <a:ext cx="1220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48000" y="4149720"/>
                <a:ext cx="20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00" y="126828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44000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2268360" y="1268280"/>
                <a:ext cx="878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685800" y="2133720"/>
                <a:ext cx="760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11280" y="2637000"/>
                <a:ext cx="860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122560" y="270828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646440" y="2708280"/>
                <a:ext cx="763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ovéPole 19"/>
          <p:cNvSpPr/>
          <p:nvPr/>
        </p:nvSpPr>
        <p:spPr>
          <a:xfrm>
            <a:off x="324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755640" y="3284640"/>
                <a:ext cx="1574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636480" y="4330800"/>
                <a:ext cx="2035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5160960" y="5157720"/>
                <a:ext cx="738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ovéPole 26"/>
          <p:cNvSpPr/>
          <p:nvPr/>
        </p:nvSpPr>
        <p:spPr>
          <a:xfrm>
            <a:off x="399564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4"/>
              <p:cNvSpPr txBox="1"/>
              <p:nvPr/>
            </p:nvSpPr>
            <p:spPr>
              <a:xfrm>
                <a:off x="4427640" y="3213000"/>
                <a:ext cx="13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5"/>
              <p:cNvSpPr txBox="1"/>
              <p:nvPr/>
            </p:nvSpPr>
            <p:spPr>
              <a:xfrm>
                <a:off x="5003640" y="4797360"/>
                <a:ext cx="99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ovéPole 9"/>
          <p:cNvSpPr/>
          <p:nvPr/>
        </p:nvSpPr>
        <p:spPr>
          <a:xfrm>
            <a:off x="5508720" y="623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7124760" y="5992920"/>
                <a:ext cx="16351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3641760" y="1268280"/>
                <a:ext cx="722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653000" y="4292640"/>
                <a:ext cx="1808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8"/>
              <p:cNvSpPr txBox="1"/>
              <p:nvPr/>
            </p:nvSpPr>
            <p:spPr>
              <a:xfrm>
                <a:off x="1246320" y="4869000"/>
                <a:ext cx="6872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Šipka doprava 24"/>
          <p:cNvSpPr/>
          <p:nvPr/>
        </p:nvSpPr>
        <p:spPr>
          <a:xfrm>
            <a:off x="2124000" y="4941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5796000" y="1341360"/>
                <a:ext cx="2433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2627280" y="4724280"/>
                <a:ext cx="878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4720" y="5157720"/>
                <a:ext cx="1117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826920" y="1773360"/>
                <a:ext cx="29260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6"/>
              <p:cNvSpPr txBox="1"/>
              <p:nvPr/>
            </p:nvSpPr>
            <p:spPr>
              <a:xfrm>
                <a:off x="1760400" y="314172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ovéPole 15"/>
          <p:cNvSpPr/>
          <p:nvPr/>
        </p:nvSpPr>
        <p:spPr>
          <a:xfrm>
            <a:off x="97164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absolutní hodnotě. Výrazy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4226040" y="3157560"/>
                <a:ext cx="771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Šipka doprava 16"/>
          <p:cNvSpPr/>
          <p:nvPr/>
        </p:nvSpPr>
        <p:spPr>
          <a:xfrm>
            <a:off x="34923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 jsou - 5 a 2.  Tyto nulové body rozdělí množinu reálných čísel na tři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1835280" y="5373720"/>
                <a:ext cx="1603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6300720" y="5300640"/>
                <a:ext cx="1081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1835280" y="3789360"/>
                <a:ext cx="1211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Šipka doprava 13"/>
          <p:cNvSpPr/>
          <p:nvPr/>
        </p:nvSpPr>
        <p:spPr>
          <a:xfrm>
            <a:off x="3492360" y="3789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4273560" y="3716280"/>
                <a:ext cx="936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4140360" y="5300640"/>
                <a:ext cx="1253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24000" y="1268280"/>
          <a:ext cx="4464000" cy="2089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089000"/>
                <a:gridCol w="1089000"/>
              </a:tblGrid>
              <a:tr h="43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1619280" y="1341360"/>
                <a:ext cx="915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600120" y="1773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530280" y="2492280"/>
                <a:ext cx="736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TextovéPole 19"/>
          <p:cNvSpPr/>
          <p:nvPr/>
        </p:nvSpPr>
        <p:spPr>
          <a:xfrm>
            <a:off x="5148360" y="119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5541840" y="1125360"/>
                <a:ext cx="1650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5508720" y="1557360"/>
                <a:ext cx="2289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5651640" y="3573360"/>
                <a:ext cx="687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ovéPole 26"/>
          <p:cNvSpPr/>
          <p:nvPr/>
        </p:nvSpPr>
        <p:spPr>
          <a:xfrm>
            <a:off x="521964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5"/>
              <p:cNvSpPr txBox="1"/>
              <p:nvPr/>
            </p:nvSpPr>
            <p:spPr>
              <a:xfrm>
                <a:off x="5724360" y="4581360"/>
                <a:ext cx="2082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ovéPole 9"/>
          <p:cNvSpPr/>
          <p:nvPr/>
        </p:nvSpPr>
        <p:spPr>
          <a:xfrm>
            <a:off x="5508720" y="623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7236000" y="6227640"/>
                <a:ext cx="1412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3924360" y="1341360"/>
                <a:ext cx="585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5364000" y="3141720"/>
                <a:ext cx="23180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8"/>
              <p:cNvSpPr txBox="1"/>
              <p:nvPr/>
            </p:nvSpPr>
            <p:spPr>
              <a:xfrm>
                <a:off x="5724360" y="1989000"/>
                <a:ext cx="865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6804000" y="1989000"/>
                <a:ext cx="10908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826920" y="4005360"/>
                <a:ext cx="29260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2784600" y="1341360"/>
                <a:ext cx="703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1"/>
              <p:cNvSpPr txBox="1"/>
              <p:nvPr/>
            </p:nvSpPr>
            <p:spPr>
              <a:xfrm>
                <a:off x="611280" y="2133720"/>
                <a:ext cx="637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2"/>
              <p:cNvSpPr txBox="1"/>
              <p:nvPr/>
            </p:nvSpPr>
            <p:spPr>
              <a:xfrm>
                <a:off x="552600" y="2924280"/>
                <a:ext cx="711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3"/>
              <p:cNvSpPr txBox="1"/>
              <p:nvPr/>
            </p:nvSpPr>
            <p:spPr>
              <a:xfrm>
                <a:off x="1582560" y="2565360"/>
                <a:ext cx="858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4"/>
              <p:cNvSpPr txBox="1"/>
              <p:nvPr/>
            </p:nvSpPr>
            <p:spPr>
              <a:xfrm>
                <a:off x="2700360" y="2565360"/>
                <a:ext cx="858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5"/>
              <p:cNvSpPr txBox="1"/>
              <p:nvPr/>
            </p:nvSpPr>
            <p:spPr>
              <a:xfrm>
                <a:off x="3924360" y="2565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6"/>
              <p:cNvSpPr txBox="1"/>
              <p:nvPr/>
            </p:nvSpPr>
            <p:spPr>
              <a:xfrm>
                <a:off x="2771640" y="2997360"/>
                <a:ext cx="63828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7"/>
              <p:cNvSpPr txBox="1"/>
              <p:nvPr/>
            </p:nvSpPr>
            <p:spPr>
              <a:xfrm>
                <a:off x="3851280" y="2997360"/>
                <a:ext cx="63828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8"/>
              <p:cNvSpPr txBox="1"/>
              <p:nvPr/>
            </p:nvSpPr>
            <p:spPr>
              <a:xfrm>
                <a:off x="1593720" y="2997360"/>
                <a:ext cx="83520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9"/>
              <p:cNvSpPr txBox="1"/>
              <p:nvPr/>
            </p:nvSpPr>
            <p:spPr>
              <a:xfrm>
                <a:off x="5651640" y="2637000"/>
                <a:ext cx="1371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0"/>
              <p:cNvSpPr txBox="1"/>
              <p:nvPr/>
            </p:nvSpPr>
            <p:spPr>
              <a:xfrm>
                <a:off x="6732720" y="3573360"/>
                <a:ext cx="43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TextovéPole 26"/>
          <p:cNvSpPr/>
          <p:nvPr/>
        </p:nvSpPr>
        <p:spPr>
          <a:xfrm>
            <a:off x="521964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1"/>
              <p:cNvSpPr txBox="1"/>
              <p:nvPr/>
            </p:nvSpPr>
            <p:spPr>
              <a:xfrm>
                <a:off x="5651640" y="4076640"/>
                <a:ext cx="1244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2"/>
              <p:cNvSpPr txBox="1"/>
              <p:nvPr/>
            </p:nvSpPr>
            <p:spPr>
              <a:xfrm>
                <a:off x="5724360" y="5084640"/>
                <a:ext cx="711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3"/>
              <p:cNvSpPr txBox="1"/>
              <p:nvPr/>
            </p:nvSpPr>
            <p:spPr>
              <a:xfrm>
                <a:off x="6588000" y="5013360"/>
                <a:ext cx="1016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26:40Z</dcterms:modified>
  <cp:revision>291</cp:revision>
  <dc:subject/>
  <dc:title>Snímek 1</dc:title>
</cp:coreProperties>
</file>