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6971-4423-41D9-B025-1B77A800B7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3E1F-3FF6-4970-AD0B-02F770A9FF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770-282B-4CAB-A4D7-D961E626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ACB-5066-45D4-9235-34F6774D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BEF-CFD6-4066-9129-4E7F63DC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BFD-ED79-4103-A027-90BD5280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30-D456-4D64-BFDC-5C296329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03D-1864-4A22-B788-60E8AB1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E92-1DAF-4715-AF7E-2B19E31D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61D-44F0-42E7-9514-BCE1229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CB8-C00D-4986-A572-53F3B42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005-DB41-4243-B712-45AEF89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05C-4610-4077-A275-733DBA0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C4E-41C8-4547-9B9F-73A3A55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BED4-B0E5-44D7-ACEF-C328643F405B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ární nerovnic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9"/>
          <p:cNvSpPr/>
          <p:nvPr/>
        </p:nvSpPr>
        <p:spPr>
          <a:xfrm>
            <a:off x="6875640" y="5157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1700280"/>
                <a:ext cx="2943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5"/>
              <p:cNvSpPr txBox="1"/>
              <p:nvPr/>
            </p:nvSpPr>
            <p:spPr>
              <a:xfrm>
                <a:off x="8156520" y="1628640"/>
                <a:ext cx="662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684360" y="2708280"/>
                <a:ext cx="3836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3995640" y="5157720"/>
                <a:ext cx="1731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4572000" y="1844640"/>
                <a:ext cx="631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1116000" y="3500280"/>
                <a:ext cx="3433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1042920" y="4292640"/>
                <a:ext cx="3260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1042920" y="5157720"/>
                <a:ext cx="2799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Přímá spojovací čára 17"/>
          <p:cNvSpPr/>
          <p:nvPr/>
        </p:nvSpPr>
        <p:spPr>
          <a:xfrm>
            <a:off x="5867280" y="1557360"/>
            <a:ext cx="0" cy="496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4"/>
              <p:cNvSpPr txBox="1"/>
              <p:nvPr/>
            </p:nvSpPr>
            <p:spPr>
              <a:xfrm>
                <a:off x="6372360" y="1628640"/>
                <a:ext cx="150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6732720" y="2421000"/>
                <a:ext cx="12682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6"/>
              <p:cNvSpPr txBox="1"/>
              <p:nvPr/>
            </p:nvSpPr>
            <p:spPr>
              <a:xfrm>
                <a:off x="6804000" y="3573360"/>
                <a:ext cx="12682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6588000" y="5589720"/>
                <a:ext cx="21258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9"/>
          <p:cNvSpPr/>
          <p:nvPr/>
        </p:nvSpPr>
        <p:spPr>
          <a:xfrm>
            <a:off x="6875640" y="5373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3203640" y="1628640"/>
                <a:ext cx="2855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5"/>
              <p:cNvSpPr txBox="1"/>
              <p:nvPr/>
            </p:nvSpPr>
            <p:spPr>
              <a:xfrm>
                <a:off x="5148360" y="5013360"/>
                <a:ext cx="517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3276720" y="2781360"/>
                <a:ext cx="3289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5796000" y="4365720"/>
                <a:ext cx="13557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6659640" y="1844640"/>
                <a:ext cx="488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276720" y="3645000"/>
                <a:ext cx="2973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3276720" y="4365720"/>
                <a:ext cx="2249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3851280" y="501336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6899400" y="5808600"/>
                <a:ext cx="1501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3936960" y="5805360"/>
                <a:ext cx="80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9"/>
          <p:cNvSpPr/>
          <p:nvPr/>
        </p:nvSpPr>
        <p:spPr>
          <a:xfrm>
            <a:off x="7093080" y="5300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3132000" y="1413000"/>
                <a:ext cx="30578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5651640" y="5229360"/>
                <a:ext cx="10922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059280" y="2349360"/>
                <a:ext cx="3317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7524720" y="3933720"/>
                <a:ext cx="922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6588000" y="1628640"/>
                <a:ext cx="460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6732720" y="5589720"/>
                <a:ext cx="21906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2987640" y="3141720"/>
                <a:ext cx="4068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3059280" y="3933720"/>
                <a:ext cx="41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6732720" y="4653000"/>
                <a:ext cx="1500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3851280" y="4653000"/>
                <a:ext cx="256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4067280" y="5229360"/>
                <a:ext cx="1558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4788000" y="5732640"/>
                <a:ext cx="1270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13"/>
          <p:cNvSpPr/>
          <p:nvPr/>
        </p:nvSpPr>
        <p:spPr>
          <a:xfrm>
            <a:off x="42876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13"/>
          <p:cNvSpPr/>
          <p:nvPr/>
        </p:nvSpPr>
        <p:spPr>
          <a:xfrm>
            <a:off x="357120" y="2286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Lineární rovnice a nerovnice – Lineární nerovnice – Příklady“, kde vyřešte Př. 2 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13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lineárních ne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1908000" y="494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1763640" y="5445000"/>
                <a:ext cx="1905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900000" y="1989000"/>
                <a:ext cx="207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3203640" y="1989000"/>
                <a:ext cx="1353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6"/>
              <p:cNvSpPr txBox="1"/>
              <p:nvPr/>
            </p:nvSpPr>
            <p:spPr>
              <a:xfrm>
                <a:off x="971640" y="2924280"/>
                <a:ext cx="2074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1835280" y="3860640"/>
                <a:ext cx="77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Přímá spojovací čára 20"/>
          <p:cNvSpPr/>
          <p:nvPr/>
        </p:nvSpPr>
        <p:spPr>
          <a:xfrm>
            <a:off x="4716360" y="1413000"/>
            <a:ext cx="0" cy="48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3"/>
          <p:cNvSpPr/>
          <p:nvPr/>
        </p:nvSpPr>
        <p:spPr>
          <a:xfrm>
            <a:off x="5003640" y="1341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5219640" y="1989000"/>
                <a:ext cx="230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9"/>
              <p:cNvSpPr txBox="1"/>
              <p:nvPr/>
            </p:nvSpPr>
            <p:spPr>
              <a:xfrm>
                <a:off x="7596360" y="1989000"/>
                <a:ext cx="1384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877000" y="2924280"/>
                <a:ext cx="1136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012000" y="3716280"/>
                <a:ext cx="1073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ovéPole 9"/>
          <p:cNvSpPr/>
          <p:nvPr/>
        </p:nvSpPr>
        <p:spPr>
          <a:xfrm>
            <a:off x="6300720" y="5013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6156360" y="5516640"/>
                <a:ext cx="1938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9"/>
          <p:cNvSpPr/>
          <p:nvPr/>
        </p:nvSpPr>
        <p:spPr>
          <a:xfrm>
            <a:off x="4859280" y="5373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6804000" y="5157720"/>
                <a:ext cx="1633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059280" y="1916280"/>
                <a:ext cx="2681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5"/>
              <p:cNvSpPr txBox="1"/>
              <p:nvPr/>
            </p:nvSpPr>
            <p:spPr>
              <a:xfrm>
                <a:off x="6084720" y="2781360"/>
                <a:ext cx="1354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3995640" y="3645000"/>
                <a:ext cx="777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3348000" y="2852640"/>
                <a:ext cx="2219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9"/>
          <p:cNvSpPr/>
          <p:nvPr/>
        </p:nvSpPr>
        <p:spPr>
          <a:xfrm>
            <a:off x="5219640" y="59500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6761160" y="5783400"/>
                <a:ext cx="2008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2124000" y="1916280"/>
                <a:ext cx="43545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5867280" y="3860640"/>
                <a:ext cx="1354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2513160" y="2881440"/>
                <a:ext cx="3863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3276720" y="3860640"/>
                <a:ext cx="2019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3622680" y="4581360"/>
                <a:ext cx="13273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8"/>
              <p:cNvSpPr txBox="1"/>
              <p:nvPr/>
            </p:nvSpPr>
            <p:spPr>
              <a:xfrm>
                <a:off x="3995640" y="5300640"/>
                <a:ext cx="9810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9"/>
          <p:cNvSpPr/>
          <p:nvPr/>
        </p:nvSpPr>
        <p:spPr>
          <a:xfrm>
            <a:off x="5219640" y="59500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6845400" y="5783400"/>
                <a:ext cx="1838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2340000" y="1916280"/>
                <a:ext cx="386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5"/>
              <p:cNvSpPr txBox="1"/>
              <p:nvPr/>
            </p:nvSpPr>
            <p:spPr>
              <a:xfrm>
                <a:off x="5364000" y="3573360"/>
                <a:ext cx="806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2987640" y="3573360"/>
                <a:ext cx="181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89240" y="5300640"/>
                <a:ext cx="720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6372360" y="2708280"/>
                <a:ext cx="749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2987640" y="4437000"/>
                <a:ext cx="97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4356000" y="4437000"/>
                <a:ext cx="488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2340000" y="2781360"/>
                <a:ext cx="3549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9"/>
          <p:cNvSpPr/>
          <p:nvPr/>
        </p:nvSpPr>
        <p:spPr>
          <a:xfrm>
            <a:off x="514836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2195640" y="1916280"/>
                <a:ext cx="2971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987640" y="3573360"/>
                <a:ext cx="2103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635280" y="5157720"/>
                <a:ext cx="9810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3203640" y="4365720"/>
                <a:ext cx="1353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5"/>
              <p:cNvSpPr txBox="1"/>
              <p:nvPr/>
            </p:nvSpPr>
            <p:spPr>
              <a:xfrm>
                <a:off x="4859280" y="4292640"/>
                <a:ext cx="920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2411280" y="2781360"/>
                <a:ext cx="2741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364000" y="3573360"/>
                <a:ext cx="13845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6659640" y="5877000"/>
                <a:ext cx="1939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1" name="Přímá spojovací šipka 19"/>
          <p:cNvCxnSpPr/>
          <p:nvPr/>
        </p:nvCxnSpPr>
        <p:spPr>
          <a:xfrm flipH="1">
            <a:off x="4284360" y="4508280"/>
            <a:ext cx="2304000" cy="649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12" name="TextovéPole 20"/>
          <p:cNvSpPr/>
          <p:nvPr/>
        </p:nvSpPr>
        <p:spPr>
          <a:xfrm>
            <a:off x="6659640" y="386064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obíme, nebo dělíme-li ZÁPORNÝM číslem, pak musíme OTOČIT ZNAMÉNKO nerov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13"/>
          <p:cNvSpPr/>
          <p:nvPr/>
        </p:nvSpPr>
        <p:spPr>
          <a:xfrm>
            <a:off x="324000" y="134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5148360" y="59500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1"/>
              <p:cNvSpPr txBox="1"/>
              <p:nvPr/>
            </p:nvSpPr>
            <p:spPr>
              <a:xfrm>
                <a:off x="2022480" y="1700280"/>
                <a:ext cx="3317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4932360" y="4941720"/>
                <a:ext cx="920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1792440" y="2752560"/>
                <a:ext cx="3981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5305320" y="4221000"/>
                <a:ext cx="1644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5796000" y="1844640"/>
                <a:ext cx="631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1920960" y="3602160"/>
                <a:ext cx="36655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2470320" y="4292640"/>
                <a:ext cx="2539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3"/>
              <p:cNvSpPr txBox="1"/>
              <p:nvPr/>
            </p:nvSpPr>
            <p:spPr>
              <a:xfrm>
                <a:off x="2843280" y="5013360"/>
                <a:ext cx="1558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3203640" y="5589720"/>
                <a:ext cx="981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6588000" y="5516640"/>
                <a:ext cx="22813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27:39Z</dcterms:modified>
  <cp:revision>439</cp:revision>
  <dc:subject/>
  <dc:title>Snímek 1</dc:title>
</cp:coreProperties>
</file>