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B7D-2984-43E1-B8BF-753942E9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D69-F8DA-4B7A-836F-C243CB38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FFE-0A0A-49DE-ABBA-F1E64A33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C0A-B2CD-4C43-BAF6-B6DADC60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8A1-DCFE-4B9D-917C-2CB7D0CD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3BF-5FB7-49DC-B2AB-E27B2524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7AF-6D85-4412-9783-D6CDA2C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A26-8B74-4B3A-9304-632AD86C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6D7-DED6-40DE-B83C-F5A3EF40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984-CAB6-41DD-BBC6-B673D03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836-3BCB-4F65-8F49-07E91C98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66A-7FA3-4122-9F80-7BB0A03C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ACC9-09CF-4D92-804E-7F79DE8DAC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1413000"/>
            <a:ext cx="79930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sociální útvary, davy, instituce, byrokra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5.9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vis - 1. davy plánované (mají společné místo a společný zájem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posluchačstv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povolená demonstr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davy neplánované (mají společné místo a zájem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divácké davy (autohavárie - čumilové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panické davy (požár atd., mohou se utvořit na základě neadekvátního podnětu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obtěžující (fronty, náva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davy nezákonné (musí být nezákonné od samého počátku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aktivní expresivní (nepovolené demonstrace, loupení, lynč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nemorální (orgie, opilecké sedánky, toxikoma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stitu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í útvary se zvláštním postavením, nemusí jít přímo o seskupe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arakteris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organizující a řídící složky společenského systému (škol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tvoří jádro nebo osu dané kultury a zajišťují její přežití a reproduk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přispívají k integraci a stabilizaci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zachovávají systém a řá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ýznamnější instituce – manže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kromé 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á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funkcionálního pojetí jsou také významné instituce, které mají významnou roli při zachování řád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rmá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r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ulturní a vzdělávací institu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rganizace a byrokra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roti institucím jsou organizace konkrétní útvary, někdy velmi rozsáhlé (např. armá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arakteristika organiza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mají charakter členství (šk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jsou orientovány na dosahování cí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existuje v nich řídící centrum (pozice v řídícím centru prestiž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) mohou vytvářet velmi složité struktury (Chemope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) budují si svou vlastní identitu nebo image (zdůrazňují určité hodnoty, tradice, zakladatele nebo slavné čl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) jsou zde významné mocenské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násilí (teroristická seskupení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přísná, ale legitimní pravidla (armá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ávu organizací uskutečňuje určitá skupina lidí, které říkáme byrokrac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 byrokratického řízení se žádná organizace neobej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la by usilovat o vyvážení mezi rutinou a inovací.</a:t>
            </a:r>
            <a:br>
              <a:rPr sz="2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Uveď příklad davu z tvého okol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Pokud jsi byl v nějakém davu, choval ses jinak než v běžném život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Vysvětli pojem byrokra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V poslední době slýcháváme, že se bez byrokracie obejdeme, jaký je tvůj názor na tuto problemati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y, davy, rodina, instituce +organizac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kupinová společnos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ž v 2.pol. 19.st. se o nich začíná mluvit, do té doby se uznávalo třídění na 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ová společnost je postavena proti stavovsk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typická pro moderní občanskou spole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ádoucí je pluralita (množství) skup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ak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každé skupině dochází k mnoha interakcím = k mezilidským kontaktům, ke vzájemnému ovlivň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í interakce uspokojuje základní potřeby člově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eroticko-sexuální potřeba (potřeba přijímání a projevování lás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potřeba závislosti (potřebují přijímat pom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potřeba dominance (ta převažuje, snaha být uznávaný a dělat rozhodnutí - mít vliv ve skupin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) potřeba afiliace (fyzický kontakt, př. nejdu sám do k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) potřeba agrese (chuť škodit, ničit, útočit, překáž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) potřeba sebeúcty (být ohodnocen někým koho uznává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naky skupin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a = seskupení lidí, kteří mají vědomí souná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ak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interakce (v každé skupině množství interakcí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společné cíle (existují i dočasné cíle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vědomí příslušnosti ke skupině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určitá organizovanost skupin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. společné hodno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. společné normy a disciplí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řídění skupi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skupiny - malé (30-40 lidí, př. třída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velké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skupiny - formální (jsou organizované, mají řád, př. vojna, škola, třída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eformální (parta na diskotéce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skupiny - členské (skupina, kde jsem členem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ferenční (nutnost spojení, vědět o ní, ale nejsme členy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) skupiny - primární (rodina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kundární (ostatní skupin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aky primární skupin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alá skupi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členové se znají, tváří v tvář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intimní vztah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louhodobé trvání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otivem členství je uspokojení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členové se angažují celou osobností (bytostí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n. primární vztahy mohou vznikat v rámci jiných skupin.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kundární - asociace - polit. stran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nické skupiny - nár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y - dělníci, zemědělci, inteli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iv skupin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aždá skupina vede k tzv. menšímu nebo většímu skupinovému konformismu (to znamená, že přizpůsobujeme své názory většině ve skupině), jedině silnější osobnosti se dovedou vzpříčit vlivu skupin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aždá skupina si samovolně vytváří svého vůd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aždá skupina má své normy za jejichž porušení uděluje sank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ociální út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a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sociální agregá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hromáždění osob na jednom místě na základě téhož podně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jsou to osoby spojené prostorovou blízkostí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 Bon - kniha Psychologie davu (v ní vytvořil teorii davového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rys - ztráta vlastní individualit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rys - převaha primitivních instinktů a teorií nad racionalito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rys - ztráta rozumové kontroly a morální odpovědnosti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ůsledek - člověk je v davu anonymní a proto má pocit bezpečí před sankcemi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21:11:15Z</dcterms:created>
  <dc:creator>Dombrovský Ivo</dc:creator>
  <dc:description/>
  <dc:language>en-US</dc:language>
  <cp:lastModifiedBy>Konetzná Magda</cp:lastModifiedBy>
  <dcterms:modified xsi:type="dcterms:W3CDTF">2013-09-20T08:45:06Z</dcterms:modified>
  <cp:revision>13</cp:revision>
  <dc:subject/>
  <dc:title>Snímek 1</dc:title>
</cp:coreProperties>
</file>