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A6D-F069-4F3D-8425-C910E774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870-3EEA-4806-9D95-1CF522DF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515-A36D-4D74-A2AC-D7518608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BC8-86E3-43E3-B2B3-ACFCD2CE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A43-AA3A-426C-BC17-3D135B53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5B5-C88E-4655-91E4-698834A7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344-04A7-4B41-B543-305EA91D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5B26-1FFC-40AA-8DCA-92B8E382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9E7-5BE0-490C-BEA5-43466F04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C7F-2646-4244-8E1D-8435C1B9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312-19DE-4F6C-A87C-811F942D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086-F036-48F0-8306-B9E7BC37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0229-D247-486D-A664-406D54D927D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KHNppu7Y4M&amp;feature=related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EBA2-1D2D-4647-8E8C-C7DAA8C4CDB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8064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konfli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 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24.8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718240" cy="89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C43A-B23A-4FF3-B09B-43BBC3790B0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NFL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Popiš jednotlivé fáze konfliktu z předchozí ukáz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Vzpomeneš si na poslední konflikt, kterého jsi se zúčastnil nebo byl svědkem? Mohl bys ho pops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9305-87F0-4489-8250-8B5C46B08F5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rázek č.1,2,3 : použito ze sady MS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Soc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youtube.com/watch?v=wKHNppu7Y4M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ota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BA4A-5414-441A-A848-FA2EBE17E41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SOCIOLOGIE- KONFLI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Mj03567470000[1]"/>
          <p:cNvPicPr/>
          <p:nvPr/>
        </p:nvPicPr>
        <p:blipFill>
          <a:blip r:embed="rId1"/>
          <a:stretch/>
        </p:blipFill>
        <p:spPr>
          <a:xfrm>
            <a:off x="1835280" y="1700280"/>
            <a:ext cx="4681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892F-236B-48A3-AD42-9C2EB4E704A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NFL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POR, HÁDKA, NEDOROZUM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flikty jsou v každém lidském společ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flikt je přirozenou součástí živ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flikt lze charakterizovat také jako určité střetnutí protichůdných sil na cestě k cí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6B5D-41B1-4E94-A7BC-AB87A46C3E3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NFL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ladem každého konfliktu je 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3167680000[1]"/>
          <p:cNvPicPr/>
          <p:nvPr/>
        </p:nvPicPr>
        <p:blipFill>
          <a:blip r:embed="rId1"/>
          <a:stretch/>
        </p:blipFill>
        <p:spPr>
          <a:xfrm>
            <a:off x="826920" y="2421000"/>
            <a:ext cx="7093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C7D1-8687-4B0A-848A-C6E536C8639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NFL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EŠENÍ KONFLI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frontace - účastníci si nechtějí navzájem naslouchat, cílem je zvítězit a porazit druh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nik - účastníci konfliktu zcela popírají existenci konfliktu; snaží se z něj unikn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mpromis - účastníci se neobviňují, snaží se najít řešení, které by vyhovovalo oběma stran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ý konflikt má různou podobu a intenz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4863-6ED1-4303-97E8-3243BC5C28E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NFL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ptimální řešení konfliktu: splnitelné, realis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častníci konfliktu jsou s řešením srozuměni, chtějí něco udělat, přinášejí zisk všem zúčastněn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ukončení konfliktu mají něco udělat obě str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cházení opakovaným konfliktům v budouc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př. konflikt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etry a Pet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ástupný symbol pro číslo snímk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EC32-980E-49C5-9172-206C0CB4537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NFL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ypy konfli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př. Interpersonální- mezi lidmi            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Pj04227870000[1]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ástupný symbol pro číslo snímk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0630-9A7B-4393-A662-CA1B6C5DF62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NFL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trapersonální- uvnitř člově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MPj04304890000[1]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56:24Z</dcterms:created>
  <dc:creator>Dombrovský Ivo</dc:creator>
  <dc:description/>
  <dc:language>en-US</dc:language>
  <cp:lastModifiedBy>Konetzná Magda</cp:lastModifiedBy>
  <dcterms:modified xsi:type="dcterms:W3CDTF">2013-08-29T09:52:27Z</dcterms:modified>
  <cp:revision>15</cp:revision>
  <dc:subject/>
  <dc:title>Snímek 1</dc:title>
</cp:coreProperties>
</file>