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AA79-BE4B-49F7-99D2-AC47906C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FFB7-6701-40AA-A714-CEF5CA89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127-E4D4-49D9-AE5D-0063A90E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3967-DD42-44F5-B746-90BC8E94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A5AF-1BC2-40F7-95AC-7575C31A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118-7D9E-477B-A4C0-92DE7D45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869A-03D6-4DD9-84BA-5351DA17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7173-0C10-42F8-8D5E-0B841D9F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1650-37B6-44D4-B9AD-13B76856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F67B-FEEC-4340-B81E-A5A8DC21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C1A-C5EA-4A22-9137-3B091C39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93FB-AFDF-4F3D-ABB5-79C0A19F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3561-DBFC-4146-8770-E1559EDB0579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FC91-F002-45BA-8768-DF20264B1B1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ociologie.czweb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A7D7-39EE-4DC9-BDF1-517CC1E1F45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10920" y="1628280"/>
            <a:ext cx="806436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ŠKOLY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ymnázium Františka Živného, Bohumín, Jana Palacha 794, příspěvková organiz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LAST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ověk a společ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y společenských věd 2. ročník SŠ a odpovídající ročník víceletých gymnázi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ÉMA:Sociologie – struktura, funkce, met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edDr.Ivo Dombrov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ATUM: 7.8.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A ČÍSLO PROJEKT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číme se pro život v 21. stole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Z.1.07/1.5.00/34.06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ZNAČENÍ VÝUKOVÉHO MATERIÁL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_32_INOVACE_ZSV.DO.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5718240" cy="896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843A-95CE-4EBA-948A-F5343E49643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ZTAH PŘÍRODY A SPOLEČ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lověk je biosociální tv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vě podstaty – součást přírody i společ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liv přírody na společ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ím je společnost méně vyspělá, tím větší roli hrají přírodní fak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 počátku vývoje společnosti jsou tedy stěžej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írodní fak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dmínky geograf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rodnost, podnebí, dostupnost vody, množství surov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dmínky bi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ěk, předpoklady, 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aktory demograf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rodnost, úmrtnost, mig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BB80-4F46-40F8-A6F6-9AB1EA91A52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ntrolní otáz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. Jaké jsou hlavní metody zkoumání v sociologi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. V čem je mezi nimi rozdí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. K čemu tyto metody slouž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4. Uveď dvě konkrétní metody zkoumání v sociologii a popiš 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FD5A-0F46-4982-85BF-1676B2E11A1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liv společnosti na příro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 počátku byl vliv poměrně mal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 rostoucími nároky se začíná příroda ovlivňo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lom nastává s průmyslovou revolu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vantitativní zása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ěžba, výr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e 20. st. jsou zásahy i kvalitativ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sahy do samotného fungování přírody, do samostatné podsta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př. genetické inženýr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ruhá přír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ůvodní příroda byla změněna, znič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ačíná se uměle vytvářet druhá příroda – projektova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5970-A864-49CD-96DE-F2FDAFBF1EC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dské zása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nstruktiv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n relativ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ždý zásah je ničiv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estruktiv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ičivé, vyloženě negativní, přírodu 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vrchové d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60. lé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kologická kr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hrožování vlastní exis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 všechny analýzy jsou věrohod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8C1D-72ED-473C-9785-5B1EEFB4C5C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droj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thony Giddens, Sociologie, Argo, Praha 1993, ISBN 80-7203-12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dmaturuj ze společenských věd, kolektiv autorů, Didaktis Brno, 2003, ISBN 80-86285-68-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sociologie.czweb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ttp://cs.wikipedia.org/wiki/Soc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ota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rezentace o sociologii slouží učiteli především k vysvětlení nového uči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si osvojí nové pojmy. Pomocí internetu odpoví na otázky, zjistí informace o dané problema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mohou být do hodiny zapojeni přípravou referátu či hledáním na internetu. Mohou pracovat samostatně v počítačové učebně či ve skupinách ve tříd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Formy výuk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 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romadná nebo skupinová vý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Převládající klíčové kompeten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mpetence k učení, kompetence k řešení problémů, kompetence komunikativní, kompetence sociální a personální, kompetence občansk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zba na ŠVP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Školní vzdělávací program pro osmileté gymnázium – část B – vyšší  gymnázium – učební osnovy Základy společenských věd – 2. ročník, sexta – Soci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ástupný symbol pro číslo snímku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50DC-88B0-4FAF-8D10-89D98671B7C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2126-BD93-4AD9-9D75-AEFAA6685D1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struktura, fun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TRUKTURA SOC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ecná soc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oretický základ, určení metod, východisek, mod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dvětvová soc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nkrétní obory, věnující se určitým stránkám osob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tratifikace (dělení do skupin), ekonomická, politická, nábožens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CIOLOGIE A PŘÍBUZNÉ VĚ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ilizofie, ekonom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033E-9950-42E3-9F5C-5A56C9CE3F3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struktura, fun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UNKCE SOC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znáv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ískávání údajů, poznání jisté sociální skupiny, části společ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akt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ůsledkem poznáv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naha změnit způsoby bydlení, zajištění, práce dané skup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deolog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tváření hodnot, názorů, doj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naha je společnosti vnut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rapeut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dstranění konfliktů, problémů, deform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nželská pora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D4F4-4EF1-4BF2-AB3C-6176A3E7C84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struktura, fun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radens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ýká se lidských zdroj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ersonální agen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vlivnění vytváření pracovních kolektivů, provádění manažerských výcviků, příprava lidí na řešení situ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rit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kazuje problémy ve společnosti, odhaluje předsudky, odhaluje zdroje násilí, rasis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ultivační, edukač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naha společnost vychová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kazuje, co je dobré, co špat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8D4F-2097-4DCE-A226-39CACEC1F09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ETODY SOC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valitativ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de se do hloubky, hledají se moti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noho otá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bor respondentů je ome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ílem je poznat smysl ch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loubkové rozhovory, zúčastněné pozorování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vantitativ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o největší soubor 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čítání lidu, dotazníky, testy, tele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 získávání údaj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šechny metody sběru 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do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 přímou účastí respond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ez přímé účasti respond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e zpracování údaj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platnění výsledků – SOCIOTECH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73E5-9F16-4589-B4A5-DF27608A3E7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dnotlivé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k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příliš rozsáhlý průzk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hodně vybraní respond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rátká, měla by být zajímavá, měla by dát dílčí obraz názoru lidí na daný probl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rainsto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vořivá diskuse – palba náp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ocus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skuse, řízená moderát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xpertní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jišťování názorů odbor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tazování, dotaz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stní, či písem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 velký počet otázek se ptáme velkého počtu lid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554E-135F-4D81-8B63-229DD4F37E2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ůzk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d zadáním dotaz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louží k ověření hypotézy dotazníku, zda je srozumitelný, jednoznač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zor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lý vzorek lidí pozorujeme v přirozeném, nebo umělém prostřed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účastněné, či nezúčastně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alýza sociálních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leduje vztahy v malém společ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incip sněhové ko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účastníku se dle vztahů stále zvětš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CDED-EC88-42D7-A72A-167CBDEF469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met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ciomet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jišťuje vztahy v malých skupinách, jejich struk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rčován podřízenosti, nadřízenosti, izolovanosti, vyloučenosti jednotlivých čle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ciogram – grafické vyjádření poznat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jektivní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dou hodně do hloub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naha odhalit motivaci chování, snaha objevit, objasnit vnitřní proži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znávání obrázků, dokončování příběhů, doplňování vět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20:08:47Z</dcterms:created>
  <dc:creator>Dombrovský Ivo</dc:creator>
  <dc:description/>
  <dc:language>en-US</dc:language>
  <cp:lastModifiedBy>Konetzná Magda</cp:lastModifiedBy>
  <dcterms:modified xsi:type="dcterms:W3CDTF">2013-08-29T09:39:17Z</dcterms:modified>
  <cp:revision>20</cp:revision>
  <dc:subject/>
  <dc:title>Snímek 1</dc:title>
</cp:coreProperties>
</file>