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5DC-9C6A-415E-9844-8C1DFD66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16A-AD55-478A-9E9C-7AE06886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EDB-8158-4D8E-A898-5E0F80A4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D31-B481-41AC-8E2F-A16C7F36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2F4-D7B3-46B5-B84F-F6D6B99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EB2-8225-48D0-BA55-4876AE0B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DAA-5EAD-4535-A9A9-3B78E85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EED-1E8E-4EC3-9DC1-2DB4943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CC5-A28E-4D19-A13D-1380E834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D61-EE5B-45CD-9C19-38F3EDE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7AB-905E-4508-88F3-CD98CD9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11C-B138-4DD3-8A3B-F2A37FD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4104-6D13-47D0-B669-5EBA62A1004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E56-FF6B-4976-9BE4-710AAE4E1F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7991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skupiny a ident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28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718240" cy="89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CE4-27F3-4A27-9122-F893FE0F24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pol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ž vznikají vazby a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 po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enský okr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, kteří se pravidelně set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abá sociální vaz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ámí od vid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pravidelní cestu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ritoriální pospol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y lidí spojených nějakým mí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etnické skupiny (Valaši, Slezané, Jihočeš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3D77-51D1-41E9-AA48-A080C94255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 marL="150408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politost s volnou vnitřní vazb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ě společenství, existující po vymezenou d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v - davy zkoumal G. Le 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velnost, iracionalita, emocionální chování, častá nápod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ivní (útočný (terorizující, bojující), únikový, získávací, expresivní), pas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ě strukturované, náhodné, nezáko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UBL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chází se za určitým podně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ní agresivní, zachovává se racionální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a d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hromáždě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shromáždě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C9C4-BEA1-46FD-BFAA-CB54549D1B3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158400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í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juje ji společná činnost, společný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á řeč, vlastní poj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é odměny a tr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lenění podle velik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ká/malá – hranice je asi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lenění podle tr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časné/trva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čl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lenské (otevřená, uzavře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izí (referenční – nejsem členem, ale usiluji o 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77E5-294C-4321-9164-572C4A555C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OLEY rozdělil skupiny na primární a sekund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im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dina, přátelská skupina, sousedství (už tolik 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lá, dlouhodobá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hází k častému kont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enzivní angaž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nikají zde hluboké vaz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kund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ální/neform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ální vznikají uměle, příkaz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DA5-EDF4-4604-A0DF-7973BFFFC1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ový konform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lověk většinou patří do více sociální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a vyvíjí na členy nátlak, aby se s ní zpodobni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ější (vyloučení, trestání, izo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itřní (člověk sám se snaží skupinu napodobovat, má ob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a ná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form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řizuje se, vždy jedná podle skupiny, opouští své zás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ávis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dnání dle vlastní úvahy, v případě názorového rozporu nemá problém se skupině posta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konform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aha jednat vždy proti skup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louhodobá existence není mož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134C-5AE6-449E-B64C-458F667F590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de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skupina má svou 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ů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ční – form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men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formální – osob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ol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2887-D4BF-4437-B21E-EC0BA5E109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ři přístupy k 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toritář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loženo na názoru jed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žaduje se poslušnost, plnění úko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mokra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ídí se názorem větš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aha o dohodu, spolu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řízení se podílí svou měrou každ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ber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zadán úkol a termín, ne způ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to se však snižuje kvalita odvedené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lová možnost průběžné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tupně dojde ke zneuží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DABB-3B6D-4294-A642-0E75098410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864-F68F-41FC-85C8-64DA1F5A7B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a = 3 a více o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lá skupina     3 - 30 = minori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ká skupina    například stát = majori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ální skupina         = kroužek,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formální skupina      = parta přá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imární skupina          = 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kundární skupina      = přátelé,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93D6-85CF-470A-9C8D-AA659BBBC4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DENTIFIK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ý člověk má potřebu sdružovat se do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aží se splynout se skupi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vstoupíme do určité skupiny, tak přijmeme její ident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8C19-CC3A-4871-9C88-D5BEB972F0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ení ident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a si o sobě vytváří pozitivní ob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tlačení nega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 vlastních znaků, vlaj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lenové skupiny k sobě mají velmi blízký vz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stancují se od těch druh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dnotí je zásadně negativně ( „shazuje“ druhou skupi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8C8-8D9E-4AFE-BD91-3AD051ABDD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egorie začleňování se do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ponenty : získané – od narození ( barva pleti, pohlaví, barva vlasů…)  = nedobrovol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byté = získané během života ( víra, vědomosti, ženatý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sou do jisté míry dobrovolné, ale můžeme být donuceni  (rodiče nás donutí jít někam studov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olené = volíme dle svého zájmu ( povolání, kroužek…) = dobrovol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17C5-E52A-40C7-972A-4E5B8A7AAC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TNIK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istoricky vzniklá skupina lidí, kteří mají společný historický původ, rasový typ, jazyk, materiální a duchovní kulturu, mentalitu a tradice a obývají společné území; srovnat se dá s kme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TNICKÁ IDENT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omí příslušnosti k určitému národu ( etniku)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JITÁ IDENT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narozeni například v Česku a žijící v USA, sňatky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0E7-140C-4704-A514-E4E8F05FD4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Do jaké skupiny se zařadíš a 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Jak bys charakterizoval tuto skupi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Kam bys zařadil svou tří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Do jaké skupiny bys zařadil svou rodi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E91-C6FD-49CE-BDA4-8B5ED47B2E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– skupiny a ident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OVÁ STRUKTURA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ěhem života se člověk stává součástí mnoha sociální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greg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jsou spojeni pouze tím, že jsou ve stejnou chvíli na stejném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kladem jsou cestující v auto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spojení nějakým společným zna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ohoto si ani nemusí být věd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istický soubor, vzo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45:54Z</dcterms:created>
  <dc:creator>Dombrovský Ivo</dc:creator>
  <dc:description/>
  <dc:language>en-US</dc:language>
  <cp:lastModifiedBy>Konetzná Magda</cp:lastModifiedBy>
  <dcterms:modified xsi:type="dcterms:W3CDTF">2013-08-29T09:53:47Z</dcterms:modified>
  <cp:revision>13</cp:revision>
  <dc:subject/>
  <dc:title>Snímek 1</dc:title>
</cp:coreProperties>
</file>