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ED2-736B-4093-B938-3FB88158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231-A390-4502-ACE0-57F65E8A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2ED-0289-4373-95FE-92CBA76F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687-AA57-46D3-B0A7-F6E493AD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A31-3CB1-4D21-AA80-C57A1841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77C-A430-4BC6-95D1-C52736FB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61A-8FF5-424B-8791-0A4F96A1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F13-AE08-4EE4-B6B1-08CE9D36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8C5-854A-4024-91A2-2CC5D4C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BC0-4343-49C6-AA2E-44FE0F0C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DDD-F710-4870-92DE-5F51D1B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7FF-BA1D-422C-B68D-96EABA5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650B-A2C6-4D03-8C7C-170E9A17F94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E16-7318-418E-A3E3-F2F2B8C401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ciologie.czweb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49F0-87E3-4489-A8CC-8C331AFAA7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vývoj, osob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4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1712880" y="396720"/>
            <a:ext cx="57182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41F9-3207-4A93-8169-035102FD45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1659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asové te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960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hur de Gobin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960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rancouzský diplomat, vědec poli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960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jednání o nerovnosti lidských ma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960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spirace nacis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960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ři r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rná- Postrádá intelige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lutá-Nemají fantazii, Nejsou schopni abstraktního vyjadř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ílá-Všechny vhodné vlas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rcholem jsou Árij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aruje před míšením ras – úpa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Houston Stewart Chamber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 XIX. stole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ermanizovaný Anglič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istorie je bojem Židů a Něm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0839-7BFA-4052-A971-E2AEAB051B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jevy  teorií v pr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asové te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ltrapravicové str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c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art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A – rasová segreg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mohou volit, studovat na univerzit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mografický s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obyvatel, hustota zalidnění, věkové složení, porodnost úmrtnost, migrac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yto ukazatele vyjadřují úroveň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omas Malt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thusiá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přibývají mnohem rychleji, než zdroje pot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přibývají řadou geometrickou, zatímco potravinové zdroje řadou aritmetic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&gt; přírůstek obyvatel je nutno reduk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mezení populační pol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álky a epidemie jsou považovány za přínos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EDF5-58C6-4E9D-8A2D-EB63F2081A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eografický s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důraznění přírodních podmínek, jako podnebí, množství půdy, nerostné suroviny, zásoby vody, zemědělská prod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ntesqu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eografický determi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istují dva druhy nár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y severu, národy ji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y ji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jí v ideálních podmínkách – teplo, voda, potravinové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sivita, lenost, malá vynaléza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y sev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merika, Ev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oj s chladem, věnování se přírodě, nutnost zajišťovat potraviny, překonávat přírodní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lné, odolné, aktivní, tvůrčí ná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y severu mají plné právo podmanit si národy ji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&gt; Koloni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D4BE-D421-4F6D-AFE1-CF4B73202D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eopoli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ěr německých ideolog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důvodňují právo Němců na životní pro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ěmci, jako národ vyspělý a početný, mají plné právo zajistit si svůj životní pro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RANG NACH 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&gt; Nacistická zahraniční politika (tažení na východ za zdroji – obilnice, 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BENSRAUM – životní prostor (střední Evropa, vých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sychologický s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větší váhu přičítá psychologickým faktorům, jako pudy, city, vrozená dispozice, síla charakteru, národní 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a z teorií dělí lidi na dva ty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lného charakteru – vůdcovský 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labého charakteru – určeni k podřízení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mán Zločin a trest (Dostojevski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7C3C-501D-4D58-9396-1F1B10D7B4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a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řídy jsou již minu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nes se lidé dělí do skupin podle toho, kde bydlí, jakou školu vystudovali, podle zázemí, podle toho, čím jezdí, čeho jsou čl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eorg Simmel (1858-1918, Berlín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nuje se otázkám moderní společnosti 20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óda a její vliv na společnost, role peněz, role konfliktu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flikt má velmi pozitivní důsl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konaný konflikt je zdrojem zkušenosti, a navíc jedince posil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důležitý pro sociální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áhá vybírat nejlepší alternati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ále je důležitý konflikt mezi skupi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kupiny se stmelují a posil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kupina bez nepřítele se rozpa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66A-B105-44CF-B0DC-7A8CE0DBC0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SKÁ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číná se rozvíjet zhruba od 80. let 19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. G. Masary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fesor sociologie a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studoval univerzitu ve Vídni a poté přednášel v Pr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lo 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nuje se otázkám sebevražd, motivů,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lo OTÁZKA SOCI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pořádání moderní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bor Ruska, jeho společnosti a kul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ublikuje v časopisech (Atheneum), vydává vědecké pub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duard Bene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nuje se stranictví, politickým stranám, vztahu lidí k 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nuje se alkoholismu v českých zem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lší studie se zabývala rolí násilí v dějinách evropských stá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0824-8BE2-45EE-B14F-91DA527E519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lla, Bláha, Chalup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Šiklová, G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ská sociologie ve 20. st. byla třikrát vystavena politickým tlakům, byla třikrát zakáz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voj byl přeruš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dobí protektorátu, období po roce 1948, po roce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60. letech se obnov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596D-DAA2-4271-9DB4-9F9E54E7A7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ociologie.czweb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11C9-847B-4405-89DF-932FCEFAB3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 počátku je sociologie součástí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 oddělení dochází poměrně pozdě – ve 40. letech 18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 zrodu sto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uguste Com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1798-1857, Francie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važován za otce sociolo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k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na Internetu portrét tohoto sociol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E60-CBF7-4EC5-81C0-E795F88BD2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gust Co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kladatel sociologie-sociolog, filoz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niha Kurz pozitivní filoz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&gt; POZITIV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vlivnil v podstatě všechny vědy konce 19. 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myšlenkou je, že jediné objektivní vědy jsou vědy příro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ědy společenské jsou subjektivní, podávané z pohledu dět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seudo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dé si sami tvoří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vozuje, že společenské vědy musí používat metody přírodních věd, aby se vyvarovaly ovlivňování a subjektivního pohl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historii se projevil např. jako vydávání děl, ve kterých se autoři báli zapojit myšle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istorická díla plná detailů, ale žádných souvisl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abývat se tím, co není, ale zabývat se současným stavem, hledat fakta a spojitosti me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ologii nazývá termínem SOCIÁLNÍ FYZ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ální sta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, co společnost tvoř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ální dynam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chycuje vývoj a zm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7C90-DDEE-4EEE-8686-3A4A117B3C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9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ěry – obvykle jedno krité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iologi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hodující jsou biologické faktory, na kterých společnosti závisí a které ji urč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ganistická te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erbert Sp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ečnost a biologický organismus mají podobnou stavbu a podobn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obojí platí stejné zák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troporasové te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ální Darwi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vedení Darwinovy teorie na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on existenčního boje, přirozeného výbě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E0A-5A33-438B-9D85-7E2598FAE9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erbert Spencer (1820-1903, Britán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mouk – žádná vysoká š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sto byl velmi uznáv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spirace biologií, darwinis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rwinovu teorii převáděl na lidskou spol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ění biologických zákonů ve společensk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mile Durkheim (1859-1917, Franc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rancouzský filozof a socio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ko první začal vydávat sociologický 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ložil první specializovanou katedru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ho sociologie nemá žádné zabarvení, zamě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koumání sebevraž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koumání 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racoval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DA5-FF54-46D9-9765-F8327CD0B2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rel Marx (1818-1883, Německo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livnění ekonomie i soci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ciologické názory jsou dále velmi důlež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ůrazňuje ekonomickou stránku společnosti a postavení ve výrobě, vztah k vlastnic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orie tříd a třídního b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1864-1920, Německo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 Marxem silně nesouhl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á sice pravdu v ekonomické oblasti, ale společnost je složit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i důležité obl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last ekonom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last polit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last kulturně so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tud ve 20. st. vychází teorie STRATIF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355-F821-40D0-A436-D7D12F34DC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rolní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. Kdy vznikla sociologie a kdo je považován za jejího zakladat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. V čem spočíval přínos H.Spenc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. Čím sociologii přispěl E.Durkhe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4. Měl na sociologii nějaký vliv K.Mar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5. V čem spatřujete přínos pro sociologii u M.Web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C149-E18F-4E63-86C2-90D53A5AC29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ilfredo Pareto (1848-1923, Itál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ze zdrojů italského faš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e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užívají rafinované manévry, intriky, promyšlené postu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užívají sílu, násiln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yto dvě skupiny se u moci střída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29:49Z</dcterms:created>
  <dc:creator>Dombrovský Ivo</dc:creator>
  <dc:description/>
  <dc:language>en-US</dc:language>
  <cp:lastModifiedBy>Konetzná Magda</cp:lastModifiedBy>
  <dcterms:modified xsi:type="dcterms:W3CDTF">2013-08-30T05:56:45Z</dcterms:modified>
  <cp:revision>19</cp:revision>
  <dc:subject/>
  <dc:title>Snímek 1</dc:title>
</cp:coreProperties>
</file>