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4E7-3177-4F60-B534-E42928B1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97-A62B-48AF-A386-0AA46AEF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12B-1B47-470B-B78E-08C2D255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C67-C21C-4542-9211-E96B39E7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4BA-DE25-43D1-870B-6D4F4882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1DB-7734-476E-9AC1-066D8DA0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2DA-E1FB-4F84-8148-042EC38D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50C-BA2F-4139-8AC3-EC0686B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F1E-C21A-447E-AC4D-20D47FF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F2E-2D1A-45BD-8E91-42B1C8B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340-265B-4D62-97C8-EF9F269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BC2-1D9D-4CCC-BABF-11020D3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6756-0811-4531-9EFF-B23F8D5140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922-153D-419A-B64A-9551573BB8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360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nábožen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23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009A-56BD-4BC5-BE5F-76F8EFFF02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yly vypracovány různé typologické hypotézy o náboženstv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přírodní, čili náboženství pocházející z lidské 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zjevená, ta, která vzešla z Božího - zjevení ( - židovství - křesťanství) či z přesvědčení, že Bůh se zvláštním způsobem projevil (islá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etnická, uzavřená v rámci skupin a nár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univerzální, která překračují národní prostor, aby se šířila k jiným národ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) monoteistická, která uctívají jen jednoho B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) polyteistická, která uctívají více božs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) náboženství knihy: - židovství a křesťanství, protože mají - bibli, islám, protože má korán, sikhismus (kniha hymnů Ádigranth), pársismus (spis Aves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4B97-E552-465F-8E37-F93AAC6F00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menová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zv. přírodní (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menov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áboženství)- nerozlišený celek zvyklostí a tradic daného společenství, který tvoří jeho identitu a odlišuje je od ostat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prve v daleko složitějších společnostech se z tohoto celku vydělují jednotlivé složky kultu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udba, tanec, vyprávění, umění, divadlo, obyčeje, právo, literatura a dal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menové náboženství je kolektivní a uzavřené, člověk se do něj rodí, děje se ve společných slavnostech a nemá žádné výslovné u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zuje zejména společnosti sběračsko-lovecké a předává se social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nou formu představuje náboženstv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odov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kult p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ické pro zemědělské společnosti, které má společnou strukturu, ale v každém rodě se uctívají jiní společní před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F00-E5EF-4EB2-9442-C962E2E5B6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istorická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vozují se od vystoupení určité zakladatelské osobnosti a jejího zjeveného učení a příkl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ladem může být židovství s Abrahámem a Mojží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řesťanství s Ježíšem Nazaretsk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lám s Muhamm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vykle začínají jako náboženství jisté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jí si posvátné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ději psané a koment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ze často sledovat i určitý vnitřní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de k monoteismu a k posunu důrazu od vnějšího náboženského jednání (kultu) k učení a mravním požadavk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ně se obracejí k jednotlivému člo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ou se šířit i přes hranice původního etnika a nabývat univerzální pov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to provázejí i širší společenskou a politickou integraci a více či méně se spojují s politickou mo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DFCE-0F55-4C06-8A1D-D013FCB062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 tato typologie však není zcela vyhov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tradičních společnostech má náboženství v sociálním životě většinou ústřední pos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ké symboly a rituály jsou často spojeny s hmotnou kulturou a uměním dan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udbou, malířstvím, sochařstvím, tancem, vyprávěním, literatur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0B5A-5E8B-42C9-A89A-3B9F4B9B2F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lady pestrosti a různorodosti definic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mile Durkheim : Náboženství je jednotný systém víry a praktik vztahujících se k posvátným věcem, to jest k věcem odtažitým a zakázaným; systém víry a praktik, které sjednocují všechny své přívržence v jediném morálním společenství nazývaném círk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ottlieb Fichte : Náboženství je poznání; objasňuje člověka sobě samému, odpovídá na nejvyšší otázky, které vůbec mohou být vzneseny, a přináší tak člověku dokonalou jednotu se sebou samým a skutečné posvěcené mys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571E-3686-47DE-98F7-E3EAF74E06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gmund Freud : Náboženství je kolektivní neuróza, respektive funkce individuální psychiky, jež produkuje bohy, kteří mají za úkol těšit a uspokojovat dětinské touhy dospěl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CF3-9646-4DC1-83BE-D2988CBC19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í známa definice náboženství, na níž by se širší vědecká komunita sho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v moderním smyslu je totiž velmi abstraktní pojem, k němuž se dospěje až na základě srovn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náboženství je možné nahlížet z různých, i protikladných úhlů p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borná literatura poskytuje mnoho různých def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 badatelů, tolik defini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349-DB4D-42AF-9BBC-5E4F7547992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Zkuste sami definovat, co to je nábožen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Jak se projevují různá náboženství v naší společ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Najdete ve svém okolí příklady, které souvisejí s náboženství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Která ze současných českých osobností se věnuje problematice náboženstv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4753-672C-4208-8F8A-BF59748575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_n%C3%A1bo%C5%BEenstv%C3%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7AB-D34C-46D7-98A3-1405272993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světě existuje tolik náboženství a jsou tak rozmanitá, že ani odborníci nejsou schopni se shodnout na společné defi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í známa definice náboženství, na níž by se širší vědecká komunita sho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v moderním smyslu je totiž velmi abstraktní pojem, k němuž se dospěje až na základě srovn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hrn představ určité komunity, v němž se používá symbolů vyvolávajících úctu nebo úžas a rituálních praktik, jichž se členové komunity účas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derní souhrnný pojem pro velmi rozmanité soustavy jednání, symbolů a představ, jimiž různá společenství vyjadřují reálný, životní, osobní vztah k transcendentní 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73C-5026-4406-BA3C-F1E4FE7AD3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é náboženství má společné rituály (bohosluž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ité představy o světě a místě člověka v ně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ina náboženství vyžaduje i určitou morál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ina náboženství se chápe jako vztah k osobnímu Bohu nebo božstv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nichž člověk závisí a k nimž se obrací s díkem a s prosbou o och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kon bohoslužebných obřadů je často vázán na určitá posvátná místa (obětiště, chrámy) a časy (svát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ěřen zvláště vybraným nebo pověřeným osobám (kněží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á náboženství se společensky organizují jako círk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E941-66E8-45E7-94AF-B7A7B599F6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historického hlediska se náboženství podílelo na vzniku všech světových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zůstává rozhodujícím elementem pro různé životní styly a odlišnosti některých et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ké problémy jsou často kořeny mnoha politických konfli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1C2-660E-4D1A-B8DA-8992EFDEE2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ní stopy lze nalézt už v době kamen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podařilo se prokázat existenci takové vyšší pospolitosti lidí, ve které by neexisto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ý jev, který má své zákonitosti a nutné součá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íra člověka v existenci nadpřirozených bytostí, dokonalejších než je člověk, a v existenci nadpřirozeného, dokonalejšího světa než je ten pozem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deje, které tuto víru zdůvodňují, ospravedlňují a upevň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stituce s vlastním aparátem, které tyto ideje šíří, a prostřednictvím víry ovládají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y, které se při tom všem vytváře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124-8560-4047-9E1E-B4544D300F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paleo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0 000 - 40 000 př. n.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kazy o vzniku náboženstv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tuální pohřby, lovecké ritu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tarší známé pohřby jsou patrně staré až 300 tisíc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ické malby desetitisíce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ěhem posledních dvou století shromáždili archeologové, etnologové a religionisté množství materiálu z celého světa, jež ukazuje obrovskou rozmanitost náboženských projev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601-1C5E-4FF8-89C1-284D953539E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rie vzniku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log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statou je, že víru dal bůh lidem, aby jim dal zákony, řád, aby jim ukázal ce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voluční te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se stále vyvíjí, zdokonaluj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olog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bylo vytvořeno společností, aby uchovala uspořádání společnosti, její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tedy svůj systém povýšila na nábož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8883-CAA4-4653-85E2-BB6A8353B6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ábož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plývá z lidské psych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reud – náboženství vyplývá z neuspokojených přání a t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stava boha je představou ideálního ot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ropolog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juje náboženství s vývojem li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ženství je přirozeným projevem vývoje člověka, kdy na jisté úrovni náboženství zcela přirozeně vzniká a na jistém stupni zase zanik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gmat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jedno, jak náboženství vzniklo, důležitý je uži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09-20T08:49:51Z</dcterms:modified>
  <cp:revision>16</cp:revision>
  <dc:subject/>
  <dc:title>Snímek 1</dc:title>
</cp:coreProperties>
</file>