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C12-6666-40F8-8DD3-C818443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396-C690-41B9-B6FA-58698569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5BD-2334-4962-A138-2ED5087A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FE2-7AD0-43B5-9D3E-7ACE6E22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DE5-AE06-4AAE-875F-93D7B09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384-28AF-40C5-B8F2-EEB71FC0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9F5-8F6C-48B0-941B-520CED3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1C3-4A1D-4BE6-80D6-BFC73F97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B1C-2B99-4A9B-AA11-4F2A9189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2F0-F536-4369-8AB3-D4ECFBB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4A5-05AF-4D0A-A44A-09DAFCD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630-9146-4BA0-B20A-60636B9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698-1636-450C-AC2A-E6785E86C8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Fundamentalismu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77DB-B54D-4C1C-A428-5A10DFB30E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1360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fundamentalis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8.12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69B-FF06-4647-B858-28A377C760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lámský fundamentalismus je namířen proti křesťanským, židovským, sekulárním a jinověreckým systémům a prakticky proti současné západní civilizaci i částečně proti umírněným islámským režim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lze ztotožňovat islámský fundamentalismu s islámským náboženstvím jako takov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3B93-D24E-419A-8780-40B9B35630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 rozlišuje fundamentalismus od fanatismu a autoritá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ává jej do protikladu ke globaliz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něj vyrostl jako odpověď na procesy globalizace, které vidíme všude kolem n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o vlastnit pravdu je příznačné i pro totalitní hnutí a hnutí fundamentalismu využívá nejvíc právě totalitní praktiky, kdy je člen naplno vtažen do hnutí a musí být ovládán charismatickým vůd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é fundamentalistické hnutí mohou své členy k sobě přivázat konáním protizákonné činnosti, např. terorismem, kdy pak člen musí chtě nechtě zůstat pod ochranou hnu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86F6-E9B0-4360-B7B6-7EA38417E6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terorismu jako takovém Korán výslovně nepojedná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á jeho ustanovení s ním však úzce souvise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rán určuje případy, kdy se muslimové mohou uchýlit k násilí a stanoví pravidla, která se přitom musejí dodrž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ámci ,,spravedlivé války" nepříliš jednoznačně dovoluje využití násilí ve dvou případech, a to v sebeobraně a v ,,boji na stezce Boží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beobrana přichází v úvahu, pokud muslimové nemohou svobodně praktikovat víru, strádají pod nespravedlivou vládou nebo je jim zabírána posvátná půda. Doslova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,Zabíjejte je všude, kde je dostihnete, vyžeň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e z míst, odkud oni vás vyhnali, vždyť svádění od víry je horší než zabití"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Korán 2:1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íklad boj Palestinců není chápan jako národněosvobozenecký boj, ale jako svatá válka za vytlačení nevěřících z posvátných územ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1086-DBD0-451B-97CD-58A767A100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Najdi na internetu, kdo to byl Saddám Husa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Najdi na internetu, kdo byl Usáma bin Lád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Víš, co se stalo 11. září 2001? (použij int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Najdi na internetu, kdo je Anthony Gidd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. Najdi internetový slovník cizích slov a vyhledej význam slova fundamentalis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 Najdi na internetu tři články, které pojednávají o fundamentalismu (mimo wikipedi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1A0-7A98-422A-A06E-329FAFC94E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s.wikipedia.org/wiki/Fundament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policy.euweb.cz/view.php?id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61EA-5634-4EAC-ACD6-80B6A2D0B28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undamentalismu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z latinského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fundamentu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áklad) je urputné lpění na základních princip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protikladem modern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častěji je užíván ve spojitosti s náboženstvím, kde označuje směry, vyžadující doslovný výklad základních knih a jejich aplikaci do živ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ývá spojen s přesvědčením o absolutnosti vlastní pravdy, provázeným netolerancí k odlišným názor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DBB-AA44-4691-AD7E-7D7B844EC9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ímto pojmem označujeme víru v doslovné znění posvátných tex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diční náboženský systém jako islám zažívá skutečné obrození a stává se základem významného politického dění na konci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rán 80.léta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tud se šíří do dalších zemí – Egypt, Sýrie, Libanon, Alžírs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618-0EFF-428D-9113-85CAF413A1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vodně byl označením pro určitou skupinu protestantského hnutí v USA od přelomu 19. a 20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80. letech se termín rozšířil v médiích a začal být používán v povšechném smyslu „krajní nebo ultrakonzervativní křídlo“ na nejrůznější hnutí a myšlenkové sm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le více pak na islámský extrem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AA6-D354-4C55-B4A1-F999BD72FF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nutí usilující o obnovu islámu zjevně nelze chápat jen jako náboženský fenom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části jde o reakci na mohutný vliv Západu, o hledání vlastních národních a kulturních koř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sporné, zda můžeme tato hnutí považovat za pouhou obnovu tradičních myšl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stata je složitěj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novují se sice některé tradiční praktiky a způsoby života, ale dochází k tomu v kombinaci s novými prvky, specifickými pro moderní d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B9F-1A49-4DAA-A8C8-57E9E860625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oslední době si fundamentalistická hnutí získala značný vliv v mnoha zemích severní Afriky, Blízkého východu a jižní A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vují se obavy, že islámský svět směřuje ke konfrontaci s těmi částmi světa, které jeho víru nesdíle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85C-331B-4632-9498-734599D025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39 států, v nichž je islám dominantní formou náboženství, lze pouze hrstku považovat za liberální demok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ím z takových příkladů je Turec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jdi na internetu, jaké je politické zřízení v Turec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1B83-1593-4F5D-BEE8-0AF8ABEE24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fundamen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ký fundamentalis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yšlenkový směr, který s „doslovnou“ a historickou interpretací náboženských textů vnáší do přítomné doby předdemokratické a předhumanistické prvk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eském prostředí j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jednou z nápadných, avšak zdaleka ne převažujících pohnutek k intoleranci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enská nebezpečnost fundamental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ho zastánci jsou ochotni usilovat o dosažení svých představ násilnými akcemi a porušováním práv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Konetzná Magda</cp:lastModifiedBy>
  <dcterms:modified xsi:type="dcterms:W3CDTF">2013-12-18T09:17:00Z</dcterms:modified>
  <cp:revision>24</cp:revision>
  <dc:subject/>
  <dc:title>Snímek 1</dc:title>
</cp:coreProperties>
</file>