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A58-C69B-4D03-BD94-A87F458E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498-B0B6-4104-8DAF-34FE24B3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9BB-CE46-433D-A9B4-40A4B522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7D5-4164-4E86-85D7-F459CFE0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691-05DC-4E57-98B9-21662F3E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26A-7C56-43CB-9E02-DC6DF537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6E1-6238-48DD-9CD7-D9E60338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544-EFFB-4903-8C89-E47BD913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155-8746-4ACB-A5CC-4AC0A062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B56-5D67-43B1-915E-F776CA58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CBA-1FC9-4123-9000-2F415491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CE2-FABE-4C50-8133-1377374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1B92-167E-4C55-9C98-5532F5DA2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Isl&#225;m" TargetMode="External"/><Relationship Id="rId2" Type="http://schemas.openxmlformats.org/officeDocument/2006/relationships/hyperlink" Target="http://www.ceskatelevize.cz/ivysilani/10077100525-nabozenstvi-sveta/205562230380003/" TargetMode="External"/><Relationship Id="rId3" Type="http://schemas.openxmlformats.org/officeDocument/2006/relationships/hyperlink" Target="http://www.ceskatelevize.cz/ivysilani/10077100525-nabozenstvi-sveta/205562230380003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3AF8-27C8-4F5D-902A-63303D296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81360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náboženství-islá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15.12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B54E-3000-46C3-8F36-15280213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lám je rozdělený na tři velké cel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nnismus (83 % muslim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ismus (16 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arídžismus („ti, kteří vycházejí” - 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asný bojovný islám žije třemi pro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dernistickým proudem, nakloněným modernizaci islámského zákoní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ologickým dogmatismem, stojícím proti modernizaci islámského zákoní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voluční ideolog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EBB5-0424-48EB-8483-CFFA6F32E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 základnímu rozštěpení islámu došlo hned po Mohamedově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ité představují islámskou minor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dná se o radikálnější větev, spojenou s tajemným výkladem Korá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ité také vysoko oceňují mučednictví, odmítají veškerou literaturu kromě Korá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šichni šíité věří v příchod Mahdího (Spasit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9F8D-6444-48EB-ACDB-60AC90EC7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nnité, kteří tvoří 90% všech muslimů, tvrdí, že Mohamedovým nástupcem nemusí být nikdo z jeho příbuz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 dalším významným islámským skupinám patří tzv. lidový islám (islám bratrst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různější víceméně nezávislé skupiny, například Bratrstvo tančících dervišů v In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jich tvrzení se opírá o to, že k Bohu lze dojít různými cest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ni si vybrali hudbu a tan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B268-7718-41C5-B556-A9D1866E5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aría („směr cesty”) označuje zároveň zjevený Boží zákon a právní formulaci církevních předpisů odvozených z Koránu a ze Su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dnešní terminologii je termín šaría používán pro označení souboru islámských záko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zi Biblí a Koránem existují četné církevní i literární s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ř. v Koránu i v Bibli se střídají líčení, chvalozpěvy, podobenství, kázání, přikázání a vyznání ví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rozdíly se týkají způsobů zjevení, pojetí spasení a také počtu, funkce a poslání proro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Koránu je Ježíš jen jeden z proroků, předchůdců Moha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4D17-E31C-43AD-B6BF-54BDC0DD6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Najdi na internetu typické stavby, které jsou spojeny s islám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Najdi, jak se jmenuje člověk, který muslimy svolává k modlitb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Ve kterých zemích se uplatňuje právo šarí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Kde se nachází Mekka? (použij inte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1A91-D430-4C43-B0C8-0EECEBAA6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s.wikipedia.org/wiki/Isl%C3%A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ceskatelevize.cz/ivysilani/10077100525-nabozenstvi-sveta/205562230380003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ubor:Lady_zaynab_mosqu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1D36-E3C2-4F4B-A09D-5FCD3FB9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uslimské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ktikuje ho asi 1,57 až 1,65 miliar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ří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nešní druhé světové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noteistické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ložené kázáním proroka Moha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kultem, tradicí, životní řeholí i projektem života ve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šita Lady zaynab, Sýr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upload.wikimedia.org/wikipedia/commons/d/d0/Lady_zaynab_mosqu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http://upload.wikimedia.org/wikipedia/commons/d/d0/Lady_zaynab_mosque.jpg"/>
          <p:cNvPicPr/>
          <p:nvPr/>
        </p:nvPicPr>
        <p:blipFill>
          <a:blip r:embed="rId1"/>
          <a:stretch/>
        </p:blipFill>
        <p:spPr>
          <a:xfrm>
            <a:off x="5364000" y="3213000"/>
            <a:ext cx="33116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D6FB-37F7-48B1-8AA3-38BA06975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tří mezi monoteistická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progresivnější náboženství (nejvíce získaných lidí za r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ývá označován jako náboženství třetího tisíci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mladším světovým náboženstv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7. století v arabských městech Mekka a Me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postavou prorok Moha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.610 ho navštívil archanděl Gabriel a nařídil mu vytvořit ve jménu boha Alláha nové náboženství – islám-kterým by spojil všechny dosud roztroušené Ar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100F-EC2C-4EC2-91B8-3716E59DE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hamed Vyslancem Božím a Pečetí proro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ůh ho pověřil předáním poselství Koránu celému lidst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hamed znamená „ten, který je požehná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rodil se v Mekce-přijal první boží zjevení od anděla Gabriela v noci ze 26. na 27. měsíce ramadán roku 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hamed a jeho druhové se rozhodli odejít do Medíny 16. července 6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oto období emigrace (hijra, odtud „hidžra“) bylo věnováno předávání nových zjevení a organizování muslimské ko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66A9-A3D0-46ED-8340-72F4F043D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prve se šířil na Arabském poloostro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8. století zakořenil v Egyp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k v Persii, severní Africe a ve Španěl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ději byl ve Španělsku vytěsněn křesťanstv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ději se islám dostal také do Malé Asie, Indie, na Malajský poloostrov a Sundské ostro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zi hlavní knihy islámu patří Korán a Hadith (Tradice) popisující život Moha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příbuzný s křesťanstvím a judaismem, do 19. století byl některými badateli považován za herezi (odnož) křesťa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všech třech náboženstvích existují například společné postavy – Adam, Noe, Abraham, Mojží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lám zná dokonce i příběh Ježíše, s výjimkou ukřižování, protože islám bere smrt jako prohr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muslimské koncepce zjevení představuje Korán Slovo Boží určené celému lidstvu, věrně předané v arabštině archandělem Gabrielem proroku Mohamedovi, poslednímu z Vyslanců Bož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rán obsahuje sto čtrnáct textových jednotek nazývaných súry, seřazených podle sestupného pořádku jejich roz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menší textové jednotky súr jsou verše (ayat, „verše“, „znamení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dání Koránu zvané Korán krále Fu'ada (jehož šíření začíná v roce 1924) jich má 6 2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DB0-35CA-4768-B6D7-A4986D0373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56BA-F47C-4FDD-93A3-F5C638713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ždý vyznavač islámu, muslim, vyznává pět základních sloupů ví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íra v Allá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ětkrát denně modlitba (5 každodenních modliteb je povinných od dospěl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ů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ročinnost (včetně včasného placení da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ť do Mekky (podle možnos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75BF-D0C1-4949-91CE-8EF37EAA0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OLOGIE – náboženství- isl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ám je mezi laickou veřejností populární díky polygam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avení ženy je sice o stupeň nižší než mužovo, ale ten s ní má nakládat lask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kud by nebyl schopen laskavě a stejně nakládat se všemi ženami, maximálně však se čtyřmi, má mít jen jednu manžel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ám bývá také mylně považován za krvavé a nesnášenlivé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17Z</dcterms:created>
  <dc:creator>Dombrovský Ivo</dc:creator>
  <dc:description/>
  <dc:language>en-US</dc:language>
  <cp:lastModifiedBy>Dombrovský Ivo</cp:lastModifiedBy>
  <dcterms:modified xsi:type="dcterms:W3CDTF">2013-12-16T23:10:30Z</dcterms:modified>
  <cp:revision>19</cp:revision>
  <dc:subject/>
  <dc:title>Snímek 1</dc:title>
</cp:coreProperties>
</file>