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E2E55-8915-49CB-8A4B-C06B7FB76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C99F3-A337-4A9E-9A5B-196441F0D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64028-1330-4033-805B-21CDF6819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98E75-CCFE-4E42-9C43-DEE210246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B15E8-14A1-46EE-B3FF-ED841DB03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F370C-399B-4EAC-B741-284E6AABC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7E402-9172-4B13-ADA5-870D89FD5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89BF3-59EA-43E1-8AEB-7E6989554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AE0C9-7083-43BC-A14A-D4AE80EEA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00A90-E884-4DEA-9DC3-6D19299B4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15F14-E474-45B4-953D-E042939B8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CBBD6-7B4B-4EF6-B5E7-FB268EDD3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94423-DB78-47E5-BCAF-0C44059ECD1E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sociologie.czweb.org/" TargetMode="Externa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sociologie.czweb.org/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6840" y="1413000"/>
            <a:ext cx="843588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NÁZEV ŠKOLY: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Gymnázium Františka Živného, Bohumín, Jana Palacha 794, příspěvková organizac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VZDĚLÁVACÍ OBLAST: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Člověk a společno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VZDĚLÁVACÍ OBOR: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Základy společenských věd 2. ročník SŠ a odpovídající ročník víceletých gymnázií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TÉMA:Sociologie – úvod do problematik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AUTOR: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aedDr.Ivo Dombrovsk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DATUM: 1.8.20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NÁZEV A ČÍSLO PROJEKTU: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Učíme se pro život v 21. stolet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CZ.1.07/1.5.00/34.0629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OZNAČENÍ VÝUKOVÉHO MATERIÁLU: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Y_32_INOVACE_ZSV.DO.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Obrázek 3" descr=""/>
          <p:cNvPicPr/>
          <p:nvPr/>
        </p:nvPicPr>
        <p:blipFill>
          <a:blip r:embed="rId1"/>
          <a:stretch/>
        </p:blipFill>
        <p:spPr>
          <a:xfrm>
            <a:off x="971640" y="396720"/>
            <a:ext cx="7129440" cy="89712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OCIOLOGIE- vývo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836640"/>
            <a:ext cx="8229600" cy="529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70. léta – současn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Interpretativní sociolog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Zaměření na vztah jedince a společ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Jak jedinec společnost vnímá, přijímá – interpretu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Nabírá také ekologický aspek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Vztah společnosti a prostřed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jedna z mnoha stránek na pomoc při studiu sociolog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ttp://www.sociologie.czweb.org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OCIOLOGIE- vývoj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Úkol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Najdi možnosti studia sociologie na českých vysokých školá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OCIOLOGIE- vývoj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ontrolní otázk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1. K jakým vědním oborům řadíme sociologii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2. Co je předmětem zkoumání sociologi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droje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thony Giddens, Sociologie, Argo, Praha 1993, ISBN 80-7203-124-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Odmaturuj ze společenských věd, kolektiv autorů, Didaktis Brno, 2003, ISBN 80-86285-68-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ttp://www.sociologie.czweb.org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http://cs.wikipedia.org/wiki/Sociolog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Anotac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400"/>
              </a:spcBef>
              <a:spcAft>
                <a:spcPts val="10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Prezentace o sociologii slouží učiteli především k vysvětlení nového učiva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00"/>
              </a:spcBef>
              <a:spcAft>
                <a:spcPts val="10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Žáci si osvojí nové pojmy. Pomocí internetu odpoví na otázky, zjistí informace o dané problematic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00"/>
              </a:spcBef>
              <a:spcAft>
                <a:spcPts val="10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Žáci mohou být do hodiny zapojeni přípravou referátu či hledáním na internetu. Mohou pracovat samostatně v počítačové učebně či ve skupinách ve třídě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00"/>
              </a:spcBef>
              <a:spcAft>
                <a:spcPts val="10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Formy výuky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:  h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romadná nebo skupinová výuk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Převládající klíčové kompetence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: k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ompetence k učení, kompetence k řešení problémů, kompetence komunikativní, kompetence sociální a personální, kompetence občanské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Vazba na ŠVP: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Školní vzdělávací program pro osmileté gymnázium – část B – vyšší  gymnázium – učební osnovy Základy společenských věd – 2. ročník, sexta – Sociologi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OCIOLOG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OCIOLOGIE- úv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507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polečenskovědní, humanitní obor, zabývající se zkoumáním společnosti jako celk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notlivých společenských skup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notlivých oblastí společenského živo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bývá se zkoumáním procesů, které ve společnosti probíhaj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OCIOLOGIE- vývo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836640"/>
            <a:ext cx="8229600" cy="529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Vývoj sociolog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rotosociolog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Období do vzniku sociolog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Tedy zatím součást filozof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Sokrates, Platón, Aristote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očátek sociolog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o první světové vál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období vytváření sociologie jako samostatného vědeckého obo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vznikají obory na školá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působí např. Comte, Weber, Mar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první sociologické publikace, učebnice, časopis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v tomto období jde převážně o teoretickou disciplí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vznikají velké sociologické smě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sociologie se týká převážně Evropy, evropských univerz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OCIOLOGIE- vývoj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Úko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Najdi k následujícím jménům na Internetu jejich portré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Krátce představ každou osobu v rozsahu přibližně pěti vě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Sokr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Plat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Aristote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om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We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Mar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harles Louis Montesquie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Kins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Gall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Thom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Why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OCIOLOGIE- vývo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Socrates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(469-399 př. Kr., Athény) - považován za zakladatele evropského myšlení 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Platon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(427-347 př. Kr., Athény) - Socratův žák, prohlašuje, že stát by měli řídit filosofov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Aristoteles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(384-322 př.Kr., poloostrov Chalkidiké) - Platonův žák, učitel Alexandra Makedonského, věnoval se systému fungování společnosti, sepsal ústavy 158 řeckých států a snažil se z nich odvodit ideální právní systé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Charles Louis Montesquieu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(1689-1755, Francie) - kniha</a:t>
            </a:r>
            <a:r>
              <a:rPr b="0" i="1" lang="cs-CZ" sz="2000" spc="-1" strike="noStrike">
                <a:solidFill>
                  <a:srgbClr val="000000"/>
                </a:solidFill>
                <a:latin typeface="Times New Roman"/>
              </a:rPr>
              <a:t> Duch zákonů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vypovídá o principech, které tvoří základy různých druhů práva (tudíž společnosti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1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OCIOLOGIE- vývo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764640"/>
            <a:ext cx="8229600" cy="53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lvl="1" marL="698400" indent="-268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Meziválečná etap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entrem výzkumu se stávají Spojené stá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Rozvoj převážně praktického smě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Pragmatismus – jde o užite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Využití v ekonomice – prodej, reklama, prezent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Využití v polit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Řízení pracovních skupin, kolektiv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Ovlivňování veřejného míně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Role ve sdělovacích prostředcí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Kins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Lékař, sexuolog, sociolo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Provedl vůbec první velký průzkum sexuálního chování Američan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Gall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Výzkumy veřejného míně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odnes existuje Gallupův ústa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Thomas, Why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Zkoumání patologických jev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Kriminalita, prostitu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OCIOLOGIE- vývo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691920"/>
            <a:ext cx="8229600" cy="54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Poválečné obdob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50. – 60. lé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Sociologie se vrací do Evropy s americkým přínosem – praktickým význa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Výzkumy veřejného mínění, uplatnění v obchodu, reklamě, sociálním projektov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Uplatnění v polit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Přístup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Funkcionalistick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Snaží se popsat současný stav společ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Konfliktualistick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Zaměřen spíše do budouc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Snaha odhadnout tendence, hodnoty, přístup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06T19:12:39Z</dcterms:created>
  <dc:creator>Dombrovský Ivo</dc:creator>
  <dc:description/>
  <dc:language>en-US</dc:language>
  <cp:lastModifiedBy>Konetzná Magda</cp:lastModifiedBy>
  <dcterms:modified xsi:type="dcterms:W3CDTF">2013-08-30T05:55:09Z</dcterms:modified>
  <cp:revision>20</cp:revision>
  <dc:subject/>
  <dc:title>SOCIOLOGIE</dc:title>
</cp:coreProperties>
</file>