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300E-05B1-4F50-B0C2-25C38515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F594-0D26-4FBD-8B17-FA257BE7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4E5B-5E22-459D-98E8-BDD045CB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7100-0FFB-499C-805B-3DDB8803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0C96-4961-4761-87E6-66CC8B8C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2BCF-5A6B-4AC3-A182-6358A7E5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0956-C2AD-4101-9D47-B280761D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5397-9EF3-492A-8BBF-52375D53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5AC3-1042-4118-836B-489B7F59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3E91-56EA-48E3-A9A8-70ADFC7F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0388-FA3C-483E-9E47-89A7CB65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944D-8BFA-4741-BB91-6A2C79EB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890A-AB82-4504-B4FB-1EF82DFFC201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65DA-C852-43D6-8B86-C6CDD778B55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1D85-6533-48F1-9601-F13A26B16B1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39280" y="1557000"/>
            <a:ext cx="799308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ŠKOLY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ymnázium Františka Živného, Bohumín, Jana Palacha 794, příspěvková organiz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LAST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ověk a společ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y společenských věd 2. ročník SŠ a odpovídající ročník víceletých gymnázi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ÉMA:Sociologie – ku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T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edDr.Ivo Dombrovsk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ATUM: 10.8.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A ČÍSLO PROJEKT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číme se pro život v 21. stole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Z.1.07/1.5.00/34.062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ZNAČENÍ VÝUKOVÉHO MATERIÁL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_32_INOVACE_ZSV.DO.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1"/>
          <a:stretch/>
        </p:blipFill>
        <p:spPr>
          <a:xfrm>
            <a:off x="1692360" y="476280"/>
            <a:ext cx="5718240" cy="89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BF14-CE15-46BB-8081-0C9AA3D0021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k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eprodukce kul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eneračním předáváním kultu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azyk, vyprávění, zvyky, oblékání, morá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bož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díl dvou generací - matka a babič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grandmother hypothes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 enkulturaci se podílí televize - společnost se homogeniz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šichni poslouchají stejné mluvčí a stejné příběhy, mají před očima stejné vzory ch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ultura a civil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ultura se předává zejména řeč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 vázána na určité jazykové prostředí (česká, francouzská, německá kul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ivilizace - větší a méně homogenní nadnárodní cel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ubkultura - menší společenství, například místní, profesní nebo pro věkové skupiny (například subkultura teenagerů). V podobném smyslu se hovoří o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firemní kultuř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tj. zavedeném způsobu jednání mezi zaměstnanci, řešení konfliktů a podobn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9EAA-C5C0-4216-AD9E-07043F37E97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k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Úk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. Vyjmenuj pět nejznámějších hudebních skladatelů klasické hud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. Uveď jejich nejznámější dí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. Vyjmenuj pět nejznámějších interpretů klasické hud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4. Vyjmenuj pět celosvětově nejznámějších spisovatelů a jejich dí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5. Vyjmenuj pět celosvětově nejznámějších malířů (sochařů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6. Co znamená zkratka UNES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7. Znáš nějaké architektonické památky ve světě a v ČR?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49E2-B0AC-45F7-BCBE-EA7F79ECE42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k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ůzné kultury se setkávají a protože si navzájem dobře nerozumějí vznikají vážná společenská napětí i konfli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hyblivý a globalizovaný svě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migranti z jiných kultur se musí akulturov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svojit si nezbytné minimum hostitelské kul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tvářejí poměrně uzavřené skup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žijí na okraji většinové společ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ultikulturní výchova - výchova k pochopení kulturních rozdíl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úplné splynutí a vytvoření jediné světové kultury není pravděpodob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i žádou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tváření poměrně povrchní „globální“ civil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idé se dokážou dohodnout o velmi jednoduchých věc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idé žijí dále ve svých vlastních rozmanitých kultur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F187-58CD-4F71-B68A-6FC1A0206C0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droj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thony Giddens, Sociologie, Argo, Praha 1993, ISBN 80-7203-12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dmaturuj ze společenských věd, kolektiv autorů, Didaktis Brno, 2003, ISBN 80-86285-68-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ttp://cs.wikipedia.org/wiki/Soc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rezentace o sociologii slouží učiteli především k vysvětlení nového učiv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si osvojí nové pojmy. Pomocí internetu odpoví na otázky, zjistí informace o dané problema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mohou být do hodiny zapojeni přípravou referátu či hledáním na internetu. Mohou pracovat samostatně v počítačové učebně či ve skupinách ve tříd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Formy výuk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 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romadná nebo skupinová vý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řevládající klíčové kompetenc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k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mpetence k učení, kompetence k řešení problémů, kompetence komunikativní, kompetence sociální a personální, kompetence občansk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Školní vzdělávací program pro osmileté gymnázium – část B – vyšší  gymnázium – učební osnovy Základy společenských věd – 2. ročník, sexta – Soci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ástupný symbol pro číslo snímku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06E8-D5EE-4785-8706-CE65113DFA4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27B6-B4DC-4308-B444-FAB61AAF9C4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k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lovem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ultu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z latinského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coler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pěstovat) se původně označovalo pěstování užitkových plod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d 16. století se používá pro označení vybraných, vznešenějších lidských činností, zejména uměleck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ultura v širším význ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lečení a jídelní zvyky, dějiny, dětské hry,  přísloví, hospodářství, politika, soukrom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 tomto širokém významu se pojem kultury dnes užívá v antropologii i v sociolog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F332-4646-4AD0-83A2-234C1664F94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k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ultura je vše, co nevzniká samovolnou činností, vše vytvořené člověk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lověk je jejím tvůrcem, ale zároveň produk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 užším významu znamená výtvor skup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rodní k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 nejužším významu je označením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ákladní ry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tvor člově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ní vrozená – je naučená, osvojovaná v průběhu živ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 kolektiv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náší se v č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izpůsobuje se spolu se společ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21D0-824E-4C54-84A9-BAB9C5F73E5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k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motná/nehmotná/normativ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ulturní dědic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náší se na další gene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ulturní difú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línání kulturních vliv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náší se míst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ultura/subk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ubkul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tnické (Valašsko, Slovác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li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udeb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D676-0F08-4995-A1D3-6DCFDB00C8A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k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asová k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ultura dnešní, moderní, společ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d průmyslové revol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asov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středky působení (počet výtisků novin, počet televiz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nožství příjem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tandard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středky se neli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dpoklady vz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rb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dustrial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olný 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ramot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stupnost, zvýšení životní úrov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chnická úroveň (např. tiskařství, výroba rádi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C71B-0107-43D6-9C20-7FA13DE98FA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k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ásadní změnu přináší 20. stole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 té doby bylo jediným zdrojem tištěné slo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as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zhlas (u nás od 1923), televize (u nás od 1953),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zory na mas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 hlediska přístu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ede k demokratiz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ede k průměrnosti – stád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 hlediska úrov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žnost výbě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jnižší – musí být srozumitelná vš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 hlediska ovlivňování ch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chází k uvolnění – odpoči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dněcování agresivity – působení na pudy, odvádění od reálného živ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BE1B-788E-4C5D-AF1B-BECF046ED47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CIOLOGIE-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ultura zahrnuje všechno, s čím se člověk nerodí, 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usí se naučit, aby se stal platným členem své společnost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o sám většinou nevytváří, ale přejímá od starší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o je spíše kolektivním a obvykle anonymním, nastřádaným dílem mnoha generací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 co se lidé musí starat a pečov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o dané společenství spojuje a zároveň odlišuje od jin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Enkultu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nkulturace je část socializačního proc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ovorozenec se stane integrální součástí společnosti, přejímá její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nkulturace je neukončený celoživotní pro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šechny projevy naučeného chování a získávání znalostí a doved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odnoty, symboly, způsoby chování a gesta vytvářejí společný rámec lidských jednání, budí vzájemnou důvěru a pomáhají dobré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munik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ástupný symbol pro číslo snímku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3047-F47C-4547-89F8-3471FBA9838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k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eprodukce kul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ultura se vyznačuje jistou stálostí v č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pružná a přizpůsobivá (adaptivní) k novým okolno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ontánní -nápodobou v rodině a později v prostředí vrstevní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ílevědomá -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e školá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6T20:33:07Z</dcterms:created>
  <dc:creator>Dombrovský Ivo</dc:creator>
  <dc:description/>
  <dc:language>en-US</dc:language>
  <cp:lastModifiedBy>Konetzná Magda</cp:lastModifiedBy>
  <dcterms:modified xsi:type="dcterms:W3CDTF">2013-08-29T09:40:07Z</dcterms:modified>
  <cp:revision>20</cp:revision>
  <dc:subject/>
  <dc:title>Snímek 1</dc:title>
</cp:coreProperties>
</file>