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E87-7630-41DF-8A00-F1F63F4C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502-6190-41EF-93C5-B230EEBB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8A1-031B-4942-AE14-0CA9AADB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5C5-46D1-4996-A286-DD5C4D9B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022-92B4-4855-8993-8FB311B4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767-18FC-4DDA-A01F-C3454706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FB3-D129-43D5-886E-850D854C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49B-B28A-46AA-B6E6-C302D16B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C61-2832-491F-B256-E53AC802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976-95A1-46F3-95C7-AB239275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EAF-57A4-42DB-B9FC-432E0F5D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934-9D26-4B98-ACB3-8C3A7064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F30F-4857-456D-A791-3763C82063E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s.wikipedia.org/wiki/Hereze" TargetMode="External"/><Relationship Id="rId2" Type="http://schemas.openxmlformats.org/officeDocument/2006/relationships/hyperlink" Target="http://cs.wikipedia.org/wiki/K&#345;es&#357;anstv&#237;" TargetMode="External"/><Relationship Id="rId3" Type="http://schemas.openxmlformats.org/officeDocument/2006/relationships/hyperlink" Target="http://cs.wikipedia.org/wiki/Soubor:Ichthus.svg" TargetMode="External"/><Relationship Id="rId4" Type="http://schemas.openxmlformats.org/officeDocument/2006/relationships/hyperlink" Target="http://cs.wikipedia.org/wiki/Soubor:Christian_cross.svg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B413-2419-483A-8C97-85117DEEEA5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640" y="1484280"/>
            <a:ext cx="81360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náboženství-křesťans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10.12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718240" cy="897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9495-2B87-4929-B22A-A24B83B4B89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istuje velké množství reformovaných (protestanských) círk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vangelická církev augsburského vyznání vznikla jako první z protestantských mezi Lutherovými následníky. Církev není centralizovaná, proto rozeznáváme například Slezskou evangelickou církev augsburského vyznání, Slovenskou evangelickou církev augsburského vyznání nebo Českobratrskou církev evangelic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1492-0950-4D17-8AD5-51E6B174BCE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lvétské církve, u jejichž založení ve Švýcarsku stáli Ulrich Zwingli a Jan Kalvin, kladou důraz především na predestinaci (předurčení) člověka. Na jejich vrub spadá také upálení španělského lékaře Miguela Serveta (objevil malý krevní oběh) v roce 15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glikánská církev vznikla jako důsledek neshod anglického krále Jinřicha VIII. a římského papeže. Původně šlo o církev blízkou ke katolictví, pak následoval příklon k protestantismu. Rozlišujeme tři základní směry – Low Church (protestanské zaměření), Broad Church (liberální) a High Church (téměř katolická círke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otské církve vznikly prolnutím helvétských a anglikánských círk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DF09-D5AE-4D84-AC0F-726F49B9435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ptistické církve zahájily své působení v 17. století, kdy se oddělily z církve anglikáns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Anglie se jejich učení rychle šířilo především do Spojených států amerických a postupně také do Ruska a A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zi hlavní znaky baptistické církve patří tolerance a často zdůrazňovaná láska k bližní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ejně jako další nově vzniklé církve vedou velmi intenzivní misionářsk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dventisté sedmého dne vznikli oddělením od baptis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veřejnosti jsou známí díky několikanásobnému neúspěšnému předpovědění druhého příchodu Kr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adventisty jsou charakteristické volné soboty, důraz na zdravou výživu, sport a práci s mládež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C0EE-0067-47A7-9CBA-A31952CA83F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cem 19. st. (1881) se od Adventistů sedmého dne oddělila církev Svědkové Jehovo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ůvodní název tohoto sdružení, které založil Charles Taze Russel, zněl „Traktátní společnost Siónské strážní věž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prve v roce 1931 se organizace přejmenovala na Svědky Jehov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jich učení spočívá ve svérázném výkladu Bible a v ohlašování blížícího se konce světa (přežijí je Svědkové Jehovovi, 144 000 nejvěrnějších zůstane s Kristem v nebi, ostatní v pozemském ráj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ítají nastoupit vojenskou základní služ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přijímají transfuzi krve ani v případě ohrožení živ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6429-9BED-40B5-AB44-227A157B34A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írkev je vedena tvrdou rukou spíše jako fi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íky intenzivnímu misionářskému působení dnes expandují především ve východní Evropě a jiných chudších zemích s křesťanskou kultur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ní publikací je Studie o Písmu, hlavním symbolem hradní strážná vě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hovisté striktně dodržují některá pravidla pro ostatní lidi téměř nepochopitel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slaví Vánoce ani narozen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341B-C924-45D8-AD62-528D0DBE523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todistické církve vznikly také z církve anglikáns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ději se přesunuly do USA, kde došlo k dalšímu rozvoji a šíření především do anglofonních ze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námé například založením Armády Spá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tniční hnutí (Hnutí padesátníků, v České republice Apoštolská církev) se odštěpilo od metodis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 vzoru apoštolů se snaží konat misie v cizích jazycích a uzdravovat pokládáním ruk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0E30-9CF4-4517-86FD-9220134F0E6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írkev Ježíše Krista svatých posledních dnů (mormoni) vznikla 6.4.1830 v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ní postavou je Joseph Sm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měrně uzavřená komunita-sídlí v Salt Lake City (Utah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ž se neuzavírají vnějšímu světu, například pořádání zimních olympijských her v Salt Lake City v roce 200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ČR centrum v Praze Na Špejch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 r. 1890 bylo mezi mormony povoleno mnohož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írkev klade důraz na intenzivní misie, přísné odevzdávání desátků, zdraví, vzdělání, sport, koníčky, a kult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 křesťanství mají už poměrně málo společn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niha Mormon je vlastně jakýmsi pokračováním 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ním symbolem je anděl Moroni, většinou spočívající na věžích chrámů s trubkou v ruk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34BA-1B61-458F-A9BF-17CE27AC6A9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řesťanská věda má spíše charakter s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ganizaci založila v roce 1862 Mary Ann Morse Barkerová-navštívila s bolestmi páteře léčitele, který svůj způsob duševního uzdravování nazýval křesťanskou věd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ěsíc po léčitelově smrti se zranila na zledovatělém chodníku. Ačkoli to její osobní lékař popřel a ačkoli její tehdejší korespondence dokazuje pravý opak, tvrdila později, že byla na pokraji smrti a že po třech dnech zažila zázračné uzdravení a triumfální vítězství nad svou tělesnou slabostí. Základem víry je tvrzení, že Bůh je ve všem, které je dotažené do krajnosti. Symbolem je pečeť, v jejímž středu je koruna protknutá kříž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6CAB-330D-45C3-8CF9-88BEDA8CFA1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Zkuste sami definovat, co to je náboženst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Co znamená pojem hereze?(Najdi ve slovníku nebo na interne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Co znamená pojem schizma? (Najdi ve slovníku nebo na interne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Které znáš symboly křesťanství? Najdi na interne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. Které jsou nejznámější křesťanské stavby ve tvém bydliš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. Najdi na internetu odkazy na tyto stav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3CE7-1944-436B-9990-25039BD0FC9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istují i specifické československé křesťanské církve, které vznikly především z husitského h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příklad  Jednota bratrs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írkev československá husits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írkev bratrs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sou rozšířeny především v České republice a v emigrantských kruzích, hlavně v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ídlo Sboru v Teplicí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C%C3%ADrkev_bratrsk%C3%A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Soubor:Církev bratrská.jpg"/>
          <p:cNvPicPr/>
          <p:nvPr/>
        </p:nvPicPr>
        <p:blipFill>
          <a:blip r:embed="rId1"/>
          <a:stretch/>
        </p:blipFill>
        <p:spPr>
          <a:xfrm>
            <a:off x="971640" y="414972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AF03-1AF4-480C-9229-6283832F19D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s.wikipedia.org/wiki/Her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cs.wikipedia.org/wiki/K%C5%99es%C5%A5anstv%C3%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cs.wikipedia.org/wiki/Soubor:Ichthus.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cs.wikipedia.org/wiki/Soubor:Christian_cross.s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Soubor:Reims-Portail_Nord_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2016-7BD4-4115-9EDC-F318948CF33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vo křesťanství vzniklo z řeckého pojmu christos-znamená pomazaný nebo posvěcený (hebrejsky mešía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niklo v Palestině v 1.st.AD jako reakce na působení a smrt Jana Křtitele a především Ježíše Nazaretsk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řesťanství nepopírá svoji návaznost na judaismus (je označováno jako herez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udaismu nebo judaistická sekta), ale oproti němu je milosrdnější (například rozdílný pohled na poms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lava Krista (Remeš, 13. stol.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s.wikipedia.org/wiki/Soubor:Reims-Portail_Nord_4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oubor:Reims-Portail Nord 4.jpg"/>
          <p:cNvPicPr/>
          <p:nvPr/>
        </p:nvPicPr>
        <p:blipFill>
          <a:blip r:embed="rId1"/>
          <a:stretch/>
        </p:blipFill>
        <p:spPr>
          <a:xfrm>
            <a:off x="4356000" y="422100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930B-C009-451E-A247-989CC720E75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tří mezi monoteistická náboženství (i přes víru v Trojici Bož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e konečné spáse vede především víra, která je důležitější než striktní dodržování zákonů a pravi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ladním kánonem křesťanství je Písmo Svaté (B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0B15-9C93-4BD6-9CED-2F04F321C7B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první letech existence křesťanství docházelo k velkému pronásledování věřících- křesťanskou komunitu to stmel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si 200 došlo ke kanonizaci křesťanství (sjednocení věrou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sadní zlom ve vývoji křesťanství je rok 313, kdy císař Konstantin vydal toleranční edi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rovnoprávňoval křesťanství s ostatními římskými náboženství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 vlády císaře Theodosia (379-395) se křesťanství stalo jediným povoleným náboženstv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332B-070A-45F7-833D-B5AE3292B4E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polovině 5. století dochází k oddělení tzv. monofyzitských církví (arménská, etiopská, koptská, syrská, malabars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ůvodem bylo tzv. ariánství (nauka, že Ježíš nebyl bůh, ale člověk s mimořádnou božskou milos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 roku 1971 se tyto církve nazývají Staré východní círk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ástupný symbol pro číslo snímk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D45B-AE18-4D88-9301-820B2C5D661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ymboly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ttp://cs.wikipedia.org/wiki/Soubor:Christian_cross.sv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ttp://cs.wikipedia.org/wiki/Soubor:Ichthus.sv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oubor:Christian cross.svg"/>
          <p:cNvPicPr/>
          <p:nvPr/>
        </p:nvPicPr>
        <p:blipFill>
          <a:blip r:embed="rId1"/>
          <a:stretch/>
        </p:blipFill>
        <p:spPr>
          <a:xfrm>
            <a:off x="755640" y="2492280"/>
            <a:ext cx="2682720" cy="374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Soubor:Ichthus.svg"/>
          <p:cNvPicPr/>
          <p:nvPr/>
        </p:nvPicPr>
        <p:blipFill>
          <a:blip r:embed="rId2"/>
          <a:stretch/>
        </p:blipFill>
        <p:spPr>
          <a:xfrm>
            <a:off x="4356000" y="3213000"/>
            <a:ext cx="3889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A730-0C60-45E4-BE3D-FA88BABAB40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padem Římské říše (395) začíná a v 11. století končí tzv. velké východní schiz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pad církve na římskokatolickou a řeckokatolickou (pravoslavnou, ortodox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ůvody: odlišné životní standardy na západě a východ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tížná komunikace mezi západním a východ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ivalství římských papežů a konstantinopolských patriarc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sledkem jsou odlišnost obřadů nebo duchovenstva (celibá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oslaví je více mystické-církví je větší množství – 15 velkých (konstantinopolská, alexandrijská, antiochijská, jeruzalémská, kyperská, gruzínská, srbská, rumunská, helladská, bulharská, albánská, polská, ruská, americká, československá) a další menš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ámci II. Vatikánského koncilu v basilice sv. Petra (7.12. 1965) papež Pavel VI. a ortodoxní patriarcha Athénagoras odvolali vzájemně exkomunikace vyhlášené v roce 10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F626-5AB7-468F-9E7A-468283BD83B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áboženství- křesťa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 13. do počátku 16. století probíhalo v katolické církvi reformační hnutí jako reakce na krizi v katolické círk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zi výrazné osobnosti reformace patřili Jan Hus, John Viclef, Martin Luther a dalš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formované církve používají jiný výklad písma, došlo ke zrušení papežského úřadu a některých obř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2:55:17Z</dcterms:created>
  <dc:creator>Dombrovský Ivo</dc:creator>
  <dc:description/>
  <dc:language>en-US</dc:language>
  <cp:lastModifiedBy>Konetzná Magda</cp:lastModifiedBy>
  <dcterms:modified xsi:type="dcterms:W3CDTF">2013-12-18T09:16:48Z</dcterms:modified>
  <cp:revision>18</cp:revision>
  <dc:subject/>
  <dc:title>Snímek 1</dc:title>
</cp:coreProperties>
</file>