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3B6-46BC-4655-9D18-F86EBB80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626-C836-4B80-B465-2A79895C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D8F-3F4F-499B-A3BF-396E52F1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F4F-C424-4FAD-A9D9-D59EDF3B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678-8F61-4E2D-9412-A7346823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81A-B4B1-47E1-9FA7-8BC6026D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8C1-E9B0-4DD0-A050-6F8C915A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CCF-4D87-4243-B3C9-33F65126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635-E92C-4814-A0AC-25FD03A6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105-CA28-4642-A56C-A9034F5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B22-C2EB-48F0-9232-0E3D074C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735-8065-4745-BA72-0F17A2B5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C37B-4DCC-43C9-B770-5E3FD51D22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67DA-7CC1-4E90-B5E9-0D2D91F31E0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79912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krimina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7.9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0FF0-58C3-4FE1-B1C9-43B8D437CA0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§ 54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jimečný trest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 Výjimečným trestem se rozumí jednak trest odnětí svobody nad dvacet až do třiceti let, jednak trest odnětí svobody na doživotí. Výjimečný trest může být uložen jen za zvlášť závažný zločin, u něhož to trestní zákon dovoluje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) Trest odnětí svobody nad dvacet až do třiceti let může soud uložit pouze tehdy, jestliže závažnost zvlášť závažného zločinu je velmi vysoká nebo možnost nápravy pachatele je obzvláště ztížena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9D37-BDB5-4CD1-B2AC-8805392488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3) Trest odnětí svobody na doživotí může soud uložit pouze pachateli, který spáchal zvlášť závažný zločin vraždy podle § 140 odst. 3, nebo který při spáchání zvlášť závažného zločinu obecného ohrožení podle § 272 odst. 3, vlastizrady (§ 309), teroristického útoku podle § 311 odst. 3, teroru (§ 312), genocidia (§ 400), útoku proti lidskosti (§ 401), použití zakázaného bojového prostředku a nedovoleného vedení boje podle § 411 odst. 3, válečné krutosti podle § 412 odst. 3, perzekuce obyvatelstva podle § 413 odst. 3 nebo zneužití mezinárodně uznávaných a státních znaků podle § 415 odst. 3 zavinil úmyslně smrt jiného člověka, a to za podmínek, že </a:t>
            </a:r>
            <a:br>
              <a:rPr sz="2400"/>
            </a:b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476C-07DF-4F96-86D9-CC8900E760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takový zvlášť závažný zločin je mimořádně závažný vzhledem k zvlášť zavrženíhodnému způsobu provedení činu nebo k zvlášť zavrženíhodné pohnutce nebo k zvlášť těžkému a těžko napravitelnému následku a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uložení takového trestu vyžaduje účinná ochrana společnosti nebo není naděje, že by pachatele bylo možno napravit trestem odnětí svobody nad dvacet až do třiceti let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4) Uloží-li soud trest odnětí svobody na doživotí, může zároveň rozhodnout, že doba výkonu trestu ve věznici se zvýšenou ostrahou se pro účely podmíněného propuštění do doby výkonu trestu nezapočítává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1ADD-A44F-4DEE-A157-9B82637BD01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est smrti   - disk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lektrické křeslo, plynová komora, smrtící injekce, pověšení, ukamenování, zastřelení popravčí četou, stětí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kapi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B0EA-E661-4155-BA3D-D85B1D79DE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očiny bílých límečků – trestná činnost, které se dopouštějí příslušníci středních vrstev nebo odborných profesí a lidé, kterým byla svěřena určitá pravom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eužívají svého postavení – uplácení, daňové úniky, pojišťovací podv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očiny vlád – vyhlazování národů, plošné a hromadné bombardování, nacistický holocaust, stalinské koncentrační tá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anizovaný zloč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C5A4-3075-4A9D-9C94-68E17F3FF5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Jaké tresty se uplatňují v Č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Přistupují všechny země k potrestání pachatelů stejn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Kdo rozhoduje o vině a tres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Je v ČR uplatňován trest smr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D54-F935-4F17-98AD-810C62BFE1F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czso.cz/csu/redakce.nsf/i/cr_od_roku_1989#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Krimin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Vra%C5%B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Zabit%C3%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zakony-online.cz/?s10&amp;q10=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F7F9-F7DA-41DE-9584-FDC7C3BE21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e je zákon, tam je také zloč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estný čin – jednání, které porušuje zá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 nástupem moderní doby se v Evropě jako nejtěžší zločiny hodnotila provinění náboženské povahy nebo proti majetku panovníka či šlech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avními způsoby trestání byly až do 19.století tresty těles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sazení do klády, bičování, cejchování žhavým železem nebo vě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vykle byly vykonány veřejně a před hojným obecenstv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souvislosti s tím, jak se v širším politickém kontextu rozvíjela práva jedince, se nejzávažnějším zločinem stala vraž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C7ED-E2A4-4F50-8DB4-2E2F8D1066A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klad povahy zločinu musí mít sociologickou povahu, protože o tom, co bude považováno za zločin, rozhodují společenské instit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 jakému počtu trestných činů skutečně dochází a jaké jsou nejobvyklejší formy porušení záko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ficiální statistika dle ČS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gurují zde však jen ty trestné činy, které policie opravdu zazname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ražd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ločin spáchaný člověkem na jiné lidské bytosti, jenž způsobí smrt bez právního ospravedlnění a je vykonán s úmyslem zab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5FB9-9CFB-4F14-A9DB-FD1DEAB4D3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abi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usmrcení jin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českém trestním právu se tím rozumí trestní čin podle § 141 trestního zákoníku, kdy sice dojde k úmyslnému usmrcení člověka, ale na rozdíl od vraždy je to způsobeno především silným rozrušením ze strachu, úleku, zmatku nebo jiného omluvitelného hnutí mys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est je nižší, pachateli hrozí odnětí svobody na tři léta až deset let, v případě zabití více osob, těhotné ženy nebo dítěte mladšího 15 let se trestní sazba zvyšuje na pět až patnáct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9D0-F8B3-4117-BE90-3DDA3A0CD4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RIMINALIT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rimen  = zločin, trestný čin, přeč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závažnější projevy sociálně deviantního a sociálně patologického jednání; kriminální činy jsou posuzovány podle trestního zákoní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ost se musí účinně chránit před těmi, kdo se kriminality dopouště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arakteristika kriminality v Č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čně je spácháno kolem 300-400 tisíc trestných či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0-300 vraž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materiální škody působí tzv. hospodářská kriminalita-objasněnost trestné činnosti klesá-probl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očin-náskok-problémy s objasňováním jsou v oblasti korupce či majetkové trestní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F1B0-5CBF-4E5B-8447-DD994CAAD1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ost se musí účinně chránit před těmi, kdo se kriminality dopouště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estní zákoník (zákon č.40/2009 S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§ 52 Druhy trestů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 Za spáchané trestné činy může soud uložit tresty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odnětí svobody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domácí vězení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obecně prospěšné práce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) propadnutí majetku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) peněžitý trest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) propadnutí věci nebo jiné majetkové hodnoty, 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B2D9-D2BB-43E3-A418-504214BB7F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) zákaz činnosti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) zákaz pobytu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) zákaz vstupu na sportovní, kulturní a jiné společenské akce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) ztrátu čestných titulů nebo vyznamenání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) ztrátu vojenské hodnosti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) vyhoštění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44B3-7C21-4F31-9B95-D1544B519F7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krimi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) Trestem odnětí svobody se rozumí, nestanoví-li trestní zákon jinak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nepodmíněný trest odnětí svobody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podmíněné odsouzení k trestu odnětí svobody,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podmíněné odsouzení k trestu odnětí svobody s dohledem. 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3) Zvláštním typem trestu odnětí svobody je výjimečný t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17Z</dcterms:created>
  <dc:creator>Dombrovský Ivo</dc:creator>
  <dc:description/>
  <dc:language>en-US</dc:language>
  <cp:lastModifiedBy>Konetzná Magda</cp:lastModifiedBy>
  <dcterms:modified xsi:type="dcterms:W3CDTF">2013-09-20T08:47:51Z</dcterms:modified>
  <cp:revision>16</cp:revision>
  <dc:subject/>
  <dc:title>Snímek 1</dc:title>
</cp:coreProperties>
</file>