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ED3-6F08-4EBA-9393-C5DB9178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5142-803B-4E2D-8BCC-39D87481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77B2-D471-413E-B941-A6D38F8A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CD6E-6D73-4965-AFAB-5C566715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30F-7CFA-4F74-BA0B-C278786F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D866-5046-4913-AEFD-0B3B489B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AC4D-F03D-4929-A0A0-2F9D0EA5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57A8-638D-476B-90F9-C99E7FBA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ABBA-3B33-48B9-BFD7-093F781B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075-C502-41FC-958C-6FAEA3A5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090E-3EC5-49DC-B045-4F5304AB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E80-2585-4AD3-A38B-981F115B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F204-36C6-4918-AECC-2A772A5E203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23DA-F1EF-46EB-8BB1-F0032B01C96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68000" y="1484280"/>
            <a:ext cx="806436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ŠKOLY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ymnázium Františka Živného, Bohumín, Jana Palacha 794, příspěvková organiz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LAST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y společenských věd 2. ročník SŠ a odpovídající ročník víceletých gymnázi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ÉMA:Sociologie – nezaměstna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edDr.Ivo Dombrov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ATUM: 13.9.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A ČÍSLO PROJEKT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číme se pro život v 21. stole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Z.1.07/1.5.00/34.06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ZNAČENÍ VÝUKOVÉHO MATERIÁL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_32_INOVACE_ZSV.DO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718240" cy="897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E786-6A3E-467B-8D13-F5FAC491BE9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nezaměstna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ko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Srovnej míru nezaměstnanosti v ČR  a sousedních zemí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Pokud člověk přijde o práci, stane se nezaměstnaným, co by měl v prvé řadě uděl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Která instituce v ČR pomáhá řešit problematiku lidí, kteří přijdou o prá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. Jaké problémy může člověku přinést ztráta zaměstná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A4DB-D9C2-4A70-A293-1B07F8EF0EA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nezaměstna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thony Giddens, Sociologie, Argo, Praha 1993, ISBN 80-7203-124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maturuj ze společenských věd, kolektiv autorů, Didaktis Brno, 2003, ISBN 80-86285-68-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czso.cz/csu/redakce.nsf/i/cr_od_roku_1989#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Soc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Nezam%C4%9Bstna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mpsv.cz/cs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rezentace o sociologii slouží učiteli především k vysvětlení nového uč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si osvojí nové pojmy. Pomocí internetu odpoví na otázky, zjistí informace o dané problema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mohou být do hodiny zapojeni přípravou referátu či hledáním na internetu. Mohou pracovat samostatně v počítačové učebně či ve skupinách ve tří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ormy výuk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 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omadná nebo skupinová vý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řevládající klíčové kompeten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mpetence k učení, kompetence k řešení problémů, kompetence komunikativní, kompetence sociální a personální, kompetence občans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Školní vzdělávací program pro osmileté gymnázium – část B – vyšší  gymnázium – učební osnovy Základy společenských věd – 2. ročník, sexta –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76FE-F858-4745-913C-03A5B9B3334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nezaměstna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ce – placená či neplacená – vykonávání úkolů vyžadujících mentální či fyzické úsilí, jehož cílem je výroba zboží a služeb k uspokojování lidských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městnání – taková práce, která se děje výměnou za pravidelnou mzdu či p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ce je ve všech kulturách základem ekonom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stituce, které zajišťují výrobu a směnu zboží a služeb, vytvářejí ekonomický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6FAF-99FE-42C2-AD01-A0D2043CF4C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nezaměstna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zaměstnanost - situace, kdy si jedinec přeje získat placenou práci, ale nenachází 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někdo nemá placené zaměstnání, neznamená to ještě, že by neprac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ny v domácnosti nedostávají plat, ale často přitom pracují velmi tvrd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finice nezaměstnanosti je komplikovanější, než by se na první pohled mohlo zd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C225-0EAB-48E1-9585-3AD002529F8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nezaměstna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ecně se (dle metodiky Mezinárodní organizace práce ) za nezaměstnaného považuje osoba, kte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starší patnácti le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ktivně hledá prác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připravena k nástupu do práce do 14 dn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 vážný ekonomický problém je považována dlouhodobá nezaměstnanost, kdy nezaměstnaný nemá práci déle než 1 r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takovém případě je velmi těžký návrat zpět do prá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9290-FFF3-4BA8-A683-ABA639D3722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SOCIOLOGIE - nezaměstna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tráta zaměstnání – člověk se cítí ztracen, dezorientov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městnání v moderní společnosti hraje důležitou roli pro udržení sebeúc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 tehdy, když je pracovní náplň nezajímavá a odehrává se v málo příjemném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městnání má určující vliv na psychologický stav jed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 jeho každodenní cyklus činn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0E4F-9953-4150-B841-313FA4B2698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nezaměstna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eníze – mzda nebo plat za práci je pro mnoho lidí hlavní zdroj obži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tento příjem ztratí, začnou mít daleko větší obavy, že si neporadí s každodenními životními probl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801F-0B4D-4F23-9312-1265C1D363B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nezaměstna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íra nezaměstnanosti - podíl nezaměstnaných ke všem osobám schopným pracovat (tedy i zaměstnaným a nezaměstnaný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voj problematiky zaměstnanosti v ČR dle ČS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iskuse nad údaji v Č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6127-3C62-4D4D-82FA-07FC079BD11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nezaměstna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stituce, které nezaměstnaným mohou pomoc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PS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řady práce   Úřady 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ychologické poradn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isk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12:55:17Z</dcterms:created>
  <dc:creator>Dombrovský Ivo</dc:creator>
  <dc:description/>
  <dc:language>en-US</dc:language>
  <cp:lastModifiedBy>Konetzná Magda</cp:lastModifiedBy>
  <dcterms:modified xsi:type="dcterms:W3CDTF">2013-09-20T08:46:56Z</dcterms:modified>
  <cp:revision>14</cp:revision>
  <dc:subject/>
  <dc:title>Snímek 1</dc:title>
</cp:coreProperties>
</file>