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FF3F-8DC4-4793-A7F0-C22E16CF5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BC02-FC08-4672-B251-69D7D53DF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0662-AC46-4D4F-BFE3-AEAA8E743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BD30-7907-4AE5-8710-D2F871443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F4D9-CD5F-40EB-B7B0-3B8F76C56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FD71-0EA7-45E7-B468-ABC930C28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5F8C-520B-484F-B8FE-E98BA1199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74EE-58E2-41C9-B179-2693F2C0D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263E-C88E-499E-8E36-E8B75CECC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A6B3-1560-4ADF-92FC-C00315E3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F3D7-C477-4FF8-A2B1-6A9E33B2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0847-166B-4F5E-AF57-2D820D5B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C3805-1610-4D2F-89B9-A961EBF3437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49C36-FC0E-4619-945C-DBA59DDF52C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539640" y="1628280"/>
            <a:ext cx="8064720" cy="40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ÁZEV ŠKOLY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Gymnázium Františka Živného, Bohumín, Jana Palacha 794, příspěvková organiza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ZDĚLÁVACÍ OBLAST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lověk a společn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ZDĚLÁVACÍ OBOR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áklady společenských věd 2. ročník SŠ a odpovídající ročník víceletých gymnázií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ÉMA:Sociologie – modely soužití jednotlivých skup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AUTOR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aedDr.Ivo Dombrovsk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ATUM: 8.9.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ÁZEV A ČÍSLO PROJEKTU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číme se pro život v 21. stolet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Z.1.07/1.5.00/34.062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ZNAČENÍ VÝUKOVÉHO MATERIÁLU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Y_32_INOVACE_ZSV.DO.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Obrázek 3" descr=""/>
          <p:cNvPicPr/>
          <p:nvPr/>
        </p:nvPicPr>
        <p:blipFill>
          <a:blip r:embed="rId1"/>
          <a:stretch/>
        </p:blipFill>
        <p:spPr>
          <a:xfrm>
            <a:off x="1692360" y="476280"/>
            <a:ext cx="5718240" cy="8967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E108A-924C-4618-B7AC-E6AA832AEB3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- MODELY SOUŽITÍ JEDNOTLIVÝCH SKUP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omofob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dle usnesení Evropského parlamentu „o homofobii v Evropě“ lze homofobii definovat jak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..iracionální strach a odpor vůči homosexualitě a lesbicky, homosexuálně, bisexuálně a transsexuálně orientovaným osobám, založený na předsudcích podobných rasismu, xenofobii, antisemitismu a sexismu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omofobie se, dle EP, „projevuje v soukromé i veřejné oblasti různými způsoby, jako jsou nenávistné výroky a vybízení k diskriminaci, zesměšňování, slovní, psychické a fyzické násilí i pronásledování a vraždy, diskriminace v podobě porušování zásady rovnosti, neoprávněné a bezdůvodné omezování práv často odůvodňované zachováním veřejného pořádku, náboženskou svobodou a právem na námitku z důvodu svědomí“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A39E6-4586-491A-9FB1-6FA70663CA5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- MODELY SOUŽITÍ JEDNOTLIVÝCH SKUP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tnocentris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pozorovatele, jenž vnímá myšlenky nebo praktiky jiné kultury podle měřítek své vlast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tnocentrická hodnocení bývají zkreslená – nedokáží rozpoznat skutečné kvality jiných kult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tnocentrický jedinec – není schopen nebo ochoten přiznat jiným kulturám jejich vlastní hodnotová měřít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tnocentrický postoj zahrnuje vnímání hodnot a norem vlastní skupiny jako jediných správných, užitečných a pravdivý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lastní skupina je standardem, kterým jsou poměřovány ostatní skupiny a životní situ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působ života jiných skupin je chápán jako odchylka od optimálního stav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11B12-3E2C-494C-8FC0-11477649D36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- MODELY SOUŽITÍ JEDNOTLIVÝCH SKUP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Úkol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. Najdi v uměleckých dílech ( film, literatura, hudba,..) prvky, které popisují problematiku soužití jednotlivých skup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. Co tě zaujalo na těchto příklade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. Projevuje se v naší společnosti problematika rasismu, etnocentrismu, xenofobie, případně dalších modelů soužití jednotlivých skup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. Uveď konkrétní příklady z tvého blízkého i vzdáleného okolí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DC4AA-3F5E-4131-82E6-3AAF6A280F0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- MODELY SOUŽITÍ JEDNOTLIVÝCH SKUP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dro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thony Giddens, Sociologie, Argo, Praha 1993, ISBN 80-7203-124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dmaturuj ze společenských věd, kolektiv autorů, Didaktis Brno, 2003, ISBN 80-86285-68-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ttp://cs.wikipedia.org/wiki/Etnocentris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ttp://cs.wikipedia.org/wiki/Genocida_ve_Rwand%C4%9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ttp://www.csfd.cz/film/182289-hotel-rwanda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ttp://cs.wikipedia.org/wiki/Xenofob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ttp://cs.wikipedia.org/wiki/Homofob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ttp://en.wikipedia.org/wiki/Image:South_Africa_racial_map,_1979.g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ttp://cs.wikipedia.org/wiki/Genoc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Prezentace o sociologii slouží učiteli především k vysvětlení nového učiv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Žáci si osvojí nové pojmy. Pomocí internetu odpoví na otázky, zjistí informace o dané problemati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Žáci mohou být do hodiny zapojeni přípravou referátu či hledáním na internetu. Mohou pracovat samostatně v počítačové učebně či ve skupinách ve třídě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Formy výuky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:  h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romadná nebo skupinová výu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Převládající klíčové kompetence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: k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ompetence k učení, kompetence k řešení problémů, kompetence komunikativní, kompetence sociální a personální, kompetence občansk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Vazba na ŠVP: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Školní vzdělávací program pro osmileté gymnázium – část B – vyšší  gymnázium – učební osnovy Základy společenských věd – 2. ročník, sexta – Sociolo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C7B24-9F9F-4002-8A91-3672D419B87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OCIOLOGIE - MODELY SOUŽITÍ JEDNOTLIVÝCH SKUP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genoci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yvražďování skupin obyvatelstva z národnostních, náboženských nebo rasových důvod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 to jeden z nejtěžších zločinů proti lidsk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genocida je spjata s fašismem a rasistickými teori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jvětšího rozsahu dosáhla za 2. světové války v zemích okupovaných německými nacis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alné shromáždění OSN přijalo 9.12.1948 konvenci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O předcházení zločinu genocidy a potrestání za ně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 Roku 1965 přijalo OSN konvenci o likvidaci všech forem rasové diskriminace, v níž je genocida považována za formu rasism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B37A4-03ED-42E7-9632-2DE44F4D917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- MODELY SOUŽITÍ JEDNOTLIVÝCH SKUP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wandská genoc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wandská genoc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ilm Hotel Rwa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A11A5-E66D-4F75-B643-99195EA636F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OCIOLOGIE - MODELY SOUŽITÍ JEDNOTLIVÝCH SKUP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egreg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ruh rasové diskriminace: oddělování nebělošského ("barevného") obyvatelstva od bělošského, spojené popřípadě s násilným usídlováním nebělošského obyvatelstva ve zvláštních oblast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harakteristická zejména pro Jihoafrickou republiku, v 60.-70. letech 20. století též pro Rhodes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apa Afri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B5689-B327-4BB6-A483-C3824A46213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OCIOLOGIE - MODELY SOUŽITÍ JEDNOTLIVÝCH SKUP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tegr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oces sjednocení prvků a činností v nový celostní systé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bě skupiny mají svá specifika, ale tolerují 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BA167-7233-4C1F-B697-446EEE4D4F0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- MODELY SOUŽITÍ JEDNOTLIVÝCH SKUP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simil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oces postupného splývání kulturních, sociálních, etnických a jiných skupin, v němž jedna ze skupin ztrácí své jazykové, specifické kulturní a sociální rysy a přejímá rysy druhé skup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oces asimilace vrcholí formálním zánikem určité skup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podmínkách národnostního, náboženského a jiného útlaku má asimilace násilný charak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1D2C9-FF2A-4C67-AAE3-098C4965175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- MODELY SOUŽITÍ JEDNOTLIVÝCH SKUP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similace – tři mod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. přistěhovalci opustí vlastní tradice a zvyky-své chování přizpůsobí majoritní společ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. model “tavícího kotle“- tradice přistěhovalců nejsou potlačeny tradicemi dominantními, ale mísí se s nimi, vyvíjejí se nové kulturní vz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. kulturní pluralismus – podporovat rozvoj pluralitní společnosti, ta uznává mnoho rozdílných subkultur jako rovnocen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vropa – mnozí lidé považují etnické menšiny  za něco, co ohrožuje jejich pracovní místa, bezpečnost a „národní kulturu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rvá tendence hledat právě v etnických menšinách viníky nejrůznějších problém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48113-E5FB-47D8-BD29-560A179D5AD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- MODELY SOUŽITÍ JEDNOTLIVÝCH SKUP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Xenofobi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 politický a odborný sociologický termí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doslovném překladu znamená strach z neznámé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asto se slovo používá k označení strachu z cizinc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bavy z jejich tradic a odlišné kult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politické rovině je pojem používán ve významu „odpor proti imigraci bez integrace do společnosti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bstraktně se slovo používá jako strach z neznámého, či z cizích vě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1T22:00:50Z</dcterms:created>
  <dc:creator>Dombrovský Ivo</dc:creator>
  <dc:description/>
  <dc:language>en-US</dc:language>
  <cp:lastModifiedBy>Konetzná Magda</cp:lastModifiedBy>
  <dcterms:modified xsi:type="dcterms:W3CDTF">2013-09-20T08:46:16Z</dcterms:modified>
  <cp:revision>13</cp:revision>
  <dc:subject/>
  <dc:title>Snímek 1</dc:title>
</cp:coreProperties>
</file>