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1DD8-C5AD-404A-9AD2-E6C167540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7D2F-FAB3-41EC-A648-45063F42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7653-9CAD-46F8-84B9-A885DC587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81C6-9795-487F-AED6-18713059C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1F4C-7F74-4593-A231-7BFF54FC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FFF8-C961-43C8-9455-B456DD86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2F71-8CC2-49D4-94E0-ACB936FC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85AA-E402-4E68-A6D8-EFAE20B1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6140-9A95-4393-BCA8-9A55B456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D616-108E-4098-825A-C9E6FB3F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B4AE-3BF2-4867-876E-94C9FA35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5242-662E-4804-BC07-4ADDCB93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7747-2374-4B4B-80A7-016E7F280C6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zso.cz/csu/redakce.nsf/i/cr_od_roku_1989" TargetMode="External"/><Relationship Id="rId2" Type="http://schemas.openxmlformats.org/officeDocument/2006/relationships/hyperlink" Target="http://www.czso.cz/csu/redakce.nsf/i/cr_od_roku_1989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zso.cz/csu/redakce.nsf/i/cr_od_roku_1989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DC5D-6605-4545-8481-7B22F176319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539640" y="1484280"/>
            <a:ext cx="813600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ÁZEV ŠKOLY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Gymnázium Františka Živného, Bohumín, Jana Palacha 794, příspěvková organiza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ZDĚLÁVACÍ OBLAST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lověk a společ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ZDĚLÁVACÍ OBOR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klady společenských věd 2. ročník SŠ a odpovídající ročník víceletých gymnázi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ÉMA:Sociologie – normy a devi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UTOR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aedDr.Ivo Dombrovsk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ATUM: 1.9.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ÁZEV A ČÍSLO PROJEKTU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číme se pro život v 21. stole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Z.1.07/1.5.00/34.062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ZNAČENÍ VÝUKOVÉHO MATERIÁLU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_32_INOVACE_ZSV.DO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3" descr=""/>
          <p:cNvPicPr/>
          <p:nvPr/>
        </p:nvPicPr>
        <p:blipFill>
          <a:blip r:embed="rId1"/>
          <a:stretch/>
        </p:blipFill>
        <p:spPr>
          <a:xfrm>
            <a:off x="1547640" y="404640"/>
            <a:ext cx="5718240" cy="897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3E01-144B-49F3-9C05-070D8C11B58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normy a devi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blast sociálně patologického jednání je vymeze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ním řádem společnosti a jednotlivými zák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ákladními principy mezilidských vztahů a společenských n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šším principem mrav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RIMINALIT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crimen  = zločin, trestný čin, přeč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závažnější projevy sociálně deviantního a sociálně patologického jednání; kriminální činy jsou posuzovány podle trestního zákoní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polečnost se musí účinně chránit před těmi, kdo se kriminality dopouště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CA92-908B-40BB-B154-FA76935CF5B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 – normy a devi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harakteristika kriminality v Č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čně je spácháno kolem 300-400 tisíc trestných či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0-300 vražd (konstantní, nezávisle na režim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větší materiální škody působí tzv. hospodářská kriminalita-objasněnost trestné činnosti klesá-problé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ločin-náskok-problémy s objasňováním jsou v oblasti korupce či majetkové trestní čin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37E7-0261-4054-A8F0-7EAF3E3C06E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 – normy a devi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Vývoj kriminality dle ČS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Vývoj počtu odsouzených a vězňů dle ČS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93D9-8B8C-48B9-B45D-7C2983EF7D6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 – normy a devi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Úkol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. Co označujeme slovem hippi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. Kdo je označován jako devi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. Jak se člověk stane tzv. bezdomovce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. Znáte nějakou veřejně známou osobu, která tzv.sešla z ces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7DAD-94A7-4F45-8C6D-71C48893591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normy a devi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dro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thony Giddens, Sociologie, Argo, Praha 1993, ISBN 80-7203-124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dmaturuj ze společenských věd, kolektiv autorů, Didaktis Brno, 2003, ISBN 80-86285-68-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czso.cz/cz/cr_1989_ts/1401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czso.cz/csu/redakce.nsf/i/cr_od_roku_19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cs.wikipedia.org/wiki/Soci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Prezentace o sociologii slouží učiteli především k vysvětlení nového učiv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Žáci si osvojí nové pojmy. Pomocí internetu odpoví na otázky, zjistí informace o dané problemat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Žáci mohou být do hodiny zapojeni přípravou referátu či hledáním na internetu. Mohou pracovat samostatně v počítačové učebně či ve skupinách ve třídě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Formy výuk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  h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romadná nebo skupinová výu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Převládající klíčové kompetenc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 k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ompetence k učení, kompetence k řešení problémů, kompetence komunikativní, kompetence sociální a personální, kompetence občansk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Vazba na ŠVP: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Školní vzdělávací program pro osmileté gymnázium – část B – vyšší  gymnázium – učební osnovy Základy společenských věd – 2. ročník, sexta – Soci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7C29-D225-483C-BDF4-0A99DB0205E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 – normy a devi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RMY A DEVIANTNÍ CHOVÁNÍ, SOCIÁLNÍ PAT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ždá společnost si vytváří a udržuje jistý systém pravidel, řá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rální normy, společenské normy, zákony, tab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zniká sociální kontr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zitivní – pochvaly, odměny, pový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gativní – san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stituce sociální kontr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dina, škola, policie, soudy, výchovné úst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rmy se historicky mě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D2AB-DF29-419A-8029-BD4B76BD034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normy a devi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vi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dchylka od normy, její poru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ladná i zápor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ladná deviace společnost posou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áporná deviace společnost ohrožuje, omez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irozená, nepřiroze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irozená je spojená s vývojem člověka a různými věkovými stád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ětší je výskyt ve měst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ociální pat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normá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Škodliv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2372-2493-4138-A95E-B053C7BC3BF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normy a devi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utor E. Durkheim-zabýval se způsoby jednání, které jsou zdrojem vnějšího nátlaku na jednotlivce, zkoumal prostor sociálních sil a omezení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polečnost funguje na základě norem (zákony, pravidla, rodinné zvyklosti, umělecké žán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viace = odklon od norem; pozitivní deviant = di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rmy umožňují fungování společ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ezi normy patří např. zvyky, osvědčené postupy, žádoucí ch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ociální kontrola = obranný systém, kterým se společnost chrání, aby nebyly normy porušová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skyt deviantního chování se zvyšuje, když je společnost abnormální; v dobách proměny osobnosti (pubescence); stresu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65A2-9259-438F-8C3A-171B8761337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 – normy a devi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jem sociální deviace- označuje nějakou odchylku od pravidel a norem vytvořených během socializace a respektovaných společností- (de via = sejití z ces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dstata deviac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existence společenských pravidel a norem. Protiklad: deviantní x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rmáln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je určen výhradně společen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ociálně deviantní chování – odchyluje se od společensky uznaných pravidel a tato pravidla poruš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klad: Požívání, vyrábění a distribuce omamných látek typu drog je nejen odchylkou od uznávaných pravidel společenského chování, ale zároveň je trestným čin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AA47-120B-44CD-94DD-C81ED43D080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 – normy a devi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viace často vzniká jako reakce na tzv. sociální tl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ůže bý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rimárn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reakce na nějakou frustraci či depriva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ekundárn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reakce na postoje druh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lativita sociálních deviac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vaha tzv. deviantního jednání je podmíněna historicky, společensky, nábožensky at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ranice mezi normálním a deviantním se liší společnost od společ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lativita sociální deviace vystupuje v současné multikulturální společnosti – střet různých civilizací a tedy také střet normality a devi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A4AB-C113-44EE-B0A5-D3025DEA364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 – normy a devi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eviantní subkultu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nší skupiny či společenství tvořící si svá zvláštní životní a společenská pravidla odchylující se výrazně od většinové spole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apř. „podsvětí“, „narkomani“, „squatteři“, „bezdomovci“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romě negativních deviantních subkultur existují také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zitivní deviantní subkultur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přinášení nových prvků do společensk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ippies – velmi odlišní od společnosti, ale v umění například byl jejich vliv považován za významný a někdy i správný (odklon od konzumního živo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2E5F-9CBD-4077-A098-0F11959001A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 – normy a devi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ociální patologie- označuje všechny sociálně deviantní jevy, které jsou vážným narušením společensky uznávaných pravidel chování a mohou způsobit vážné sociální problé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ociálně patologickým jednáním jsou především kriminální činy ve všech oblastech společenského živ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 jednání-narušující občanské soužití, vztahy v různých institucích a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20:11:34Z</dcterms:created>
  <dc:creator>Dombrovský Ivo</dc:creator>
  <dc:description/>
  <dc:language>en-US</dc:language>
  <cp:lastModifiedBy>Ivo Dombrovsky</cp:lastModifiedBy>
  <dcterms:modified xsi:type="dcterms:W3CDTF">2013-08-29T09:17:11Z</dcterms:modified>
  <cp:revision>15</cp:revision>
  <dc:subject/>
  <dc:title>Snímek 1</dc:title>
</cp:coreProperties>
</file>