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713-BCC9-41D8-ACE0-BED7FE41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A48-640B-461B-ACD6-DAFC5C20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883-8121-48CB-877C-B85CFD03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CBE-00DD-4182-913F-6CF7B63E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814-F2CA-46FB-B037-DF187C41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53D-8739-4C20-8A55-91675652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E59-69E4-44D3-855D-6EDD78F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CF9-99D7-4C1A-A20C-DC8F9430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B1B-6C4C-4732-B0C7-285C059B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6FA-2EEC-4E9F-ACA4-92177253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F28-8957-4F75-89D9-FF8B96A5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1FF-8037-4C46-8261-17890664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83CC-2F58-4F31-9D94-27080F8975F2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A8A9-760F-4FE2-89FB-59616A9108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5BAE-7AD4-4D3B-BDC5-7B3DDD2144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064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rod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5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0860-14E0-45E1-A5D3-09FBDCFEBE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dinné a příbuzenské vztahy tvoří významnou součást naše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dinné vztahy mezi manželi, mezi rodiči a dětmi, mezi sourozenci i mezi vzdálenými příbuznými bývají mnohdy láskyplné a uspokojují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e       (odvrácená strana rod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hou být i zdrojem napětí, přivádět lidi k zoufalství, naplňovat je značnou úzkostí a pocitem vi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hlavní zneužívání dětí, incest, násilí v r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EC07-480C-45B8-9850-AB3C69D2B3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ot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E635-9439-4ED3-BC91-FF70EC9095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ýznamní činitelé socializace –rodina- malá sociální skupina, která předává základní model sociální intera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1734-3A8B-431A-B393-E6B7C31630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to primární skupina, která má nezastupitelnou úlohu v socializaci člově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životním zájmem společnosti je stabilní r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rodina se v moderní společnosti stává institucí jejímž prostřednictvím vykonává společnost určitý tlak na jednotlivé členy, neboli předepisuje jim pravi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týká se to manželství, práv dítěte a rodiny jako cel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rodina je tedy jeden z klíčových subsystémů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5392-29A8-4CFB-AB8A-D426E1B83D8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kol (fakultativ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. Pokud bys vytvářel rodokmen své rodiny, do kterého roku by ses dost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 Uveď příklad rodokmene nějaké známé osobnosti přes čtyři generace ( panovnické rody, známí herci, zpěváci, spisovatel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30F6-B0CD-48E2-A44F-0B217B6BF9E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nželství můžeme definovat jako sociálně akceptovaný a posvěcený sexuální svazek mezi dvěma dospělými jedi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Existuje v současné společnosti i jiný typ svazk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Co znamená pojem monogam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Co znamená pojem polygam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Co znamená pojem polyandr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veď příkl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5582-593D-410E-AAD3-88C2943EE10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ce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biologickoreprudukční (zajišťuje potomstvo a uspokojuje sexuální potře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ekonomická funkce (společné hospodaření, dělba prá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socializačně výchovná (dochází ke kulturnímu přenosu, předávají se tradice, zvyky,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) osvojování si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) vybavuje člověka určitým sociálním statusem (příslušností určité vrstvě nebo etnické skupin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) provází člověka celý život i když se jedinec stává nezávislým a zakládá vlastní rod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funkce emocionální (uspokojení citových potřeb člověka, vědomí jistoty uznání a vzájemné pomo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dina je jádrem domo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E3BF-7CD9-465E-8774-D452DDE543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k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Uveď příklady pro biologickoreprudukční, ekonomickou,  socializačně výchovnou a emocionální funkci rodiny na příkladech ze svého okol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datum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C734-9321-4F05-B127-82B24F13995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9583-429B-4932-812F-1FCAD02533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 -R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rize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jevuje se především vysokou rozvodovostí manželství = vznik mnoha neúplných ro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ův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. nevě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. mládí novomanž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. materiální obtíže (problémy s bytem, menší příj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. vysoká zaměstnanost žen (mnohá manželství jsou dvoukariérov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. naivní očekávání, že frustrované potřeby kompenzuje rodina (neúspěch v práci nebo složitost a náročnost moderní společnosti, moc svobo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. nadhodnocení (přecenění) lásky a emocí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5:38:10Z</dcterms:created>
  <dc:creator>Dombrovský Ivo</dc:creator>
  <dc:description/>
  <dc:language>en-US</dc:language>
  <cp:lastModifiedBy>Konetzná Magda</cp:lastModifiedBy>
  <dcterms:modified xsi:type="dcterms:W3CDTF">2013-08-29T09:48:26Z</dcterms:modified>
  <cp:revision>12</cp:revision>
  <dc:subject/>
  <dc:title>Snímek 1</dc:title>
</cp:coreProperties>
</file>