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6112-5EC8-4E6D-BB6E-646B0C87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F55-75C7-404D-AF69-86DE761E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137-C20C-47BA-9016-AD017718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6D36-9E9A-43A3-9E50-23763270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6967-B09F-4AC4-B1E7-8EC81B95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CDE-B3BC-4035-BDB9-5B46D66B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618-DDAB-4E7B-8B17-018806AC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ACBD-5F7E-4CF3-9A91-FB926522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DCF-970F-47DE-AAC6-BDD8DCBB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88A3-AA83-4166-9207-508F9CFB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131-4E95-4DBE-AAAC-70A271F7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3E4-261E-4D4B-83C8-464CDED5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178E-9923-4DFA-BDD7-09D708CF5D2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71A6-05A9-4633-8EA2-252C2FCFDC8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39640" y="1557360"/>
            <a:ext cx="8064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ŠKOLY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ymnázium Františka Živného, Bohumín, Jana Palacha 794, příspěvková organiz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LAST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y společenských věd 2. ročník SŠ a odpovídající ročník víceletých gymnázi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ÉMA:Sociologie – komunik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edDr. Ivo Dombrov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TUM: 21.8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A ČÍSLO PROJEKT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číme se pro život v 21. stol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Z.1.07/1.5.00/34.06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ZNAČENÍ VÝUKOVÉHO MATERIÁL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_32_INOVACE_ZSV.DO.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5718240" cy="89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7CDD-1963-464D-9EA3-94B9C84E5F4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komunikace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munikační manévr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ílem není předání informací, ale manipu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jem zaveden v USA v 60. le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iskval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hazování, znevažování opon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ronie, naráž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yst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měrné uvádění v omy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suger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souvání myšlenek, informací, náz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vojná vaz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dělování dvou protikladných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va + g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ůže vést k psychickým problémům příjemce – zma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AF3E-CEFA-4F2B-A002-577C236F557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komunikace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munikační omy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ceňování sl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doceňování mimoslovních projev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běrové vním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kceptujeme pouze část inform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rozumíme stejným slovům stej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ůzné věkové a sociální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á komunikace nemusí vyjadřovat s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6C85-4231-4EEF-B1E3-F5344F3C214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komunikace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sobní pro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rušování je považováno za nepříjem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ó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 6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tim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0 – 12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sob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0 – 36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lečens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d 36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řejný pro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4113-B30F-448D-85F1-0501AC9872B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komunikace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kol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Vysvětli co znamená pojem komunik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Co je příčinou hádk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Kam až může vyústit hádka dvou oso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. Je důležité, aby lidé mezi sebou komunikovali? Pokud ano, tak proč? Pokud ne, tak proč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A34B-7097-4388-B296-576C299F213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thony Giddens, Sociologie, Argo, Praha 1993, ISBN 80-7203-124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maturuj ze společenských věd, kolektiv autorů, Didaktis Brno, 2003, ISBN 80-86285-68-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Soc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ota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rezentace o sociologii slouží učiteli především k vysvětlení nového uč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si osvojí nové pojmy. Pomocí internetu odpoví na otázky, zjistí informace o dané problema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mohou být do hodiny zapojeni přípravou referátu či hledáním na internetu. Mohou pracovat samostatně v počítačové učebně či ve skupinách ve tří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ormy výuk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 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omadná nebo skupinová vý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řevládající klíčové kompeten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mpetence k učení, kompetence k řešení problémů, kompetence komunikativní, kompetence sociální a personální, kompetence občan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Školní vzdělávací program pro osmileté gymnázium – část B – vyšší  gymnázium – učební osnovy Základy společenských věd – 2. ročník, sexta –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B8AD-2FF0-43E2-B27C-CC7866D0B02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komunikace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CIÁLNÍ KOMUN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ecně spojení dvou mí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ROZUMÍVÁNÍ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nos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ruhy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le vzdál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ezprostře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 dál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le počtu os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eziosobní - mezi osob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kupinová - třída x uč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sová - koncert, TV,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FD8F-9032-42AE-ACCA-ACFAE27D7F9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komunikace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le fo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rbá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luvená - řeč-typicky lidská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verbá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esta, mimika, pohledy, symb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mým čin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ac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ětší význam je přikládán verbální komunik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ůležitá je ale schopnost číst neverbální sign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munikace je pro člověka životně nezbyt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EE10-D61D-4657-88C2-B004F52539D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komunikace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lečný soubor znaků, kterým obě strany rozu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snost závisí na věku, zkušenostech, společných zájmech, zážit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á komunikace probíhá ve dvou linií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sahová- obsah s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kladová- interpretační( jaký význam tomu lidé přikládaj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53FF-4661-4B95-A319-25F9586C3D9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SOCIOLOGIE- komunikace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munikační proc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4 slož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luvčí (komunikátor) - provádí určité s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dělení (komuniké) - obsah s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jemce (komunikant) - příjemce s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činek - reakce komunik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e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stroj myšlení, komunikace, dorozumí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zyk – nástroj ře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bor symbolů, znaků ve formě slov, gramatických pravidel, into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ímto oborem se zabývá PSYCHOLINGVIS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číslo snímk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6FF3-5895-4F6F-ABCF-AAD809CDAEF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komunikace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7715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ruhy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rbální- slo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verbální- mimika, gestiku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ormální- lékař+pacient formální- žák+učit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formální- rovnocenn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munikátorů(osobní hledisko) symetrická- vyvážen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symetrická- nevyvážen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 rozdíly v postavení člově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armonická- stejné náz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fliktní - 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ástupný symbol pro číslo snímk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0EF0-680C-48C0-BF12-61066773AAD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komunikace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por doprovázený emoc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veď příkla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EBFE-C9DF-4224-BEFB-A004B5A8EBF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komunikace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lupracující- vzájemná spolupráce ( napovídání u spolužáků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těživá- předem daná určitá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24:50Z</dcterms:created>
  <dc:creator>Dombrovský Ivo</dc:creator>
  <dc:description/>
  <dc:language>en-US</dc:language>
  <cp:lastModifiedBy>Konetzná Magda</cp:lastModifiedBy>
  <dcterms:modified xsi:type="dcterms:W3CDTF">2013-08-29T09:50:57Z</dcterms:modified>
  <cp:revision>12</cp:revision>
  <dc:subject/>
  <dc:title>Snímek 1</dc:title>
</cp:coreProperties>
</file>