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4F9-5688-40CE-9317-386460D2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453-0CB1-4F87-AD46-3CB83149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FF3-D797-42F2-9B72-60F6AA3C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D6D-CCB1-4E19-9E10-49C7A981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12B-4860-4164-B4A2-F5B29A7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4CF-93DC-4D4C-93E8-319D064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354-9209-40E2-875F-12FFBF9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D40-620E-4AC4-945D-D304CBE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43C-1C00-4333-8F6B-BE8F47DD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233-F994-4CE6-9D67-E20147D2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281-F27E-4BD9-A165-4A2AD73C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534-EC15-47F7-9CE4-4169E10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D237-E9DE-4CB9-BD29-25FE561610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ociologie.czweb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793-9687-43D3-AFAD-3DBAC09A64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06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 Sociologie – social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2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FB9F-A4EE-40A8-919A-2397A7D857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imární socializa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imární socializace probíhá v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ormy, které se během této socializace vstřebají, platí jako stabilní, ale mohou se během života ještě změ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imární socializace trvá do třetího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4D5E-8ECD-472E-9359-C3E058FD4D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kundární socializac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ipravuje individuum na jeho roli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íhá zejména v rodině, škole, v kontaktu s vrstevní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901-5BF0-44A7-8721-7739A41B0AC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rciární socializ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kutečňuje se v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značuje přejímání, které individuum neustále uskutečňuje v interakci se svým sociálním okol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D7F-3EE5-4AC4-876A-83A4CB82E8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Vysvětli význam slova socializ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 Jak se dělí socializ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6817-2784-413D-BD3B-6EDEBA04DA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ALIZACE  ZÁMĚRNÁ (záměrné působení-rodič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7338-834A-4778-8BC4-B9467BB83A1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MĚRNÁ (filmy, knihy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ální učení-socializace se uskutečňuje díky ně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ED8-5E31-40EF-AD5D-E90F662061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člověk má vlastní aktivitu a může si vybrat vlivy, které na něj půs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C1C-A913-4B48-B757-26AF4F67C48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asociace- podmiňování-svou vlastní aktivitou si člověk vybírá, tvoří se vztahy mezi jednotlivými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posilování-založeno na odměnách a treste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napodobování-typické i pro zvířata, -učíme se mluvení, chování, hraní na maminku a tatí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 observace-odezírání-jedinec si osvojuje takové chování, za které je trestán či odměňován- jako model (mladší sourozen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) anticipace- očekávání- jak se jedinec zachová, očekává společnost, např. povzbuzování, vmanipulování člověka do nějaké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) identifikace- ztotožnění se s osobou, které se chceme přiblíži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0F8-CE6D-414C-B39B-7BA1F6CE564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dentifikace – ztotožň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onec puberty, počátek adol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podobňování se vzory, přejímání způsobů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 pubertě nekri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zději přejímání princi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udování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C74-DE42-4A67-B7F7-8ABB887C4B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znamní činitelé socializace –rodina- malá sociální skupina, která předává základní model sociální inter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náš svou rodi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98DB-7724-4AB7-8816-385C209B7E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rstevníci- malá sociální skupina, jejíž členové si jsou nějak blízcí , ovlivňuje člověka především v dospívání- je cvičným polem pro zvládání nových situ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148E-98F6-409B-B2F3-73BE415B7E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Ovlivnili tě nějakým způsobem tví vrstevní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 Pokud ano, tak j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385-CE20-4CFF-B826-ED41EDB6E5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ociologie.czwe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87B-52FB-4822-9BC3-DAFA419055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lat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ocial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společn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jem, který označuje proces, během kterého se jedinec začleňuje do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4645-158F-47C9-8983-5C7B4D4E5D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bíhá-li socializace úspěšně, individuum má v sobě zakotveny sociální normy, hodnoty, vystup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aké sociální role svého společenského a kulturního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50D4-B6E7-4DFF-851C-3624411BFC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ces začleňování jedince do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bíhá v různých obla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 sociálním prostředí – Rodina, škola,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bíhá celoživo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visí na vl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měrné –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měrné – ovlivňování – reklamy, fil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soci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prava špatného začlenění do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187-0DAF-45F2-9C1F-0484BF2A95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ývá nikdy ukonč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voj lids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ní individualita-jedince odlišuje od oko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ální charakter-všichni členové jedné společnosti, společenství- (hodnoty, normy, sociální rol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ochází k proměnám, jedinec se postupně vzdaluje od výchozího stavu novorozeněte a stává se z něho člověk jako kulturní bytost schopná fungovat ve složitém systému lidsk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1E9-28A1-4E1F-95AF-08391E4253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alizace je tedy proces vývoje od stadia bezmocného novorozence až po osobu, která si dobře uvědomuje sebe samu a orientuje se ve své vlastní kultuř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alizace vytváří spojení mezi jednotlivými genera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AA72-7BEC-43A6-8DF6-F675F50688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Najdi na internetu příklady nesocializovaných dě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AA5D-DEF8-4243-97B4-E472CC206D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so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ělení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alizace se rozlišuj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im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kund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rci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4:24:29Z</dcterms:created>
  <dc:creator>Dombrovský Ivo</dc:creator>
  <dc:description/>
  <dc:language>en-US</dc:language>
  <cp:lastModifiedBy>Konetzná Magda</cp:lastModifiedBy>
  <dcterms:modified xsi:type="dcterms:W3CDTF">2013-08-30T06:43:36Z</dcterms:modified>
  <cp:revision>16</cp:revision>
  <dc:subject/>
  <dc:title>Snímek 1</dc:title>
</cp:coreProperties>
</file>