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A3B-8BC7-4689-9B92-B15C8CD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58C-4E8A-423B-A51C-904DA0B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704-6A69-4D88-A8C3-4913914C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146-5F5F-4B84-865F-6731FB35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B77-F6BC-4CFC-AFCF-4F8861A7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939-BF90-449F-9FD3-0357875C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79F-DB1E-4AE9-83BA-D1FFC30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9D9-961F-4C54-B934-67A505D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276-198A-45E9-B074-F98D08C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FC5-650E-4CD0-8626-044BE61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FBA-EE1D-499E-814C-76220867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52D-B5C7-4CC8-8BBA-7B35ED8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489B-059B-44A3-AE15-1B25EB30FF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37E9-28AA-4864-AE01-9A4328C03C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0647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s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20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F51F-B985-4E27-955C-D3B6DC6FB8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jem právního státu vznikl v Anglii 18. a 19.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i princi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kdo nesmí být trestán ani omezován, pokud neporušil zákon, ani majetková práva jednotlivce nesmí být bez porušení zákona naruš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ý je subjektem prá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áda veřejnosti (občanů, lidu) musí být založena na vládě zá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ohoto principu vychází myšlenka, že stát je garantem rovnosti před zákonem a sám je právu podří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58E-8979-4DB1-8B3C-4DF312106B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ány veřejné moci smějí činit a také činí jen to, co jim zákon výslovně dovoluje, stát je svému vlastnímu právnímu systému podří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čan (nebo člověk obecně) smí činit vše, co zákon výslovně nezakazuje (nikdo nesmí být trestán a omezován, pokud neporušil zák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mezení zákonných pravomocí státu na nejmenší nezbytnou mí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mahatelnost práva a jeho garance stá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ělba státní moci do více nezávislých a vzájemně se kontrolujících složek, zejména nezávislost zákonodárné, výkonné a soudní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C322-5316-45E0-AE25-A8C38EB9C0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avedlivost zákonů (nikoliv nadvláda většiny, ale ochrana jednotlivců i menšin, nadřazenost občana nebo tzv. přirozeného práva nad státním právem, například uznání nezadatelných práv, princip suverenity lidu nebo člověk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ní jistota, t. j. jednoznačnost (exaktnost) právních norem v zákonech – jejich význam musí být v zákoně formulován natolik přesně, aby nebyl fakticky vytvářen až prováděcími předpisy nebo výkladem výkonné nebo soudní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E10-63F6-4D01-BC36-0CFE3F427FC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státní moci je nutná k tomu, aby stát mohl plnit své funkce vzhledem k obyvatels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teli státní moci jso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tátní orgán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j. zákonem vytvořené subjekty mající právo jednat jménem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dle nich jsou ve státě i specifické složky plnící zvláštní úkoly (policie, armá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BFA-84B0-4ADD-936E-17D46C46E8B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lišení podle výkonu státní mo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mokracie – státní moc je vykonávána účastí občanů na správě a řízení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ktatura – státní moc neomezeně vykonává jednotlivec (diktátor) nebo skupina osob (politická strana), občané nemají možnost podílet se na správě a řízení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BE5E-8EAE-4239-9579-7DE61CFE01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lišení podle toho, kdo stojí v č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kracie – v čele stojí vládce, který je považován za vykonavatele boží vůle (např. Vatik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narchie – doživotní vláda panovníka (monarcha) – knížectví, království, císař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ituční monarchie – moc panovníka omezena úst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publika – v čele stojí na určité volební období prez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2B34-2A84-421A-849C-E4E5F1041E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lišení podle struktu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nitární stát – jednotný stát, jediné řídící cen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ederace – pevný svazek států,celek vystupuje jednotně (jednotlivé státy nemají suverenit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ederace – volný svazek států, členské státy mají svoji suveren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366D-29A3-43A9-BB92-0AFB77D6B3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 moc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ODÁRNÁ -legisl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rávnění usnášet se na zákonech a zákonn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onodárnou moc má Par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rlament tvoří Poslanecká sněmovna a Sen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Prohlédni si webové stránky Parlamentu a Senátu Č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anecká sněmo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nát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F81E-8959-46D7-A853-6AA708DD2E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c výko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eku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stupování státu, jednání jménem státu a řízení státního administrativního apar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konnou moc  má prezident republiky a vlá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Najdi oficiální webovou prezentaci Vlády Č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Prohlédni si webovou prezentaci prezidenta Č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áda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ezident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1258-1E72-46CA-87CF-7B6D420D3B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c sou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usti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stava soudů – okresní, krajské, Vrchní soudy (Praha, Olomou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yšší soud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láštní postavení – Ústavní soud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jdi oficiální webové stránky Ústavního sou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stavní soud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546-B12F-45E9-B4B9-7BC2C314FE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Uveďte příklad evropských království a knížec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Znáte nějaké současné císařstv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Uveďte,  které evropské státy jsou unitár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Uveďte příklady fede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BAE-CD09-46F5-97DA-A20ADA1806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psp.cz/sqw/hp.sq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senat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vlada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hrad.cz/cs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usoud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t%C3%A1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5A04-6733-40CB-800A-DF5D5627A0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át – 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instituce (organizace) disponující mocí vládnout, soudit a vytvářet zákony společnosti (stá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vymezen státní mo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m lidem (státním občanství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m územ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rchovaný stát není podřízen žádné jiné (státní) moci a to jak vnější, tak vnitř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hrnuje ozbrojené s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 aparát (byrokra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pečnostní sbory (poli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F96-B892-48B6-A4EB-1766FBF1CD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a z defi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itický aparát ( vládní instituce a ostatní státní zaměstnanci), jenž spravuje určité území a jehož autorita se opírá o zákon a schopnost použít s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ik státu je mezníkem v lidské his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ntralizace politické moci dává procesům sociální změny novou dynam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y a vlády ovlivňují mnohé aspekty našeho součas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 – 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y neexistovaly odjakž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i lovců a sběračů neměly žádné orgány čistě politické 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ládl tam chaos, rozhodování se odehrávalo v rámci r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se nedohodli, tak se rozštěpili, nebo se posléze spojili s jinou skupi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3E5-ABD2-4513-BA66-CF1AECAFC0C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malých kulturách existovaly prvky politické centr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ele stáli náčel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ich vůli museli ostatní respek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l k dispozici ozbrojené muže, s jejichž silou mohl podepřít veškerá svá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vykle vládl s pomocí rady starších nebo svého „dvo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náčelníků tohoto typu se pak v tradičních státech (civilizacích) vyvinuli králové nebo císa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ierarchicky organizované dvory a ozbrojené sí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 využívali k zajištění poslušnosti poddaných nebo k rozšiřování svého pa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městnávali úředníky, aby vykonávali správu státu, zřizovali 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691-48C1-45F1-AD29-B085D555B0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echny státy, tradiční i moderní, sdílejí určité společné ry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uje politický apar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ádní instituce včetně soudů, zaměstnanců státní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áda nad určitým územ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írá svou moc o systém zákon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ost použití síly k prosazení své poli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ádnutí: provádění politických záměrů a rozhodnutí představiteli politického apar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itika : způsob používání moci k ovlivnění rozsahu a obsahu vládních čin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4BDA-2B26-42D0-BE49-A881912AFD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vznikem politické moci se začala vymezovat území, na jejichž správu si činila moc – vznik hr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rozvojem států se vytváří specializovaný systém soudnictví – kodifikace zákonů, zřizování soudů, možnost použití sí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derní státy – státy náro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4C5F-3082-4C06-B582-8D82BAE277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 = organizované společenství lidí, žijících trvale na určitém ohraničen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aky stá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yvatelstvo obývající státní území (obča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ní aparát (moc) – soustava orgánů vykonávajících státní moc a sprá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ní subjektivita – způsobilost samostatně vystupovat v právních vztazích navenek i uvnitř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rchovanost (stání suverenita) – stát není podřízen žádnému vyššímu org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brojená moc – policie, armá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hraničené územ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A81-FE2B-4C2C-A711-3A4F1F6C11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s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ávní stá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ng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oslova „vláda práva/zákona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reticko-filosof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načuje stát založený na politickém systému, ve kterém je právnímu řádu podřízena i státní moc (včetně vlá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adem je právní jistota, tedy zejména jednoznačnost a vymahatelnost prá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ležitým principem právní jistoty je nezměnitelnost práv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čan může od systému očekávat některé stálé hodnoty (např. nezávislou soudní moc), neznamená to však, že nemůže docházet k dílčím změ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09-20T08:48:58Z</dcterms:modified>
  <cp:revision>14</cp:revision>
  <dc:subject/>
  <dc:title>Snímek 1</dc:title>
</cp:coreProperties>
</file>