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6DE-682A-42C5-B88C-03F70AFB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3D8-2E97-4B7E-93E7-192062BD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606-C394-411A-8ACD-20CE3137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04D-CF5B-491F-93BA-9CD1920C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3A7-0D49-4F40-BA18-45833AC5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103-D079-4848-8416-262E6B02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138-CFC1-4862-B3BB-4110CFB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D6C-A8BE-424D-9222-39A6ACCF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98B-B0D0-4B01-93CB-2DEC5B9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C89-CA75-406E-8BD5-C7EC9D0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F3-2484-4A65-BEA8-59BC261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1F8-DBAF-41EB-8530-09B51BEE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5504-72C0-4E0C-92F4-EF68824FEC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B51-C079-4075-8E36-4AB4D9CE53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79912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 Sociologie – sociální postavení, 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 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8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9221-0EBC-4E76-BF0F-E08F2A7E58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sty-starověká Indie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    - dělení podle bohatství, pů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né odlišení ve všech stránkách spol. života (oblečení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lušnost ke kastě je dědičná-uzavřené vrstvy, lidé z různé kasty nemohou mezi sebou uzavírat manž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vy-vznik ve středověku-vrstvy obyvatel rozlišení v původu, právech, výsad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šťanský - střední stav, aristokracie (šlechta) - hor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rkev - horní stav se zvláštními privile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daní - nízký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chod z nižšího stavu do vyššího není mo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BB3-3221-42F0-A9F4-DDC843548D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ídy-vznikly s nástupem kapitalismu, 19. st., učení Marxe-2 třídy podle vztahu k výrobním prostředkům-značně zjednoduše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x Weber (2. pol. 19. stol.) hovoří o více hlediscích, které určují rozvrstvení člověka do třídy-věkové, vzdělání (v dnešní době nedohodnoceno), povo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F437-8C3F-4246-95E3-670F9F84F4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řídění: objektivní  - subjek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é hodnocení - podle vnějších znaků (např. auto), nejsou zcela prokazate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omí druhu - příslušnost určena tím, co si o sobě myslí jedinec (např. by se rád viděl v horní vrstv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orie objektivní - ekonomické ukazatele - výše příjmů, vzdělání, prokazate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šním společnostem vlast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ciální mobili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ohyb mezi sociálními pozicemi ve spol.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izontální - nemění se postavení na společenském žebříč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rtikální - jde o společenský vzestup nebo se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esní mobilita - kariéra - učitel --- řed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nes už vrstvy nejsou tak přísně uzavře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7504-1F5B-4922-A016-1CCC4D712E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nost -     nejobecnější pojem soci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í lidská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ritoriálně organizována a obnov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sahuje svým trváním život členů, jednotliv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chází noví člen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inorita -         menšina, menší část celku, př. národnostní menš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jo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lita - malá část společnosti-vybraná část osob, které něčím vynik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77D0-1B95-4D46-BB1B-910D48E3BC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sociální postavení, role, stratifik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EČENSKÉ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způsob našeho jednání, chování, které je ostatními členy skupiny za určité sociální situace očeká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ý člověk má během života několik společensk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ůznost rolí - rodičovská, syn, dcera, babička  x  brankář, kamar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l. role dělíme:       1. skupinové - učitel,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individuální - role matky, ot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8E8-ED1E-4F2A-BA71-AAF0DE8618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sociální postavení, role, stra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línání do spol. rolí - společ. role bratra, učitele, zároveň i rodi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é role jsou nucené - role sestry  x  bratra, člověk různého stá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é role si člověk volí: profe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teré role jsou ve vzájemné spoj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ka --- syn, dcera - musí být 1. ma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čitel ---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krátkodobé role - př. návštěvník v k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dlouhodobé role - př. rodiče, 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A5EC-497F-4D55-87B6-89A1FFCFB4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sociální postavení, role, stra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ÁLNÍ PERCE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nímání li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áření obrazu lidí v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oření ob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ba způsobu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áření obrazu je subjek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léhá ředě zjednodu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asto je tak plné omy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fekt prvního do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aloef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jem je přenášen na všechny vlas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é myšlenky přenášíme na dru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formace ob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az se vytváří na základě vnímání mimiky, řeči (formy i obsahu), sociálního statusu, příslušnosti ke skupinám, oblékání, účesu a zejména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687A-673C-4671-B96F-15F20FDF06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E044-1752-4607-AE8C-CA5466CB54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status,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(sociální postavení člověka nebo jiného tvora ve společnosti) je pozice v sociální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může stejně tak nést i skupina - etnická, rodina, zvířecí smečka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vymezuje práva a povinnosti jedince ve vztahu k ostatním jedi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je očekávání, která může okolí mít od držitele statusu v určitých situa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mezi různými sociálními statusy vymezuje sociální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66B1-6A48-417C-91E3-91D4554B10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ální statusy „vrozený“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řipsaný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askriptivní) 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ísk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rozený - pohlaví, rasa, vě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kriptivní status- postavení získané bez vlastního úsi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důsledku sociálních okolností, například dědictví nebo šlechtický prediká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stavuje koncentrované sociální dědictví, které může znevýhodňovat nebo zvýhodňovat nositele, přičemž je nositel může ovlivnit jen málo nebo vůbec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ný sociální status-např. zaměstnání či dosažené vzdě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oekonomická pozice-zařazuje člověka v síti sociální struktury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- který dominuje nad ostatními a determinuje tak obecnou pozici svého nositele ve společnosti se užívá pojmu „master stat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orii získaného statusu je možno popsat pomocí několika vzájemně propojených ukazatelů, proto bývá často označována jako „syntetický stat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004-10FD-4C10-B1DF-BDC01175D2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kazatele: - objektivní charakteristika profese - prestiž této profese - dosažená kvalifikace, dosažený stupeň vzdělání - vliv, moc, kterou člověk disponuje - příjmy, kterých dosahuje - životní způsob, který vykaz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subjektivní-kam jedinec zařazuje sám 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objektivní- kam jej řad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us aktuální a laten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tuální -souvisí s rolí vykonávanou v dané konkrétní situ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atentní-pro danou situací nemají výz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- definuje status-prestiž- kterou má určitá skupina v očích jiných členů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jena s charakteristickým stylem života - způsobem chování, který se od členů dané skupiny očeká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a sociálního statusu – sociální mo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bídka možností- jak vlastní iniciativou zvýšit svůj sociální status- ukazuje míru mobilitních šancí ve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EF91-0BC7-4912-84B8-91A5EE4F10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čekávaný způsob chování-váže se k určitému sociálnímu stat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osoba - více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ávisle (student ve škole, zákazník v obchodě, zaměstnanec v prá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běžně (např. otec, manžel-v rodi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hází ke konfliktu rolí-očekávání spojená s jednou z rolí jedince jsou v rozporu s očekáváními-která se vážou k roli j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základní přístupy jedince k sociální r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totožnění/identifikaci, distanc/odstup (jedinec roli navenek hraje, avšak vnitřně se s ní neztotožní), odmítnutí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BF0F-3C07-46FD-9FE2-85007C53AB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Kam všude se můžeš podle předcházejícího rozdělení zařad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Kam zařadíš své rodič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Kam bys zařadil Karla IV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B0B-4EEC-462C-BFD7-3D2DDECF26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olba rolí: Ne všechny role jsou jedinci vnuceny okolnostmi nebo uloženy; role vykonávané jedincem v různých sociálních skupinách jsou výrazem jeho os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ady pro volbu rolí-vlohy, schopnosti, temperament a ch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role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nadřízené (otec, učitel, doktor...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podřízené (žák, pacient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souřadné (kolega, spolužák, spolupracovník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role sexuálního partner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1A4-8AA1-4DCD-8A40-2876A91C54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sociální postavení,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bsolutně rovná společnost neexist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méně rozvinutých společnostech sociální rozdíly nejsou až tak velké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echny pokusy o rovnost v historii ztrosko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uktura společnosti - rozvrstvení, rozdělení lidí do určitých skupin, vrstev = sociální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historii 3 společenské vrstvy: kasty, stavy,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7:57:04Z</dcterms:created>
  <dc:creator>Dombrovský Ivo</dc:creator>
  <dc:description/>
  <dc:language>en-US</dc:language>
  <cp:lastModifiedBy>Konetzná Magda</cp:lastModifiedBy>
  <dcterms:modified xsi:type="dcterms:W3CDTF">2013-08-30T07:17:53Z</dcterms:modified>
  <cp:revision>14</cp:revision>
  <dc:subject/>
  <dc:title>Snímek 1</dc:title>
</cp:coreProperties>
</file>