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9CA-8758-4973-9EA0-2A932F75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A79-69C8-4F72-958C-1483B61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C7A-6BC8-4706-A8C6-76DD764B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BBD-AE0C-4611-9A7B-40E77832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38F-5090-48BB-8D26-6F337A7D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7B4-0C0D-44A0-9B52-0030BA9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0AC-069C-4DC8-B5D7-42486B8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F1A5-A6F1-4CF9-97FB-738E0C2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E29-D499-4D28-A4AE-2548393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0AF3-A701-4668-840D-5A725C8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DDA0-DA71-453C-BC07-02B2248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969-C7F8-4AB5-B6EC-811A073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03E7-563E-46B1-BC1F-FEBDE2E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21FD-C51A-46EA-9777-C9F512F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8A34-D041-4B5A-96F1-A58E95AA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DAE1-A666-4504-A249-D8E23945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8A8-23B1-4A55-BB27-CF7F7824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A10-D207-42F3-A40C-27D27EA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676-1D01-4A75-BABB-A0E1E5E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054-9404-46AA-B494-1EB2D008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D2A-3B41-4369-BA34-A60B820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7EB-B826-4840-88CD-F0537F1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AB3-167D-4AD6-81C7-3A34E7F6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243-C399-4692-A569-4B7899F8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4C78-CF3A-4EF6-AE85-3A87197E05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075B-5ACF-4B3D-A0DC-30E0CC5F0BC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hyperlink" Target="http://www.gym-bohumin.cz/predmet/zea/studijni-materialy-6.html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430200" y="115920"/>
            <a:ext cx="7237440" cy="120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30200" y="1468440"/>
          <a:ext cx="7886880" cy="5129280"/>
        </p:xfrm>
        <a:graphic>
          <a:graphicData uri="http://schemas.openxmlformats.org/drawingml/2006/table">
            <a:tbl>
              <a:tblPr/>
              <a:tblGrid>
                <a:gridCol w="2523960"/>
                <a:gridCol w="5362920"/>
              </a:tblGrid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 ŠKOLY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ymnázium Františka Živného, Bohumín, Jana Palacha 794, příspěvková organiza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4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DĚLÁVACÍ OBLAST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00"/>
                          </a:solidFill>
                          <a:latin typeface="Arial"/>
                          <a:ea typeface="Calibri"/>
                        </a:rPr>
                        <a:t>Člověk a svět prá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00"/>
                          </a:solidFill>
                          <a:latin typeface="Arial"/>
                          <a:ea typeface="Calibri"/>
                        </a:rPr>
                        <a:t>Informatika a informační a komunikační technolog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DĚLÁVACÍ OBOR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Základy ekonomiky a administrativy pro 3. – 4. ročník S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64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ÉMA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Personální písemnosti při skončení pracovního poměru ze strany zaměstn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OR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Ing. Jana Bosákov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UM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6. 12. 20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64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ÁZEV A ČÍSLO PROJEKTU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Učíme se pro život v 21. stolet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CZ.1.07/1.5.00/34.06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NAČENÍ VÝUKOVÉHO MATERIÁLU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Arial"/>
                          <a:ea typeface="Arial"/>
                        </a:rPr>
                        <a:t>VY_32_INOVACE_</a:t>
                      </a:r>
                      <a:r>
                        <a:rPr b="0" lang="cs-CZ" sz="1200" spc="-1" strike="noStrike">
                          <a:solidFill>
                            <a:srgbClr val="808000"/>
                          </a:solidFill>
                          <a:latin typeface="Comic Sans MS"/>
                        </a:rPr>
                        <a:t>ZEA.BO.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EZIODSTAVCOVÉ MEZER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mezi odstavci necháváme jeden volný řádek – nastavíme meziodstavcovou mezeru 12 b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Obrázek 5" descr="Výřez obrazovky"/>
          <p:cNvPicPr/>
          <p:nvPr/>
        </p:nvPicPr>
        <p:blipFill>
          <a:blip r:embed="rId1"/>
          <a:stretch/>
        </p:blipFill>
        <p:spPr>
          <a:xfrm>
            <a:off x="4572000" y="2060640"/>
            <a:ext cx="4124160" cy="4726080"/>
          </a:xfrm>
          <a:prstGeom prst="rect">
            <a:avLst/>
          </a:prstGeom>
          <a:ln w="0">
            <a:noFill/>
          </a:ln>
        </p:spPr>
      </p:pic>
      <p:sp>
        <p:nvSpPr>
          <p:cNvPr id="175" name="Ovál 1"/>
          <p:cNvSpPr/>
          <p:nvPr/>
        </p:nvSpPr>
        <p:spPr>
          <a:xfrm>
            <a:off x="4572000" y="4221000"/>
            <a:ext cx="2062080" cy="12020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 levém horním rohu uvedeme od levé svislice jmén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adresu odesílate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vádíme i PSČ (případně i další kontakty – tel., e-mail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Obrázek 3" descr="Výřez obrazovky"/>
          <p:cNvPicPr/>
          <p:nvPr/>
        </p:nvPicPr>
        <p:blipFill>
          <a:blip r:embed="rId1"/>
          <a:stretch/>
        </p:blipFill>
        <p:spPr>
          <a:xfrm>
            <a:off x="3827520" y="2370240"/>
            <a:ext cx="472896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Ovál 1"/>
          <p:cNvSpPr/>
          <p:nvPr/>
        </p:nvSpPr>
        <p:spPr>
          <a:xfrm>
            <a:off x="3851280" y="2565360"/>
            <a:ext cx="1800360" cy="91440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pod adresou odesílatele vynecháme meziodstavcovou mezeru o velikosti 3–4 řádků, tj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36–48 b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183" name="Ovál 1"/>
          <p:cNvSpPr/>
          <p:nvPr/>
        </p:nvSpPr>
        <p:spPr>
          <a:xfrm>
            <a:off x="3851280" y="3284640"/>
            <a:ext cx="1657440" cy="4316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d levé svislice uvedeme název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adresu adresá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kud bychom neuvedli PSČ, není to chyba, uvedeme je na obál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Obrázek 5" descr="Výřez obrazovky"/>
          <p:cNvPicPr/>
          <p:nvPr/>
        </p:nvPicPr>
        <p:blipFill>
          <a:blip r:embed="rId1"/>
          <a:stretch/>
        </p:blipFill>
        <p:spPr>
          <a:xfrm>
            <a:off x="3719520" y="2349360"/>
            <a:ext cx="4896000" cy="4496040"/>
          </a:xfrm>
          <a:prstGeom prst="rect">
            <a:avLst/>
          </a:prstGeom>
          <a:ln w="0">
            <a:noFill/>
          </a:ln>
        </p:spPr>
      </p:pic>
      <p:sp>
        <p:nvSpPr>
          <p:cNvPr id="187" name="Ovál 1"/>
          <p:cNvSpPr/>
          <p:nvPr/>
        </p:nvSpPr>
        <p:spPr>
          <a:xfrm>
            <a:off x="3851280" y="3573360"/>
            <a:ext cx="1512720" cy="12956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pod adresou adresáta vynecháme meziodstavcovou mezeru o velikosti 24 bod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191" name="Ovál 1"/>
          <p:cNvSpPr/>
          <p:nvPr/>
        </p:nvSpPr>
        <p:spPr>
          <a:xfrm>
            <a:off x="4716360" y="4611600"/>
            <a:ext cx="2138400" cy="4730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pravé svislici zarovnáme mís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atum odeslání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tum píšeme vzestupně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ěsíc vyjádříme slov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Ovál 1"/>
          <p:cNvSpPr/>
          <p:nvPr/>
        </p:nvSpPr>
        <p:spPr>
          <a:xfrm>
            <a:off x="6875640" y="4869000"/>
            <a:ext cx="1490400" cy="60156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za posledním odvolacím údajem následuje mezera 24 bod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Ovál 1"/>
          <p:cNvSpPr/>
          <p:nvPr/>
        </p:nvSpPr>
        <p:spPr>
          <a:xfrm>
            <a:off x="5076720" y="5229360"/>
            <a:ext cx="1582920" cy="36036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vedeme heslovité vyjádření obsahu dopisu (věci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zvýrazníme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učným písm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203" name="Ovál 1"/>
          <p:cNvSpPr/>
          <p:nvPr/>
        </p:nvSpPr>
        <p:spPr>
          <a:xfrm>
            <a:off x="3995640" y="5373720"/>
            <a:ext cx="2376720" cy="60012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poté vynecháme meziodstavcovou mezeru o velikosti 24 bod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6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8440"/>
            <a:ext cx="4896000" cy="4496040"/>
          </a:xfrm>
          <a:prstGeom prst="rect">
            <a:avLst/>
          </a:prstGeom>
          <a:ln w="0">
            <a:noFill/>
          </a:ln>
        </p:spPr>
      </p:pic>
      <p:sp>
        <p:nvSpPr>
          <p:cNvPr id="207" name="Ovál 1"/>
          <p:cNvSpPr/>
          <p:nvPr/>
        </p:nvSpPr>
        <p:spPr>
          <a:xfrm>
            <a:off x="3995640" y="5732640"/>
            <a:ext cx="1635120" cy="28872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píšeme oslovení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Ovál 1"/>
          <p:cNvSpPr/>
          <p:nvPr/>
        </p:nvSpPr>
        <p:spPr>
          <a:xfrm>
            <a:off x="3924360" y="5950080"/>
            <a:ext cx="1368360" cy="4316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omic Sans MS"/>
              </a:rPr>
              <a:t>Anota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764640"/>
            <a:ext cx="73422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učovací hodina je vedena formou výklad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podporou prezentace, kde je žákům vysvětleno, jak napsat po formální stránce personální písemnost ze strany zaměstnance při skončení pracovního poměru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závěr prezentace jsou shrnuty jednotlivé způsoby skončení pracovního poměru ze strany zaměstnance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procvičení a upevnění učiva lze využít pracovní list (VY_32_INOVACE_ZEA.BO.13), do kterého žáci dle zadání zpracují a procvičí jednotlivé personální písemnosti. Pokud v rámci vyučovací hodiny nestihnou zpracovat všechny písemnosti, ostatní zpracují v rámci domácí přípravy do následující hodiny a zašlou učiteli e-mailem ke kontro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pracováno dle ŠVP – část 6.1. – Povinně volitelné předměty - pro osmileté i čtyřleté studium gymnázia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po oslovení následuje meziodstavcová mezera 12 bod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Obrázek 5" descr="Výřez obrazovky"/>
          <p:cNvPicPr/>
          <p:nvPr/>
        </p:nvPicPr>
        <p:blipFill>
          <a:blip r:embed="rId1"/>
          <a:stretch/>
        </p:blipFill>
        <p:spPr>
          <a:xfrm>
            <a:off x="3708360" y="2362320"/>
            <a:ext cx="4896000" cy="4495680"/>
          </a:xfrm>
          <a:prstGeom prst="rect">
            <a:avLst/>
          </a:prstGeom>
          <a:ln w="0">
            <a:noFill/>
          </a:ln>
        </p:spPr>
      </p:pic>
      <p:sp>
        <p:nvSpPr>
          <p:cNvPr id="215" name="Ovál 1"/>
          <p:cNvSpPr/>
          <p:nvPr/>
        </p:nvSpPr>
        <p:spPr>
          <a:xfrm>
            <a:off x="4780080" y="6248520"/>
            <a:ext cx="914400" cy="12672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ak budeme dopis psát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ále následuje text dopis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8" name="Obrázek 1" descr="Výřez obrazovky"/>
          <p:cNvPicPr/>
          <p:nvPr/>
        </p:nvPicPr>
        <p:blipFill>
          <a:blip r:embed="rId1"/>
          <a:stretch/>
        </p:blipFill>
        <p:spPr>
          <a:xfrm>
            <a:off x="3571920" y="2779560"/>
            <a:ext cx="5064120" cy="3778560"/>
          </a:xfrm>
          <a:prstGeom prst="rect">
            <a:avLst/>
          </a:prstGeom>
          <a:ln w="0">
            <a:noFill/>
          </a:ln>
        </p:spPr>
      </p:pic>
      <p:sp>
        <p:nvSpPr>
          <p:cNvPr id="219" name="Ovál 2"/>
          <p:cNvSpPr/>
          <p:nvPr/>
        </p:nvSpPr>
        <p:spPr>
          <a:xfrm>
            <a:off x="3708360" y="3500280"/>
            <a:ext cx="4824360" cy="16574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mic Sans MS"/>
              </a:rPr>
              <a:t>text dopisu </a:t>
            </a: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ČLENÍME VŽDY DO ODSTAVC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mic Sans MS"/>
              </a:rPr>
              <a:t>meziodstavcová mezera o velikosti 12 bodů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Obrázek 4" descr="Výřez obrazovky"/>
          <p:cNvPicPr/>
          <p:nvPr/>
        </p:nvPicPr>
        <p:blipFill>
          <a:blip r:embed="rId1"/>
          <a:stretch/>
        </p:blipFill>
        <p:spPr>
          <a:xfrm>
            <a:off x="3571920" y="2779560"/>
            <a:ext cx="506412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xt zarovnávám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d levé svisli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bo jej můžeme odsadi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Obrázek 7" descr="Výřez obrazovky"/>
          <p:cNvPicPr/>
          <p:nvPr/>
        </p:nvPicPr>
        <p:blipFill>
          <a:blip r:embed="rId1"/>
          <a:stretch/>
        </p:blipFill>
        <p:spPr>
          <a:xfrm>
            <a:off x="3571920" y="1484280"/>
            <a:ext cx="5064120" cy="2521080"/>
          </a:xfrm>
          <a:prstGeom prst="rect">
            <a:avLst/>
          </a:prstGeom>
          <a:ln w="0">
            <a:noFill/>
          </a:ln>
        </p:spPr>
      </p:pic>
      <p:sp>
        <p:nvSpPr>
          <p:cNvPr id="226" name="Ovál 1"/>
          <p:cNvSpPr/>
          <p:nvPr/>
        </p:nvSpPr>
        <p:spPr>
          <a:xfrm>
            <a:off x="3584520" y="1700280"/>
            <a:ext cx="771480" cy="172872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Obrázek 2" descr="Výřez obrazovky"/>
          <p:cNvPicPr/>
          <p:nvPr/>
        </p:nvPicPr>
        <p:blipFill>
          <a:blip r:embed="rId2"/>
          <a:stretch/>
        </p:blipFill>
        <p:spPr>
          <a:xfrm>
            <a:off x="3597120" y="4138560"/>
            <a:ext cx="4927680" cy="2603520"/>
          </a:xfrm>
          <a:prstGeom prst="rect">
            <a:avLst/>
          </a:prstGeom>
          <a:ln w="0">
            <a:noFill/>
          </a:ln>
        </p:spPr>
      </p:pic>
      <p:sp>
        <p:nvSpPr>
          <p:cNvPr id="228" name="Ovál 3"/>
          <p:cNvSpPr/>
          <p:nvPr/>
        </p:nvSpPr>
        <p:spPr>
          <a:xfrm>
            <a:off x="3597120" y="4437000"/>
            <a:ext cx="758880" cy="180036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772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Jak odsadíme první řádek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 odstavcích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arta Domů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dstave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dsazení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Obrázek 1" descr="Výřez obrazovky"/>
          <p:cNvPicPr/>
          <p:nvPr/>
        </p:nvPicPr>
        <p:blipFill>
          <a:blip r:embed="rId1"/>
          <a:stretch/>
        </p:blipFill>
        <p:spPr>
          <a:xfrm>
            <a:off x="4067280" y="1631880"/>
            <a:ext cx="4105080" cy="5191200"/>
          </a:xfrm>
          <a:prstGeom prst="rect">
            <a:avLst/>
          </a:prstGeom>
          <a:ln w="0">
            <a:noFill/>
          </a:ln>
        </p:spPr>
      </p:pic>
      <p:sp>
        <p:nvSpPr>
          <p:cNvPr id="232" name="Ovál 2"/>
          <p:cNvSpPr/>
          <p:nvPr/>
        </p:nvSpPr>
        <p:spPr>
          <a:xfrm>
            <a:off x="3492360" y="2924280"/>
            <a:ext cx="4967280" cy="130320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avý okraj můžem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arovnat do blok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bo jej nechat nezarovnaný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5" name="Obrázek 7" descr="Výřez obrazovky"/>
          <p:cNvPicPr/>
          <p:nvPr/>
        </p:nvPicPr>
        <p:blipFill>
          <a:blip r:embed="rId1"/>
          <a:stretch/>
        </p:blipFill>
        <p:spPr>
          <a:xfrm>
            <a:off x="3851280" y="1773360"/>
            <a:ext cx="4529160" cy="2232000"/>
          </a:xfrm>
          <a:prstGeom prst="rect">
            <a:avLst/>
          </a:prstGeom>
          <a:ln w="0">
            <a:noFill/>
          </a:ln>
        </p:spPr>
      </p:pic>
      <p:pic>
        <p:nvPicPr>
          <p:cNvPr id="236" name="Obrázek 1" descr="Výřez obrazovky"/>
          <p:cNvPicPr/>
          <p:nvPr/>
        </p:nvPicPr>
        <p:blipFill>
          <a:blip r:embed="rId2"/>
          <a:stretch/>
        </p:blipFill>
        <p:spPr>
          <a:xfrm>
            <a:off x="3851280" y="4292640"/>
            <a:ext cx="4529160" cy="2390760"/>
          </a:xfrm>
          <a:prstGeom prst="rect">
            <a:avLst/>
          </a:prstGeom>
          <a:ln w="0">
            <a:noFill/>
          </a:ln>
        </p:spPr>
      </p:pic>
      <p:sp>
        <p:nvSpPr>
          <p:cNvPr id="237" name="Ovál 2"/>
          <p:cNvSpPr/>
          <p:nvPr/>
        </p:nvSpPr>
        <p:spPr>
          <a:xfrm>
            <a:off x="7667640" y="1989000"/>
            <a:ext cx="865080" cy="122400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Ovál 3"/>
          <p:cNvSpPr/>
          <p:nvPr/>
        </p:nvSpPr>
        <p:spPr>
          <a:xfrm>
            <a:off x="7667640" y="5084640"/>
            <a:ext cx="865080" cy="122400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Jak nastavíme zarovnání textu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ta Domů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dstave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1" name="Obrázek 5" descr="Výřez obrazovky"/>
          <p:cNvPicPr/>
          <p:nvPr/>
        </p:nvPicPr>
        <p:blipFill>
          <a:blip r:embed="rId1"/>
          <a:stretch/>
        </p:blipFill>
        <p:spPr>
          <a:xfrm>
            <a:off x="3924360" y="1859040"/>
            <a:ext cx="4105080" cy="4998960"/>
          </a:xfrm>
          <a:prstGeom prst="rect">
            <a:avLst/>
          </a:prstGeom>
          <a:ln w="0">
            <a:noFill/>
          </a:ln>
        </p:spPr>
      </p:pic>
      <p:sp>
        <p:nvSpPr>
          <p:cNvPr id="242" name="Ovál 1"/>
          <p:cNvSpPr/>
          <p:nvPr/>
        </p:nvSpPr>
        <p:spPr>
          <a:xfrm>
            <a:off x="4067280" y="2492280"/>
            <a:ext cx="2376360" cy="50508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Jak nastavíme zarovnání textu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788000" y="3500280"/>
            <a:ext cx="1008000" cy="360360"/>
          </a:xfrm>
          <a:prstGeom prst="ellipse">
            <a:avLst/>
          </a:prstGeom>
          <a:noFill/>
          <a:ln w="507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" name="Obrázek 1" descr="Výřez obrazovky"/>
          <p:cNvPicPr/>
          <p:nvPr/>
        </p:nvPicPr>
        <p:blipFill>
          <a:blip r:embed="rId1"/>
          <a:stretch/>
        </p:blipFill>
        <p:spPr>
          <a:xfrm>
            <a:off x="3271680" y="2708280"/>
            <a:ext cx="5040360" cy="3889440"/>
          </a:xfrm>
          <a:prstGeom prst="rect">
            <a:avLst/>
          </a:prstGeom>
          <a:ln w="0">
            <a:noFill/>
          </a:ln>
        </p:spPr>
      </p:pic>
      <p:sp>
        <p:nvSpPr>
          <p:cNvPr id="247" name="Ovál 2"/>
          <p:cNvSpPr/>
          <p:nvPr/>
        </p:nvSpPr>
        <p:spPr>
          <a:xfrm>
            <a:off x="4572000" y="3224160"/>
            <a:ext cx="914400" cy="63648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pis stylizujeme nejčastěji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1. osobě jednotného čísl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EZAPOMENEME NA POZDRAV NA ZÁVĚR DOPISU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" name="Obrázek 5" descr="Výřez obrazovky"/>
          <p:cNvPicPr/>
          <p:nvPr/>
        </p:nvPicPr>
        <p:blipFill>
          <a:blip r:embed="rId1"/>
          <a:stretch/>
        </p:blipFill>
        <p:spPr>
          <a:xfrm>
            <a:off x="3571920" y="2779560"/>
            <a:ext cx="5064120" cy="3778560"/>
          </a:xfrm>
          <a:prstGeom prst="rect">
            <a:avLst/>
          </a:prstGeom>
          <a:ln w="0">
            <a:noFill/>
          </a:ln>
        </p:spPr>
      </p:pic>
      <p:sp>
        <p:nvSpPr>
          <p:cNvPr id="253" name="Ovál 1"/>
          <p:cNvSpPr/>
          <p:nvPr/>
        </p:nvSpPr>
        <p:spPr>
          <a:xfrm>
            <a:off x="3708360" y="4668840"/>
            <a:ext cx="1150920" cy="77616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76280"/>
            <a:ext cx="6400800" cy="2665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ersonální písemnosti při ukončení pracovního poměru ze strany zaměstnan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za pozdravem nastavíme mezeru dostatečně velkou, aby se do ní vešel vlastnoruční podpis (36–48 b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JMÉNO A PŘÍJMENÍ ODESÍLATELE POD VLASTNORUČNÍ PODPIS JIŽ NEVYPISUJEME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" name="Obrázek 1" descr="Výřez obrazovky"/>
          <p:cNvPicPr/>
          <p:nvPr/>
        </p:nvPicPr>
        <p:blipFill>
          <a:blip r:embed="rId1"/>
          <a:stretch/>
        </p:blipFill>
        <p:spPr>
          <a:xfrm>
            <a:off x="2124000" y="4508640"/>
            <a:ext cx="6124680" cy="1780920"/>
          </a:xfrm>
          <a:prstGeom prst="rect">
            <a:avLst/>
          </a:prstGeom>
          <a:ln w="0">
            <a:noFill/>
          </a:ln>
        </p:spPr>
      </p:pic>
      <p:sp>
        <p:nvSpPr>
          <p:cNvPr id="257" name="Ovál 2"/>
          <p:cNvSpPr/>
          <p:nvPr/>
        </p:nvSpPr>
        <p:spPr>
          <a:xfrm>
            <a:off x="2124000" y="5186520"/>
            <a:ext cx="2735280" cy="89028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EXT DOPIS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75582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kud uvádíme přílohy, umístíme je za poslední řádek textu dopisu (vlastnoruční podpis) po vynechání 2 až 4 volných řádků (24–48 b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0" name="Zástupný symbol pro obsah 4" descr="Výřez obrazovky"/>
          <p:cNvPicPr/>
          <p:nvPr/>
        </p:nvPicPr>
        <p:blipFill>
          <a:blip r:embed="rId1"/>
          <a:stretch/>
        </p:blipFill>
        <p:spPr>
          <a:xfrm>
            <a:off x="2843280" y="3645000"/>
            <a:ext cx="5400720" cy="2879640"/>
          </a:xfrm>
          <a:prstGeom prst="rect">
            <a:avLst/>
          </a:prstGeom>
          <a:ln w="0">
            <a:noFill/>
          </a:ln>
        </p:spPr>
      </p:pic>
      <p:sp>
        <p:nvSpPr>
          <p:cNvPr id="261" name="Ovál 5"/>
          <p:cNvSpPr/>
          <p:nvPr/>
        </p:nvSpPr>
        <p:spPr>
          <a:xfrm>
            <a:off x="2916360" y="5589720"/>
            <a:ext cx="1368360" cy="91440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kt 4"/>
          <p:cNvGraphicFramePr/>
          <p:nvPr/>
        </p:nvGraphicFramePr>
        <p:xfrm>
          <a:off x="2627280" y="2133720"/>
          <a:ext cx="3529080" cy="215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Objekt 4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133720"/>
                    <a:ext cx="35290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7848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Ukázka zpracované písemnost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ohodo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1280" y="907920"/>
            <a:ext cx="7696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 žádosti o skončení pracovního poměru dohodou bychom měli uvést své identifikační údaje, kontaktní údaje, pracovní pozici, kterou zastáváme, datum skončení pracovního poměru, které sami navrhujeme, případně důvod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pis posíláme doporučeně, abychom měli doklad z pošty. Pokud žádost předáváme na personálním oddělení, necháme si ji orazítkova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ýpově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3640" y="134136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 výpovědi bychom měli uvést své identifikační údaje, kontaktní údaje, informace o pracovní pozici, kterou zastáváme a datum, kdy výpověď podáváme, případně dův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ůžeme uvést i datum, kdy pracovní poměr skončí – proti případným nesrovnalost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ýpověď zasíláme doporučeně poštou (kvůli dokladu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z pošty) nebo při osobním předání na personálním oddělení (necháme si ji potvrdit) – datum podání výpovědi je rozhodující pro začátek běhu výpovědní lhůt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4883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končení PP ve zkušební době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to dopis bude obsahovat údaje jak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 předešlých variant a také datum, ke kterému rušíme pracovní poměr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Zasíláme jej doporučeně nebo si jej necháme potvrd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kamžité zrušení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98080" y="1196640"/>
            <a:ext cx="70455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ruktura tohoto dopisu je stejná jak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předešlých variant skončení PP a také tento dopis zasíláme doporučeně nebo při osobním předání si jej necháme potvrd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 okamžitém zrušení pracovního poměru musí zaměstnanec skutkově vymezit jeho důvod tak, aby jej nebylo možno zaměnit s jiným. Uvedený důvod nesmí být dodatečně měněn. Okamžité zrušení pracovního poměru musí být písemn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3" name="Picture 4" descr="C:\Documents and Settings\bosakova_j\Local Settings\Temp\Temporary Internet Files\Content.IE5\S2ENAUVJ\MC900411320[1].wmf"/>
          <p:cNvPicPr/>
          <p:nvPr/>
        </p:nvPicPr>
        <p:blipFill>
          <a:blip r:embed="rId1"/>
          <a:stretch/>
        </p:blipFill>
        <p:spPr>
          <a:xfrm>
            <a:off x="336600" y="3046320"/>
            <a:ext cx="9460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ončení PP na dobu určitou (před uplynutím sjednané doby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to dopis píšeme jen tehdy, pokud využijeme jinou možnost (viz předešlé snímky) ještě dříve, než uplyne sjednaná dob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Zdroje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Zákoník práce č. 262/2006 Sb.,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v platném znění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ČSN 016910: "Úprava písemností zpracovaných textovými editory„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mic Sans MS"/>
              </a:rPr>
              <a:t>Kliparty byly použity z webu: Office.c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7848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končení PP ze strany zaměstn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hodo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ýpovědí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ončením ve zkušební době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kamžitým zrušení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 průběhu doby určité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ždý z Vás možná bude alespoň jednou potřebovat ukončit pracovní pomě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dete možná podávat žádost o rozvázání pracovního poměru dohodou, podávat výpověď z pracovního poměru, oznamovat zrušení pracovního poměru ve zkušební době nebo okamžitě rušit pracovní pomě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k takový dopis napsa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ostup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ový dopis píšeme na čistý list formátu A4 bez předtisku odvolacích údajů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Úprava je podobná jako u obchodních dopisů (již probráno ve 3. ročníku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na tyto písemnosti se vztahují ustanovení ČSN 01 6910 (má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 dispozici ke studijním účelům na webových stránkách školy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KRAJ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jprve zjistíme, zda jsou v počítači přednastavené okraje 2,5 cm od krajů dopisního papír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vykle tomu tak je, pokud ne, musíme nastavení změn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AK NASTAVIT OKRAJ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KRAJ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3887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likneme na kartu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Rozložení stránky – Okraje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zvolíme velikost  - N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ormální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j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,5 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Obrázek 1" descr="Výřez obrazovky"/>
          <p:cNvPicPr/>
          <p:nvPr/>
        </p:nvPicPr>
        <p:blipFill>
          <a:blip r:embed="rId1"/>
          <a:stretch/>
        </p:blipFill>
        <p:spPr>
          <a:xfrm>
            <a:off x="4356000" y="2852640"/>
            <a:ext cx="4232520" cy="3838680"/>
          </a:xfrm>
          <a:prstGeom prst="rect">
            <a:avLst/>
          </a:prstGeom>
          <a:ln w="0">
            <a:noFill/>
          </a:ln>
        </p:spPr>
      </p:pic>
      <p:sp>
        <p:nvSpPr>
          <p:cNvPr id="167" name="Ovál 2"/>
          <p:cNvSpPr/>
          <p:nvPr/>
        </p:nvSpPr>
        <p:spPr>
          <a:xfrm>
            <a:off x="5148360" y="3213000"/>
            <a:ext cx="647640" cy="107964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ŘÁDKOVÁNÍ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 dopisech používáme jednoduché řádkování (pokud je dopis velmi krátký, můžeme použít řádkování 1,5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arta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Domů - Odstave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Obrázek 3" descr="Výřez obrazovky"/>
          <p:cNvPicPr/>
          <p:nvPr/>
        </p:nvPicPr>
        <p:blipFill>
          <a:blip r:embed="rId1"/>
          <a:stretch/>
        </p:blipFill>
        <p:spPr>
          <a:xfrm>
            <a:off x="4572000" y="2060640"/>
            <a:ext cx="4124160" cy="4726080"/>
          </a:xfrm>
          <a:prstGeom prst="rect">
            <a:avLst/>
          </a:prstGeom>
          <a:ln w="0">
            <a:noFill/>
          </a:ln>
        </p:spPr>
      </p:pic>
      <p:sp>
        <p:nvSpPr>
          <p:cNvPr id="171" name="Ovál 4"/>
          <p:cNvSpPr/>
          <p:nvPr/>
        </p:nvSpPr>
        <p:spPr>
          <a:xfrm>
            <a:off x="6372360" y="4292640"/>
            <a:ext cx="1512720" cy="1152360"/>
          </a:xfrm>
          <a:prstGeom prst="ellipse">
            <a:avLst/>
          </a:prstGeom>
          <a:noFill/>
          <a:ln w="381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22:52Z</dcterms:created>
  <dc:creator>Bosáková Jana</dc:creator>
  <dc:description/>
  <dc:language>en-US</dc:language>
  <cp:lastModifiedBy>konetzna.m</cp:lastModifiedBy>
  <dcterms:modified xsi:type="dcterms:W3CDTF">2013-02-26T14:49:32Z</dcterms:modified>
  <cp:revision>58</cp:revision>
  <dc:subject/>
  <dc:title>Dopisy fyzických osob právnickým osobám</dc:title>
</cp:coreProperties>
</file>